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353E0A-BFF1-4B77-8A87-AB5414612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40FD27-5458-41E8-8356-A6618AAF5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54160" y="701640"/>
            <a:ext cx="4626000" cy="3468600"/>
          </a:xfrm>
          <a:prstGeom prst="rect">
            <a:avLst/>
          </a:prstGeom>
          <a:ln w="0">
            <a:noFill/>
          </a:ln>
        </p:spPr>
      </p:sp>
      <p:sp>
        <p:nvSpPr>
          <p:cNvPr id="3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A66974-D086-4F6C-AC71-55368915F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54160" y="701640"/>
            <a:ext cx="4626000" cy="3468600"/>
          </a:xfrm>
          <a:prstGeom prst="rect">
            <a:avLst/>
          </a:prstGeom>
          <a:ln w="0">
            <a:noFill/>
          </a:ln>
        </p:spPr>
      </p:sp>
      <p:sp>
        <p:nvSpPr>
          <p:cNvPr id="3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8B89F4-ABCC-4C54-ADCA-E41D513D7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9480" y="696960"/>
            <a:ext cx="4636800" cy="3478320"/>
          </a:xfrm>
          <a:prstGeom prst="rect">
            <a:avLst/>
          </a:prstGeom>
          <a:ln w="0">
            <a:noFill/>
          </a:ln>
        </p:spPr>
      </p:sp>
      <p:sp>
        <p:nvSpPr>
          <p:cNvPr id="3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5E5C4A-49D1-4E3D-BFDA-36E8AB01F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54160" y="701640"/>
            <a:ext cx="4626000" cy="3468600"/>
          </a:xfrm>
          <a:prstGeom prst="rect">
            <a:avLst/>
          </a:prstGeom>
          <a:ln w="0">
            <a:noFill/>
          </a:ln>
        </p:spPr>
      </p:sp>
      <p:sp>
        <p:nvSpPr>
          <p:cNvPr id="3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54160" y="701640"/>
            <a:ext cx="4626000" cy="3468600"/>
          </a:xfrm>
          <a:prstGeom prst="rect">
            <a:avLst/>
          </a:prstGeom>
          <a:ln w="0">
            <a:noFill/>
          </a:ln>
        </p:spPr>
      </p:sp>
      <p:sp>
        <p:nvSpPr>
          <p:cNvPr id="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FDEB2D-1C34-44F7-94D6-FCF34591D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54160" y="701640"/>
            <a:ext cx="4626000" cy="3468600"/>
          </a:xfrm>
          <a:prstGeom prst="rect">
            <a:avLst/>
          </a:prstGeom>
          <a:ln w="0">
            <a:noFill/>
          </a:ln>
        </p:spPr>
      </p:sp>
      <p:sp>
        <p:nvSpPr>
          <p:cNvPr id="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70"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1"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2"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A15DEE-F2BA-46EA-A278-509CB6FC5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E33181-E84F-43B2-8F1E-B10915BBB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54160" y="701640"/>
            <a:ext cx="4626000" cy="3468600"/>
          </a:xfrm>
          <a:prstGeom prst="rect">
            <a:avLst/>
          </a:prstGeom>
          <a:ln w="0">
            <a:noFill/>
          </a:ln>
        </p:spPr>
      </p:sp>
      <p:sp>
        <p:nvSpPr>
          <p:cNvPr id="3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3EC56A-718B-440A-88FB-553F6D954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54160" y="701640"/>
            <a:ext cx="4626000" cy="3468600"/>
          </a:xfrm>
          <a:prstGeom prst="rect">
            <a:avLst/>
          </a:prstGeom>
          <a:ln w="0">
            <a:noFill/>
          </a:ln>
        </p:spPr>
      </p:sp>
      <p:sp>
        <p:nvSpPr>
          <p:cNvPr id="3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716D09-2DCF-4F71-8797-E1C657FC8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54160" y="701640"/>
            <a:ext cx="4626000" cy="3468600"/>
          </a:xfrm>
          <a:prstGeom prst="rect">
            <a:avLst/>
          </a:prstGeom>
          <a:ln w="0">
            <a:noFill/>
          </a:ln>
        </p:spPr>
      </p:sp>
      <p:sp>
        <p:nvSpPr>
          <p:cNvPr id="3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5A498D-90C5-4208-B95F-71DC4AC5D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8BFBA1-20F6-4755-8DF1-EAC7164CD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9480" y="696960"/>
            <a:ext cx="4636800" cy="3478320"/>
          </a:xfrm>
          <a:prstGeom prst="rect">
            <a:avLst/>
          </a:prstGeom>
          <a:ln w="0">
            <a:noFill/>
          </a:ln>
        </p:spPr>
      </p:sp>
      <p:sp>
        <p:nvSpPr>
          <p:cNvPr id="3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A86E1E-C6C7-4DDC-852E-2CE34075D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54160" y="701640"/>
            <a:ext cx="4626000" cy="3468600"/>
          </a:xfrm>
          <a:prstGeom prst="rect">
            <a:avLst/>
          </a:prstGeom>
          <a:ln w="0">
            <a:noFill/>
          </a:ln>
        </p:spPr>
      </p:sp>
      <p:sp>
        <p:nvSpPr>
          <p:cNvPr id="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F6DA4-5101-4A26-B702-3C290AC6C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F6817-907D-41F7-86E7-9DD8EFF4E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60C01-DD61-40A2-95A8-E064E695A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7D4A6-EA7E-4E54-8A23-6AE950B9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9BB96-B2E9-4CA5-8D3B-7C100F0D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BCFA-F259-41B0-9DDD-0EA934AE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BF708-851B-408F-9A68-459D9BAF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8D3F-B68B-4FC8-8C87-4F951D230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7153-2490-44A5-9F0D-78F96422C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3A1E-A0C0-4177-9E50-79E1D638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8821-2E20-48BC-B24E-B0E968E65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66CE-53E1-4731-AF10-C06BDE5E3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A86A8D-5BF1-4CE5-AF9D-F98B8779D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987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6-00ax-spec-framework.docx" TargetMode="External"/><Relationship Id="rId2" Type="http://schemas.openxmlformats.org/officeDocument/2006/relationships/hyperlink" Target="https://mentor.ieee.org/802.11/dcn/14/11-14-0571-10-00ax-evaluation-methodology.docx" TargetMode="External"/><Relationship Id="rId3" Type="http://schemas.openxmlformats.org/officeDocument/2006/relationships/hyperlink" Target="https://mentor.ieee.org/802.11/dcn/14/11-14-0980-12-00ax-simulation-scenarios.docx" TargetMode="External"/><Relationship Id="rId4" Type="http://schemas.openxmlformats.org/officeDocument/2006/relationships/hyperlink" Target="https://mentor.ieee.org/802.11/dcn/14/11-14-0882-04-00ax-tgax-channel-model-document.docx" TargetMode="External"/><Relationship Id="rId5" Type="http://schemas.openxmlformats.org/officeDocument/2006/relationships/hyperlink" Target="https://mentor.ieee.org/802.11/dcn/14/11-14-1009-02-00ax-proposed-802-11ax-functional-requirements.doc"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7-00ax-spec-framework.doc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884-01-00ax-tgax-july-2015-waikoloa-meeting-minutes.docx" TargetMode="External"/><Relationship Id="rId2" Type="http://schemas.openxmlformats.org/officeDocument/2006/relationships/hyperlink" Target="https://mentor.ieee.org/802.11/dcn/15/11-15-0971-01-00ax-july-meeting-minutes-of-the-spatial-reuse-ad-hoc-group.docx" TargetMode="External"/><Relationship Id="rId3" Type="http://schemas.openxmlformats.org/officeDocument/2006/relationships/hyperlink" Target="https://mentor.ieee.org/802.11/dcn/15/11-15-0949-01-00ax-july-2015-hawaii-tgax-mu-ad-hoc-meeting-minutes.docx" TargetMode="External"/><Relationship Id="rId4" Type="http://schemas.openxmlformats.org/officeDocument/2006/relationships/hyperlink" Target="https://mentor.ieee.org/802.11/dcn/15/11-15-0922-01-00ax-july-2015-hawaii-tgax-mac-ad-hoc-meeting-minutes.docx" TargetMode="External"/><Relationship Id="rId5" Type="http://schemas.openxmlformats.org/officeDocument/2006/relationships/hyperlink" Target="https://mentor.ieee.org/802.11/dcn/15/11-15-0913-00-00ax-ieee-802-11-tgax-july-2015-hawaii-phy-ad-hoc-meeting-minutes.docx"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66A937-7E02-4F5E-A877-4D2F77808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8-04</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3CAC2E-CB62-4192-B2A4-51B968BB5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054AC1-B665-4BDC-9D62-D9554ABC8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301930-0C93-45F1-8480-AC6CDA526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D2B49C-0BB5-4439-95E2-0C1F82195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 14,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 14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 15,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6:00 – 18:0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 16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4:00 – 16: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6B4078-1A77-4216-9EE7-57C007F65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453440" cy="2797200"/>
        </p:xfrm>
        <a:graphic>
          <a:graphicData uri="http://schemas.openxmlformats.org/drawingml/2006/table">
            <a:tbl>
              <a:tblPr/>
              <a:tblGrid>
                <a:gridCol w="747720"/>
                <a:gridCol w="838080"/>
                <a:gridCol w="838440"/>
                <a:gridCol w="914400"/>
                <a:gridCol w="914400"/>
                <a:gridCol w="1066680"/>
                <a:gridCol w="1143000"/>
                <a:gridCol w="99072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9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87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83A176-EDBC-4128-89B2-C9F8CD9A3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1523880" y="1487520"/>
          <a:ext cx="6096240" cy="3867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57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eamble design and autode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8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oding Discu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8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PHY Padding and Packet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3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MU Signall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tsuo Yuno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NDP frame for soun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Encoding Structure Part I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n Por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B Cont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ushik Josia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liable Transmission Schemes for HE-SIG-B and Dat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nhan Li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024 QAM Proposa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ne Grouping Factors and NDP format for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ameer Verman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umber of BSS Color bi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suhiko Inou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2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A transmission for range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A Cont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tensible Preamble Format Desig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onardo Lanant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TF Design for Uplink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PHY Padding and Packet Extension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461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Range Extension with SIG-A Repeti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pport of 1x/2x/4x OFDM Symbol  in HE SU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Resource unit allocation co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s on HE SIG-A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dentifiers in HE PPDUs for power sav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6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LTF squence for UL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gang Che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eamble Design and Auto-Detection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ngho Mo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C1D954-4341-4D34-A69F-EB47594A4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1523880" y="1752480"/>
          <a:ext cx="6096240" cy="3075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802.11ae &amp;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BSSID El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oxy ARB in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ata field in HE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otification of Operating Mode Chang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Study of 11ax Multicas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eive Operating Mode Indication for Power Sav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ric Wo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hannel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TXOP trun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eongki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overy Procedures in Cascading Sequenc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BA frame for UL MU under cascading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irtime Analysis of EDC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igh Efficiency in Accessing the Mediu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 Frame Channel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soo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uffer Status Repor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A-Control field</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1"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9C5152-3AB0-4AE3-93C7-CBDFDB4D4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1523880" y="2133720"/>
          <a:ext cx="6096240" cy="2751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verall Protocol of UL MU BA  for Multicast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 selection process upon TF-R recep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user Block ACK Request (MU-BA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uoqing L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ple Resource Unit Allocation for TGax OFD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V Consideration for UL MU Response to Trigger fram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Kai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uplink Multi-TID aggreg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ducing Channel Sounding Protocol Overhead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ragmentation with MU Oper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Sounding Sequence with UL MU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OFDMA-based Random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with Random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UL MU pro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nowledgement to DL 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eedback overhead in DL-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po Tosat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CA consideration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6"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F4709B-83D9-4EF3-BCB6-77589ED7F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1523880" y="2295360"/>
          <a:ext cx="6096240" cy="226548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5</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ynamic CCA control and TPC Simulation Results with SS1-SS3</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akeshi Itaga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daptive CCA and TP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ames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32364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1</a:t>
                      </a:r>
                      <a:endParaRPr b="0" lang="en-US" sz="900" spc="-1" strike="noStrike">
                        <a:solidFill>
                          <a:srgbClr val="000000"/>
                        </a:solidFill>
                        <a:latin typeface="Times New Roman"/>
                      </a:endParaRPr>
                    </a:p>
                  </a:txBody>
                  <a:tcPr anchor="t"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urther consideration on receive behaviour based on the cascading structure and the BSS color scheme</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alysis of BSS and ESS Structure During Concurrent SR Transmiss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108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ost/Benefit Analysis of SR Techniqu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SC/DCCA Calibration with TGax Agreed Scenario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sahito Mor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XOP Considerations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BSS NAV and PD Threshold Rule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ssi Jun Lu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TXOP</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ussions on Spatial Reuse Enhanc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 K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3/113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o DSC or not to DS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 Mestanov</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3/113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iscussion on AP Coordinated Concurrent STA-to-STA Transmissions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er-Jiunn De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1"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3C2C8-624D-4C89-873E-07B288C92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1523880" y="2214720"/>
          <a:ext cx="6096240" cy="2265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CCA/DSC Reference Simul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Simul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s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gkok, Thai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3-19,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EC25FE-F49F-4A4D-ABC9-35DF65173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quested by WG Leadership</a:t>
            </a:r>
            <a:endParaRPr b="1" lang="en-US" sz="3200" spc="-1" strike="noStrike">
              <a:solidFill>
                <a:srgbClr val="000000"/>
              </a:solidFill>
              <a:latin typeface="Times New Roman"/>
            </a:endParaRPr>
          </a:p>
        </p:txBody>
      </p:sp>
      <p:sp>
        <p:nvSpPr>
          <p:cNvPr id="1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ttendance count at the midpoint of each times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quired to be done during TG and ad hoc slots</a:t>
            </a:r>
            <a:endParaRPr b="0" lang="en-US" sz="2000" spc="-1" strike="noStrike">
              <a:solidFill>
                <a:srgbClr val="000000"/>
              </a:solidFill>
              <a:latin typeface="Times New Roman"/>
            </a:endParaRPr>
          </a:p>
        </p:txBody>
      </p:sp>
      <p:sp>
        <p:nvSpPr>
          <p:cNvPr id="167"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B9C582-0DD7-45EF-AACA-9A5E0E6C9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0:30 – 13:3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July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7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FC7BC7-6258-4C2D-8724-8A94C4EB3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5 Meeting</a:t>
            </a:r>
            <a:endParaRPr b="1" lang="en-US" sz="3200" spc="-1" strike="noStrike">
              <a:solidFill>
                <a:srgbClr val="000000"/>
              </a:solidFill>
              <a:latin typeface="Times New Roman"/>
            </a:endParaRPr>
          </a:p>
        </p:txBody>
      </p:sp>
      <p:sp>
        <p:nvSpPr>
          <p:cNvPr id="177"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 Motions passed related to PHY, MAC, and MU.</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Latest revision (not yet approved) of the Specification Framework is available a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1"/>
              </a:rPr>
              <a:t>https://mentor.ieee.org/802.11/dcn/15/11-15-0132-07-00ax-spec-framework.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the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10-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14-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Other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4"/>
              </a:rPr>
              <a:t>https://mentor.ieee.org/802.11/dcn/14/11-14-0882-04-00ax-tgax-channel-model-document.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5"/>
              </a:rPr>
              <a:t>https://mentor.ieee.org/802.11/dcn/14/11-14-1009-02-00ax-proposed-802-11ax-functional-requirements.doc</a:t>
            </a:r>
            <a:endParaRPr b="0" lang="en-US" sz="1600" spc="-1" strike="noStrike">
              <a:solidFill>
                <a:srgbClr val="000000"/>
              </a:solidFill>
              <a:latin typeface="Times New Roman"/>
            </a:endParaRPr>
          </a:p>
        </p:txBody>
      </p:sp>
      <p:sp>
        <p:nvSpPr>
          <p:cNvPr id="17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1E8F24-C98B-4EB4-BC79-7A8C39038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50DFF2-5D1B-41B1-BCE3-438784941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9"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90"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1"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2"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3"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4"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5"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6"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8"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00"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1"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2"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3" name="Rectangle 25"/>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4"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5"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6"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7"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8"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10"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1"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2"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4"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5"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6"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7"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9"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20"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1"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4"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7"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8"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51"/>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30"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1"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2" name="Straight Arrow Connector 56"/>
          <p:cNvCxnSpPr/>
          <p:nvPr/>
        </p:nvCxnSpPr>
        <p:spPr>
          <a:xfrm flipH="1">
            <a:off x="3960000" y="1905120"/>
            <a:ext cx="2520" cy="1134000"/>
          </a:xfrm>
          <a:prstGeom prst="straightConnector1">
            <a:avLst/>
          </a:prstGeom>
          <a:ln w="50760">
            <a:solidFill>
              <a:srgbClr val="000000"/>
            </a:solidFill>
            <a:miter/>
            <a:tailEnd len="med" type="arrow" w="med"/>
          </a:ln>
        </p:spPr>
      </p:cxnSp>
      <p:sp>
        <p:nvSpPr>
          <p:cNvPr id="233"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2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7-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B645DF-77FB-4066-A8D9-84E4564E5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1E619C-4B38-4BF7-9950-760B3F4E0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5 Meeting and Telecon Minutes) </a:t>
            </a: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884-01-00ax-tgax-july-2015-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971-01-00ax-july-meeting-minutes-of-the-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949-01-00ax-july-2015-hawaii-tgax-mu-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922-01-00ax-july-2015-hawaii-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0913-00-00ax-ieee-802-11-tgax-july-2015-hawaii-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Lei Wa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Guido</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7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DE52F8-F28A-4686-B5C9-6F81876EB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50"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1381D9-53D8-4BDA-BAAD-44E07ACB5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3:30 – 15:30 </a:t>
            </a:r>
            <a:endParaRPr b="1" lang="en-US" sz="32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 World Ballroon B</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World Ballroom C</a:t>
            </a:r>
            <a:endParaRPr b="0" lang="en-US" sz="1600" spc="-1" strike="noStrike">
              <a:solidFill>
                <a:srgbClr val="000000"/>
              </a:solidFill>
              <a:latin typeface="Times New Roman"/>
            </a:endParaRPr>
          </a:p>
        </p:txBody>
      </p:sp>
      <p:sp>
        <p:nvSpPr>
          <p:cNvPr id="2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E06AE0-9ECA-4257-A2F3-4C01B2F57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9:30 – 21:30 </a:t>
            </a:r>
            <a:endParaRPr b="1" lang="en-US" sz="3200" spc="-1" strike="noStrike">
              <a:solidFill>
                <a:srgbClr val="000000"/>
              </a:solidFill>
              <a:latin typeface="Times New Roman"/>
            </a:endParaRPr>
          </a:p>
        </p:txBody>
      </p:sp>
      <p:sp>
        <p:nvSpPr>
          <p:cNvPr id="2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5CD7EC-3D11-48DC-A582-5D72CE0F6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F39B0B-21C3-44BD-BB71-28CCB3998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D3A0E8-ACAB-4E53-A29E-DD4A8902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0:30 – 12:30 </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677E00-A91B-4D73-8B83-B3F0411F4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3:30 – 15:30</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7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3C684D-44B9-43BD-81A9-663778F5C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6:00 – 18:00</a:t>
            </a:r>
            <a:endParaRPr b="1" lang="en-US" sz="3200" spc="-1" strike="noStrike">
              <a:solidFill>
                <a:srgbClr val="000000"/>
              </a:solidFill>
              <a:latin typeface="Times New Roman"/>
            </a:endParaRPr>
          </a:p>
        </p:txBody>
      </p:sp>
      <p:sp>
        <p:nvSpPr>
          <p:cNvPr id="2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A63654-D2AC-484D-AA43-790D0064B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9:30 – 21: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p:txBody>
      </p:sp>
      <p:sp>
        <p:nvSpPr>
          <p:cNvPr id="2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828770-EEA4-439B-A77C-1EF311552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08:00 – 10:00</a:t>
            </a:r>
            <a:endParaRPr b="1" lang="en-US" sz="3200" spc="-1" strike="noStrike">
              <a:solidFill>
                <a:srgbClr val="000000"/>
              </a:solidFill>
              <a:latin typeface="Times New Roman"/>
            </a:endParaRPr>
          </a:p>
        </p:txBody>
      </p:sp>
      <p:sp>
        <p:nvSpPr>
          <p:cNvPr id="2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9B2E57-1CE3-4044-8407-0451D0EDC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0"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3:30 – 15:30</a:t>
            </a:r>
            <a:endParaRPr b="1" lang="en-US" sz="3200" spc="-1" strike="noStrike">
              <a:solidFill>
                <a:srgbClr val="000000"/>
              </a:solidFill>
              <a:latin typeface="Times New Roman"/>
            </a:endParaRPr>
          </a:p>
        </p:txBody>
      </p:sp>
      <p:sp>
        <p:nvSpPr>
          <p:cNvPr id="2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3095D9-E964-4823-ADE6-189CEE060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5"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6:00 – 18:00</a:t>
            </a:r>
            <a:endParaRPr b="1" lang="en-US" sz="3200" spc="-1" strike="noStrike">
              <a:solidFill>
                <a:srgbClr val="000000"/>
              </a:solidFill>
              <a:latin typeface="Times New Roman"/>
            </a:endParaRPr>
          </a:p>
        </p:txBody>
      </p:sp>
      <p:sp>
        <p:nvSpPr>
          <p:cNvPr id="29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9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943190-513C-4D6F-8AC3-4FD0A2165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A7756B-F236-468C-A81E-AE44ACB4E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F540DC-34E7-4EB8-863E-770586FFC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13:30 – 15:30</a:t>
            </a:r>
            <a:endParaRPr b="1" lang="en-US" sz="32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CFE77E-10F8-4B71-9502-4A0A8814C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B4DE73-C793-4335-9BDC-80EF9CAED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B3EBCE-25F4-4D08-AF87-905CB2E1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AA9E77-4EDD-447D-9BD6-4753E542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6F1B01-18B0-4BA7-B929-778E88FE8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2A41B2-2443-45CA-9BAF-97010813D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68C11A-76A5-42BF-A329-78BBE3D9E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4A3A77-832B-404C-9A7B-C83EF4929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F932D7-B248-4CAE-8391-ED492D7D7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9-14T22:22:40Z</dcterms:modified>
  <cp:revision>1374</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42268492</vt:lpwstr>
  </property>
</Properties>
</file>