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793914-8897-4DAD-82BA-1B0BA0173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2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07026D-4DD3-4E68-8098-15D7173E7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54160" y="701640"/>
            <a:ext cx="4626000" cy="3468600"/>
          </a:xfrm>
          <a:prstGeom prst="rect">
            <a:avLst/>
          </a:prstGeom>
          <a:ln w="0">
            <a:noFill/>
          </a:ln>
        </p:spPr>
      </p:sp>
      <p:sp>
        <p:nvSpPr>
          <p:cNvPr id="2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2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B0B966-2D02-4F1D-836C-4E76E63F4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54160" y="701640"/>
            <a:ext cx="4626000" cy="3468600"/>
          </a:xfrm>
          <a:prstGeom prst="rect">
            <a:avLst/>
          </a:prstGeom>
          <a:ln w="0">
            <a:noFill/>
          </a:ln>
        </p:spPr>
      </p:sp>
      <p:sp>
        <p:nvSpPr>
          <p:cNvPr id="3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35B5C8-C380-421D-B1EC-2C4FB6292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9480" y="696960"/>
            <a:ext cx="4636800" cy="3478320"/>
          </a:xfrm>
          <a:prstGeom prst="rect">
            <a:avLst/>
          </a:prstGeom>
          <a:ln w="0">
            <a:noFill/>
          </a:ln>
        </p:spPr>
      </p:sp>
      <p:sp>
        <p:nvSpPr>
          <p:cNvPr id="33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37"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9A617A-0BAB-4524-A975-C7FC60D87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54160" y="701640"/>
            <a:ext cx="4626000" cy="3468600"/>
          </a:xfrm>
          <a:prstGeom prst="rect">
            <a:avLst/>
          </a:prstGeom>
          <a:ln w="0">
            <a:noFill/>
          </a:ln>
        </p:spPr>
      </p:sp>
      <p:sp>
        <p:nvSpPr>
          <p:cNvPr id="3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4160" y="701640"/>
            <a:ext cx="4626000" cy="3468600"/>
          </a:xfrm>
          <a:prstGeom prst="rect">
            <a:avLst/>
          </a:prstGeom>
          <a:ln w="0">
            <a:noFill/>
          </a:ln>
        </p:spPr>
      </p:sp>
      <p:sp>
        <p:nvSpPr>
          <p:cNvPr id="3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4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4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9CE241-3BA2-47C8-92E2-8BD865B37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4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49CF68-7CD8-4535-A4CA-5D50E46F9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54160" y="701640"/>
            <a:ext cx="4626000" cy="3468600"/>
          </a:xfrm>
          <a:prstGeom prst="rect">
            <a:avLst/>
          </a:prstGeom>
          <a:ln w="0">
            <a:noFill/>
          </a:ln>
        </p:spPr>
      </p:sp>
      <p:sp>
        <p:nvSpPr>
          <p:cNvPr id="3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5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B8436D-9440-4EC6-99C8-DD012FE27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54160" y="701640"/>
            <a:ext cx="4626000" cy="3468600"/>
          </a:xfrm>
          <a:prstGeom prst="rect">
            <a:avLst/>
          </a:prstGeom>
          <a:ln w="0">
            <a:noFill/>
          </a:ln>
        </p:spPr>
      </p:sp>
      <p:sp>
        <p:nvSpPr>
          <p:cNvPr id="3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6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F0440C-43CC-4EE3-8BC4-EBEDED830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54160" y="701640"/>
            <a:ext cx="4626000" cy="3468600"/>
          </a:xfrm>
          <a:prstGeom prst="rect">
            <a:avLst/>
          </a:prstGeom>
          <a:ln w="0">
            <a:noFill/>
          </a:ln>
        </p:spPr>
      </p:sp>
      <p:sp>
        <p:nvSpPr>
          <p:cNvPr id="3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AF5B58-DB59-4093-B22B-DE7D1468D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884E9F-6448-4F14-B61F-8BD20E129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1"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A6A220-3EB6-44E5-A887-E8DFC5029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9480" y="696960"/>
            <a:ext cx="4636800" cy="3478320"/>
          </a:xfrm>
          <a:prstGeom prst="rect">
            <a:avLst/>
          </a:prstGeom>
          <a:ln w="0">
            <a:noFill/>
          </a:ln>
        </p:spPr>
      </p:sp>
      <p:sp>
        <p:nvSpPr>
          <p:cNvPr id="31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3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A17F42-2C03-4A02-B946-0DD23A555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54160" y="701640"/>
            <a:ext cx="4626000" cy="3468600"/>
          </a:xfrm>
          <a:prstGeom prst="rect">
            <a:avLst/>
          </a:prstGeom>
          <a:ln w="0">
            <a:noFill/>
          </a:ln>
        </p:spPr>
      </p:sp>
      <p:sp>
        <p:nvSpPr>
          <p:cNvPr id="3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93647-F7FD-4AA1-AD8D-54DC52272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5DA62-0CED-42DD-A74E-94AF7297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7B0B9-0750-4AE9-B682-BF1AB47E5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DBB85-821A-45B9-9181-57A8E6D8C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9C63B-6AEB-4937-BFCF-0668B4A45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5BEC6-1213-4AD3-A494-23E279A35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CF123-7387-47D4-8FF9-E3D10C7BC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6F51-A3DF-43DB-93B5-0B6481FE7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86AF-EBA4-463F-8C4A-314E3BA0D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7FDE9-C628-47FA-97AC-AC254968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4183-6403-40A3-889A-10D5B232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71E8-7355-4662-BD7E-04A498CF9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25E7CB-BA5A-49F3-B5EF-0EF8E9CF0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309-00-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95CF93-EE00-41EC-8740-3B01D2A3D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E874DC-09C0-4CC7-8171-4B65449BF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A08750-475F-4A40-85AD-33FC4A8E2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124060-5B5F-41BE-A833-BC49AFCC6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0FA4FC-C5D1-4A1B-8DBE-CDADE844A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C04B96-01D4-4B3A-BC10-282D6C9EC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621160"/>
        </p:xfrm>
        <a:graphic>
          <a:graphicData uri="http://schemas.openxmlformats.org/drawingml/2006/table">
            <a:tbl>
              <a:tblPr/>
              <a:tblGrid>
                <a:gridCol w="844560"/>
                <a:gridCol w="1060200"/>
                <a:gridCol w="1067040"/>
                <a:gridCol w="1249200"/>
                <a:gridCol w="965160"/>
                <a:gridCol w="1011240"/>
                <a:gridCol w="1052640"/>
                <a:gridCol w="1174680"/>
              </a:tblGrid>
              <a:tr h="39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d Hoc)*</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d Ho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6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0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7BA3A2-D834-4BA3-BD0A-CEBC0088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8844FE-4DD8-44C4-9F6F-59075384A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724A3B-17AA-4818-BDE4-B7A563E74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EA78B0-B532-43FE-BD9A-DF083D3E6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292570-E0DE-4D61-B3CF-B86111F17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1F0830-3F80-4209-B6F7-B61B870E9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F15616-26D6-430A-A4D8-B9F907942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7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3"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4"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838144-AB50-4338-983E-4B0A8114A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7"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8"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C5601-1935-4D88-8223-15764E09B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18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A677AE-B3F3-40AD-8A71-DB1794174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5"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6"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7"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8"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89"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190"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191"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192"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193"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194"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195"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196"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198"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00"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01"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02"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03"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04"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05"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06"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07"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08"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10"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11"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12"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14"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15"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16"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17"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19"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20"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21"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24"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27"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28"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30"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31"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32"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33"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3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B0FAC4-8F0C-4E1F-ABB8-C85C17115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3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interim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0-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ea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4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83F7C0-B347-4F68-869F-137855397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45"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p:txBody>
      </p:sp>
      <p:sp>
        <p:nvSpPr>
          <p:cNvPr id="24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4D8A2-E293-43EB-B081-6111F90D6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5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45FFCC-75AE-409E-97C5-90C124987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5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AAB8A0-81B1-4007-99B5-E86DDB79B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
        <p:nvSpPr>
          <p:cNvPr id="26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EDA2B7-40CB-4EC7-8E2A-AAF1431E3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4EB17E-CEDA-4833-BFEC-AD77312F9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18BFC1-0B88-47CC-B7A8-B92FC49A5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00FBD2-D4EC-4363-A27F-A4023C4EF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p:txBody>
      </p:sp>
      <p:sp>
        <p:nvSpPr>
          <p:cNvPr id="27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B231F9-E13E-475F-94AD-1D851BD85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90B47E-19D6-4945-9B40-2655A0BC4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2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8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05932A-507A-464D-ADF1-416F2BF1E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7BBCA4-31D7-4262-B8A4-7A41CBBB2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0"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925AED-C984-403F-BD26-1487F64DE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BF1522-57E5-43B5-A9E1-6A0D4EFBE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D34D1F-15D8-4F2B-9303-33FBEBE13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88BECF-9960-4C12-A842-8B0448585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06A2C6-6399-4571-BA4C-19C6A537A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53EDA6-7B4B-4943-98AE-27B37429E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E0CF05-1169-4A9F-956A-342F91A21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FAE6BD-952F-4B4D-9B3D-5FB5032D0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7CEBFD-5633-431E-89F9-82518EA90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1T13:15:20Z</dcterms:modified>
  <cp:revision>1361</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348699</vt:lpwstr>
  </property>
</Properties>
</file>