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41520" y="117360"/>
            <a:ext cx="1041120" cy="2160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8055794A-3C22-4767-A4C7-81A299983FD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89"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9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9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1A020EC-5EDD-4431-976B-3C320FCDCF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922320" y="750960"/>
            <a:ext cx="4950000" cy="3711600"/>
          </a:xfrm>
          <a:prstGeom prst="rect">
            <a:avLst/>
          </a:prstGeom>
          <a:ln w="0">
            <a:noFill/>
          </a:ln>
        </p:spPr>
      </p:sp>
      <p:sp>
        <p:nvSpPr>
          <p:cNvPr id="5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95"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9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9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8BE9B3D-EB4F-4309-9FBC-787160471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922320" y="750960"/>
            <a:ext cx="4950000" cy="3711600"/>
          </a:xfrm>
          <a:prstGeom prst="rect">
            <a:avLst/>
          </a:prstGeom>
          <a:ln w="0">
            <a:noFill/>
          </a:ln>
        </p:spPr>
      </p:sp>
      <p:sp>
        <p:nvSpPr>
          <p:cNvPr id="5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30300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08DAB14-87C4-4FE1-8EE5-235FECA59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923760" y="750960"/>
            <a:ext cx="4948560" cy="3711600"/>
          </a:xfrm>
          <a:prstGeom prst="rect">
            <a:avLst/>
          </a:prstGeom>
          <a:ln w="0">
            <a:noFill/>
          </a:ln>
        </p:spPr>
      </p:sp>
      <p:sp>
        <p:nvSpPr>
          <p:cNvPr id="60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604"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60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0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2F4545A-2762-456E-A2C0-255CDD3F0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914400" y="744480"/>
            <a:ext cx="4967280" cy="3726000"/>
          </a:xfrm>
          <a:prstGeom prst="rect">
            <a:avLst/>
          </a:prstGeom>
          <a:ln w="0">
            <a:noFill/>
          </a:ln>
        </p:spPr>
      </p:sp>
      <p:sp>
        <p:nvSpPr>
          <p:cNvPr id="60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610"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6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7C2A2F6-A3EC-46B2-A4E2-8B06B0698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614"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23760" y="750960"/>
            <a:ext cx="4946760" cy="3711600"/>
          </a:xfrm>
          <a:prstGeom prst="rect">
            <a:avLst/>
          </a:prstGeom>
          <a:ln w="0">
            <a:noFill/>
          </a:ln>
        </p:spPr>
      </p:sp>
      <p:sp>
        <p:nvSpPr>
          <p:cNvPr id="6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617"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618"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619"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620"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BF60B82E-F6A3-4D5A-975D-23289334948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B7E6E-DDDA-457D-A04E-8F6AC6C0F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EF800-BA30-47C2-BB08-B45143A4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E2602-86F3-4E93-9FBD-932821C5AD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29858A-549E-4F80-B8B1-B605617EA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05AEF8-0A31-450B-BEDB-9BDAF45BB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EE263-26A6-4E00-B892-C0FF7F12F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70764-98B7-4568-ACD8-331362675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763EA-2571-4D81-82C3-4B7EE135E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9E9C40-A260-4B02-86C5-4DF8BB64B5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34662-FF22-4A4C-B6A8-996D798EF4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5E6ED1-2FC6-4C5B-91F0-E492BD4DBE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C1D5DB-4013-476C-A316-6FFCB1B392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303CB-A6D8-4D56-8429-70AAD6ECA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0547A0-A214-4CC5-9DC1-8E61A3D8A6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FD00E8-D5D7-472C-82AA-A6CC415170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A8C68D-8499-4F69-9256-E259DA7299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2D4148-6C50-42FC-B5DD-FBEAB92325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FFFE92-2170-45FD-84D8-CE0A7A6A38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DF3CFF-D003-4E41-A3C7-D42BFEDC6A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A12AC6-FF74-4A1F-8858-897367CD8E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586866-1997-42AB-99B1-5268527317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F1F9B3-7984-4E1C-AA05-DBBD4A12C0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563757-7DA8-4DC6-A6E4-A89A1A4ED6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F1F58-4D4C-4E59-B330-70238B967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0CEF2A-94A5-4EC7-910E-5E48B2B135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5B495B-6E40-4DC8-9DF1-6AEAAA3FF1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748212-0E4F-4B5E-9BA3-687E56D2EC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0C7155-9660-4DB6-9F40-8267160BA1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D2B2A7-42FD-4FCF-917C-1E9C67230E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EAA79D-41CF-43B2-8D5B-2A3831721F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2F772D-B1C5-4E9B-84CD-CCBD0C09A4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F45FFF-2446-43EF-8235-37DBA6E9D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CB49D9-43C9-48BD-87F9-34BB02022E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C7ECC5-9AA4-47F7-980C-8DB41D4733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C8DE1-3337-4BC2-B5A2-BF400D57E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5608FD-92E8-46D1-BEC4-6FE49DB889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AA4A33-0E1C-4155-A3D4-898025499F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698B4C-B6AB-4F57-80E2-1193664600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9EF730-76E1-4416-9AD1-5ADD190845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F25CA1-1EEE-4DCE-86C4-85AA33A2A9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CAD186-98F0-4245-82BE-DD3E9F2DBC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6045CB-3B24-4EF2-9AA0-C958CFC038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B28197-2A16-4EDA-93A1-B0DD994C13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1E9263-65D6-463C-A65F-5A3DBFC426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9288A0-9922-4E2E-9CDF-81FDC830F9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4897A-5D83-410D-8A2B-8952A18CE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714993-3FA1-4096-9E78-94B2435D34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D7FEB3-CBFC-4308-A152-9ADF074ADD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ADBD4B-A906-48F7-909E-1BC3613EB1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FE7B7E-D583-4DDB-A0BF-E57742C3C9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EB4C56-FC83-4B49-A389-1FFE187F34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48152-E714-433F-9750-8507217C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96CB4-B70C-40C7-8819-B5DA3A7A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1F43A-371F-4491-93A5-3FD79DC15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1D897-B72C-405E-A833-EB7F2CE27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7121-FBE7-4380-A7E2-ECA969AB2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A02D-2C4E-4882-9B37-6AD78C62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F103-A266-403A-BED9-4B38126E0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3F84C-FB96-4C4B-8876-4518AA1EB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40B0-4EAF-42AB-B565-D9E4B3342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C91C7-E709-4DF9-B917-948D26D41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647BC-8874-4C6D-B3E2-F31D56B11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715AF-5C86-4B6E-97E6-155CF56BE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1B444-1078-4109-8015-228B1514B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08330-9E27-46F2-8EC6-FE5997545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A87BB-9C1E-466C-A033-21A3B38F3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A2551-8020-4BB6-A6E3-289F6D022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1C9D-7751-40A0-AAC5-A84A17DF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9523F-43BE-4435-981E-B96B437D1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83018-2D24-4530-A3F8-3720BBB58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B5EC5-EF93-46A4-8B37-29E326B92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503E1-F58F-4F28-8C01-9D3EAF278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F0A82-A7C4-41C9-AE02-FDCE80B66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1F31B-74CA-4FFA-AF3A-069B6831F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6D4D83-503C-4B4D-8653-8B82564C36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81633A-B82B-4C2B-BB3A-0C697407E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B3525-853F-4FF0-AEA3-74A477762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3E643-0958-4B3C-90B8-7FBC8B2E6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7DB73-A3B7-42B3-88B5-54852753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752DF-2B0F-43B4-933F-60D1CD029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E5CD1-471D-4F16-8323-731A68532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6A203-5119-4FD4-978B-0771DE243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835A9-B506-4CCA-A951-C0C2DB4B3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C6E98-7277-4D94-8EF1-ADD1C9F90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425FC-3BFE-4E4D-928D-1FC60F561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C9A45-CE1D-4DCD-8957-E8402E76B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960451-A4DF-417E-B060-A010F79EC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FC007-7101-4DD3-916B-CCDEDAB052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5C52C-47E6-4B61-931B-141E07DC79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9718-47B1-4168-B6F8-3A8CBC89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D7437-CED3-48D2-BBBD-AC2BC381C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84EB8-87B5-491D-A193-862DBC708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F6D1F-A65D-4C07-BEEB-F23F3F816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EF5DF-0914-46C5-9219-13AD79141C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EF5E7C-3DC6-4D50-8CF1-C2E0259E5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AD2FA-E959-49BD-A69A-7D8163E94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D6267-D027-435C-B976-B9F0827E7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97AC7-E4D0-44D9-8578-296D6A687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EEF64-A30E-45DF-BBE7-2871FABBD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B3BFDA-9A22-4036-9F26-4C72BD3B8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C81C-C91D-4EA3-82BF-36CAEB4B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CE14B-5FC3-4807-9332-8033E0991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C8E79B-9844-4176-AEE7-2EFDA2D6F5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6F7C3-60D8-413B-9B49-7D0C67B4A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B26B1-F4E8-4750-B4EB-D08969C94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AA5AD-9AA5-4335-B54B-EB4753DB0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D6EB1-2F9E-4A8F-96C6-44AF19E72F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93B20E-F60C-4BCF-88B4-717E45A336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D3276-8E8A-462D-8C33-BEDE9D021A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D5293-C1F1-440F-BBA4-74BE43232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DF24F-44E7-4E2D-B282-6303CB8E7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E30A-49BA-4D7D-BAD2-DBCD63BC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2A83BE-8346-454C-9816-1AD4374A07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CFBF37-405A-453F-BF30-DE3065E07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8EC309-7F98-4CC7-81E9-FBB48D6B1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FAB836-8523-4751-A3B7-B815E98220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00A43-63A6-4A81-BE25-5F8A68C53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A59DE-51C1-47A7-A0CE-EFB753A2A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0E189-C9A7-48F8-9EE5-1E02E7F6D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FEF3D-6631-47C8-9725-DCBAD4C92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00FA0-E580-4901-AA7A-A85E413DA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9D1AE-4EA6-4B89-B1A1-3D76D0E1F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5561-1C3F-41BC-AE00-9EDF9692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F43F9-AC04-43D7-8931-2D14630EC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C03A4-0F07-4A8E-9240-48296A828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E2D84-FD56-4C8A-9593-690C7D62D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85F546-5A8A-4246-90D4-C32B3DBA44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80C7AC-E152-4613-BD2B-07CF5144DA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95D5B8-2E9B-4E68-A7C1-BBB0F2444B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0D206-9B0D-4D25-8FDE-B696BA9648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E8079-5543-46E8-90F5-D92898FB2E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F0BF7-A315-4776-B736-0186AF319D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5C7B0F-0A8F-4BD3-ADEC-285DDC555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BC0E-A49B-41C2-ADFC-6F42FA4A5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646F2C-2801-44B3-8702-406AEEF755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D6FEE-05CB-4308-B5AB-1FB1C64DA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AB91F-4429-46BE-A067-1D3AC871B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DC28C-7932-4E1D-B86F-2BB271F2E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E70D2-ECBF-43CB-940F-BF2F61C4A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18BDED-175B-4BF7-9F43-683E858A3C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8421AE-66C0-4D45-A659-0C9AEB03C5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1CDC95-BA39-4E1B-B56C-7CB9F223A5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53DED-4DC3-46DE-BEDB-1E491D52E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708BF-FC4D-4FA2-814A-C4EF8CB852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DDAA9ACF-FF32-4394-B620-D023CE69643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0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82110DF-836F-4C26-8C57-ADEE0DD5E44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5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D54FBB0-6092-43AB-9D2A-23332BF43BD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9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E79FDDDA-DD2F-4ABB-99C6-CB988BE66C7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0100D45A-1D66-43B8-8820-010518F0F04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9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0101B2F-D9AF-4F13-8CC8-74A59D1C0BF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13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A29A5D63-52EF-435C-8301-6AAC674AF56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18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74FE2C2-05DD-4671-85FC-8E0E1174ACB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22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564A2868-6BBA-4308-92A0-41823085A13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27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315EDC75-6D4D-4A07-A0F7-42C58B82229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31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4DCE3AD9-8DDB-4F2F-84D0-2AD1D38342E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36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495AFFC6-23DB-47D7-AABC-0AB8E22B51A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5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9C6575-AF35-4365-A1E2-17136F9F4D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March to May 2015</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3-26</a:t>
            </a:r>
            <a:endParaRPr b="1" lang="en-US" sz="2000" spc="-1" strike="noStrike">
              <a:solidFill>
                <a:srgbClr val="000000"/>
              </a:solidFill>
              <a:latin typeface="Times New Roman"/>
            </a:endParaRPr>
          </a:p>
        </p:txBody>
      </p:sp>
      <p:graphicFrame>
        <p:nvGraphicFramePr>
          <p:cNvPr id="555" name="Object 5"/>
          <p:cNvGraphicFramePr/>
          <p:nvPr/>
        </p:nvGraphicFramePr>
        <p:xfrm>
          <a:off x="609480" y="2346480"/>
          <a:ext cx="7971120" cy="2255760"/>
        </p:xfrm>
        <a:graphic>
          <a:graphicData uri="http://schemas.openxmlformats.org/presentationml/2006/ole">
            <p:oleObj progId="Word.Document.12" r:id="rId1" spid="">
              <p:embed/>
              <p:pic>
                <p:nvPicPr>
                  <p:cNvPr id="556"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557"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5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32F389B-5B2C-4F9B-A879-34F7B29D70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March to May 2015</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517680"/>
            <a:ext cx="88390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rticipants, Patents, and Duty to Inform</a:t>
            </a:r>
            <a:endParaRPr b="1" lang="en-US" sz="3200" spc="-1" strike="noStrike">
              <a:solidFill>
                <a:srgbClr val="000000"/>
              </a:solidFill>
              <a:latin typeface="Times New Roman"/>
            </a:endParaRPr>
          </a:p>
        </p:txBody>
      </p:sp>
      <p:sp>
        <p:nvSpPr>
          <p:cNvPr id="564" name="PlaceHolder 2"/>
          <p:cNvSpPr>
            <a:spLocks noGrp="1"/>
          </p:cNvSpPr>
          <p:nvPr>
            <p:ph/>
          </p:nvPr>
        </p:nvSpPr>
        <p:spPr>
          <a:xfrm>
            <a:off x="539280" y="1413000"/>
            <a:ext cx="8280360" cy="4876560"/>
          </a:xfrm>
          <a:prstGeom prst="rect">
            <a:avLst/>
          </a:prstGeom>
          <a:noFill/>
          <a:ln w="0">
            <a:noFill/>
          </a:ln>
        </p:spPr>
        <p:txBody>
          <a:bodyPr lIns="92160" rIns="92160" tIns="46080" bIns="460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a:t>
            </a:r>
            <a:endParaRPr b="1"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articipants [Note: </a:t>
            </a:r>
            <a:r>
              <a:rPr b="1" lang="en-GB" sz="1600" spc="-1" strike="noStrike">
                <a:solidFill>
                  <a:srgbClr val="003399"/>
                </a:solidFill>
                <a:latin typeface="Times New Roman"/>
              </a:rPr>
              <a:t>Quoted text excerpted from IEEE-SA Standards Board Bylaws subclause 6.2</a:t>
            </a:r>
            <a:r>
              <a:rPr b="1" lang="en-US" sz="1600" spc="-1" strike="noStrike">
                <a:solidFill>
                  <a:srgbClr val="003399"/>
                </a:solidFill>
                <a:latin typeface="Times New Roman"/>
              </a:rPr>
              <a:t>]:</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No duty to perform a patent sear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566" name="PlaceHolder 2"/>
          <p:cNvSpPr>
            <a:spLocks noGrp="1"/>
          </p:cNvSpPr>
          <p:nvPr>
            <p:ph/>
          </p:nvPr>
        </p:nvSpPr>
        <p:spPr>
          <a:xfrm>
            <a:off x="-360" y="144756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http://standards.ieee.org/develop/polici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develop/polici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about/sasb/patcom/materials.html</a:t>
            </a:r>
            <a:endParaRPr b="0" lang="en-US" sz="21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7" name="Rectangle 7"/>
          <p:cNvSpPr/>
          <p:nvPr/>
        </p:nvSpPr>
        <p:spPr>
          <a:xfrm>
            <a:off x="1295280" y="533412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5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7441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ther Guidelines for IEEE WG Meetings</a:t>
            </a:r>
            <a:endParaRPr b="1" lang="en-US" sz="3200" spc="-1" strike="noStrike">
              <a:solidFill>
                <a:srgbClr val="000000"/>
              </a:solidFill>
              <a:latin typeface="Times New Roman"/>
            </a:endParaRPr>
          </a:p>
        </p:txBody>
      </p:sp>
      <p:sp>
        <p:nvSpPr>
          <p:cNvPr id="571" name="Rectangle 3"/>
          <p:cNvSpPr/>
          <p:nvPr/>
        </p:nvSpPr>
        <p:spPr>
          <a:xfrm>
            <a:off x="533520" y="66816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533520" y="150660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7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534B6D4-EFB4-4F5F-823E-177942450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577"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7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4744094-3B4E-46B2-8B9B-DFFCDCEED4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582"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2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March</a:t>
            </a:r>
            <a:endParaRPr b="1" lang="en-US" sz="3200" spc="-1" strike="noStrike">
              <a:solidFill>
                <a:srgbClr val="000000"/>
              </a:solidFill>
              <a:latin typeface="Times New Roman"/>
            </a:endParaRPr>
          </a:p>
        </p:txBody>
      </p:sp>
      <p:sp>
        <p:nvSpPr>
          <p:cNvPr id="584"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5.</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 on 10</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2015</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585"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8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816C8891-DDD2-4018-ADD7-9320875AD23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587"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Yang Yunsong 73640</cp:lastModifiedBy>
  <cp:lastPrinted>1998-02-10T13:28:06Z</cp:lastPrinted>
  <dcterms:modified xsi:type="dcterms:W3CDTF">2015-03-27T22:39:42Z</dcterms:modified>
  <cp:revision>1394</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