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1r1</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EEB982C-A601-4874-9129-3AAE096401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6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386A5C1-612D-489C-A88C-678E94ED19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1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C0C24F1D-2DF5-46CB-BFD8-1CF3D118E6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2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79E6529-52F2-4F29-A067-7CB3E8B6C06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3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E6892E9-EB66-4D8B-9D5C-8FC69D2B34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3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60A4750-6C67-4883-9BFB-D9BE5D05FE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4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D28ED92-6970-4D48-8D99-CE95AFFD99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50960"/>
            <a:ext cx="4950000" cy="3711600"/>
          </a:xfrm>
          <a:prstGeom prst="rect">
            <a:avLst/>
          </a:prstGeom>
          <a:ln w="0">
            <a:noFill/>
          </a:ln>
        </p:spPr>
      </p:sp>
      <p:sp>
        <p:nvSpPr>
          <p:cNvPr id="24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4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11229B47-4C71-430B-BA00-7F2E92893A9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5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507F737-0E69-4667-B3AF-3205CDC820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2320" y="750960"/>
            <a:ext cx="495000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6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F299051-43C5-488E-A7EE-66B8003B305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2320" y="750960"/>
            <a:ext cx="495000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6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6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F240229-C422-4654-BE31-F57F3640C27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22320" y="750960"/>
            <a:ext cx="4950000" cy="3711600"/>
          </a:xfrm>
          <a:prstGeom prst="rect">
            <a:avLst/>
          </a:prstGeom>
          <a:ln w="0">
            <a:noFill/>
          </a:ln>
        </p:spPr>
      </p:sp>
      <p:sp>
        <p:nvSpPr>
          <p:cNvPr id="27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7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7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7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705A5DA-48D1-4AF4-BFCE-69E7D6ED3A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22320" y="750960"/>
            <a:ext cx="4950000" cy="3711600"/>
          </a:xfrm>
          <a:prstGeom prst="rect">
            <a:avLst/>
          </a:prstGeom>
          <a:ln w="0">
            <a:noFill/>
          </a:ln>
        </p:spPr>
      </p:sp>
      <p:sp>
        <p:nvSpPr>
          <p:cNvPr id="27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7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3C70E02-3B0D-47A9-9C17-C607907ECEB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922320" y="750960"/>
            <a:ext cx="4950000" cy="3711600"/>
          </a:xfrm>
          <a:prstGeom prst="rect">
            <a:avLst/>
          </a:prstGeom>
          <a:ln w="0">
            <a:noFill/>
          </a:ln>
        </p:spPr>
      </p:sp>
      <p:sp>
        <p:nvSpPr>
          <p:cNvPr id="17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7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79"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80"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BDB1EF6-B730-45DB-B13F-29E05C9F16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23760" y="750960"/>
            <a:ext cx="4948560" cy="3711600"/>
          </a:xfrm>
          <a:prstGeom prst="rect">
            <a:avLst/>
          </a:prstGeom>
          <a:ln w="0">
            <a:noFill/>
          </a:ln>
        </p:spPr>
      </p:sp>
      <p:sp>
        <p:nvSpPr>
          <p:cNvPr id="28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7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82575D9-9280-460B-AD21-00672EAF7FA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8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576F938-E38E-455F-8FB9-3A76FF57DA9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8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F81B6F9-5420-4492-A28E-C0E438E0616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5/0491r1</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5</a:t>
            </a:r>
            <a:endParaRPr b="0" lang="en-US" sz="1400" spc="-1" strike="noStrike">
              <a:solidFill>
                <a:srgbClr val="000000"/>
              </a:solidFill>
              <a:latin typeface="Times New Roman"/>
            </a:endParaRPr>
          </a:p>
        </p:txBody>
      </p:sp>
      <p:sp>
        <p:nvSpPr>
          <p:cNvPr id="195" name="Rectangle 6"/>
          <p:cNvSpPr/>
          <p:nvPr/>
        </p:nvSpPr>
        <p:spPr>
          <a:xfrm>
            <a:off x="3414240" y="9615600"/>
            <a:ext cx="22881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9567ABD-3031-4629-BF0E-880CE570F6E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0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CF7208CF-0838-40AB-ADC1-F105B58F2A2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0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C8896D9-7C2A-49C6-98D9-C1C5CF0EB7B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1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691BB73-F5B0-479A-9B74-786287818A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7C460-2437-4B88-9E8B-666AFCF57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A5400-AFA6-47F1-A434-01559E6E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A2350-C4E6-409B-874F-905C588EA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FA3F4-979C-4535-8D26-C7B7C4E25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6C045-8A30-449E-932A-F5BCC3011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8C1B-40C8-47AA-BE33-3905D26F3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196CA-5B0D-4058-BBE6-E7F240965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53FE-B794-4D4A-921F-E314CC15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CF165-617F-48C9-A4DD-F264D4E7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6B18-5967-496B-8AD5-500D7090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E122-701C-4DD9-83AD-C8FC3F397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E173-75E4-4576-903C-ACAEE540C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3E4A6A2-3AD2-429C-B3C0-6033A9F31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sect6-7.html#Call for Potentially Essential Patents"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5B4205A-CB40-446C-8E3E-6467AC35320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5-11</a:t>
            </a:r>
            <a:endParaRPr b="1" lang="en-US" sz="2000" spc="-1" strike="noStrike">
              <a:solidFill>
                <a:srgbClr val="000000"/>
              </a:solidFill>
              <a:latin typeface="Times New Roman"/>
            </a:endParaRPr>
          </a:p>
        </p:txBody>
      </p:sp>
      <p:pic>
        <p:nvPicPr>
          <p:cNvPr id="60" name="Object 5" descr=""/>
          <p:cNvPicPr/>
          <p:nvPr/>
        </p:nvPicPr>
        <p:blipFill>
          <a:blip r:embed="rId1"/>
          <a:stretch/>
        </p:blipFill>
        <p:spPr>
          <a:xfrm>
            <a:off x="531720" y="2349360"/>
            <a:ext cx="7996320" cy="2265480"/>
          </a:xfrm>
          <a:prstGeom prst="rect">
            <a:avLst/>
          </a:prstGeom>
          <a:ln w="0">
            <a:noFill/>
          </a:ln>
        </p:spPr>
      </p:pic>
      <p:sp>
        <p:nvSpPr>
          <p:cNvPr id="61"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0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3CECC3C-D209-42EF-9985-07EB324058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93720" y="1844280"/>
            <a:ext cx="7772400" cy="4321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491r1 (this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retary Posi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5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77-00-00aq-tgaq-meeting-minutes-march-2015-session.docx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arch – May 2015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97-01-00aq-tgaq-march-to-may-teleconference-minutes.doc</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1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55680A5-6DD0-4C4F-96DC-846E4E25F9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6" name="PlaceHolder 1"/>
          <p:cNvSpPr>
            <a:spLocks noGrp="1"/>
          </p:cNvSpPr>
          <p:nvPr>
            <p:ph/>
          </p:nvPr>
        </p:nvSpPr>
        <p:spPr>
          <a:xfrm>
            <a:off x="693720" y="1844280"/>
            <a:ext cx="7772400" cy="4321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March 201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56-00-00aq-closing-report.pptx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Editor’s Repor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 and next ste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1.1 Editorial comments from March 201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1.2 Approved technical comments form March 201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ials which are now technica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1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B5E17F7-195F-4F79-8712-54FF832F51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1"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2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E0A70A0-23DB-4075-ACC6-6118DEFC24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6"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 11 May 2015, 19:30 – 21: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2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F44B6CE-1127-43DC-BBDA-176728B3817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2 May 2015, 08:00 – 10:00</a:t>
            </a:r>
            <a:endParaRPr b="1" lang="en-US" sz="1800" spc="-1" strike="noStrike">
              <a:solidFill>
                <a:srgbClr val="000000"/>
              </a:solidFill>
              <a:latin typeface="Times New Roman"/>
            </a:endParaRPr>
          </a:p>
        </p:txBody>
      </p:sp>
      <p:sp>
        <p:nvSpPr>
          <p:cNvPr id="13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 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3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71EE692-981F-4860-A8BB-D2E070D7DC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2 May 2015, 16:00 – 18:00</a:t>
            </a:r>
            <a:endParaRPr b="1" lang="en-US" sz="1800" spc="-1" strike="noStrike">
              <a:solidFill>
                <a:srgbClr val="000000"/>
              </a:solidFill>
              <a:latin typeface="Times New Roman"/>
            </a:endParaRPr>
          </a:p>
        </p:txBody>
      </p:sp>
      <p:sp>
        <p:nvSpPr>
          <p:cNvPr id="13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 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3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EDFF558-CECD-47E8-9789-2BE724D13D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3 May 2015, 08:00 – 10:00</a:t>
            </a:r>
            <a:endParaRPr b="1" lang="en-US" sz="1800" spc="-1" strike="noStrike">
              <a:solidFill>
                <a:srgbClr val="000000"/>
              </a:solidFill>
              <a:latin typeface="Times New Roman"/>
            </a:endParaRPr>
          </a:p>
        </p:txBody>
      </p:sp>
      <p:sp>
        <p:nvSpPr>
          <p:cNvPr id="14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4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5897D09-4561-4407-9F6D-A22C0468890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3 May 2015, 13:30 – 15:30</a:t>
            </a:r>
            <a:endParaRPr b="1" lang="en-US" sz="1800" spc="-1" strike="noStrike">
              <a:solidFill>
                <a:srgbClr val="000000"/>
              </a:solidFill>
              <a:latin typeface="Times New Roman"/>
            </a:endParaRPr>
          </a:p>
        </p:txBody>
      </p:sp>
      <p:sp>
        <p:nvSpPr>
          <p:cNvPr id="14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4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B6BA871-92A4-4E3E-8CF6-3C492F7E745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4 May 2015, 10:30 – 12:30</a:t>
            </a:r>
            <a:endParaRPr b="1" lang="en-US" sz="1800" spc="-1" strike="noStrike">
              <a:solidFill>
                <a:srgbClr val="000000"/>
              </a:solidFill>
              <a:latin typeface="Times New Roman"/>
            </a:endParaRPr>
          </a:p>
        </p:txBody>
      </p:sp>
      <p:sp>
        <p:nvSpPr>
          <p:cNvPr id="15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5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6AAEAE5-2E44-43F7-88A9-82F9B509918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4 May 2015, 16:00 – 18:00</a:t>
            </a:r>
            <a:endParaRPr b="1" lang="en-US" sz="1800" spc="-1" strike="noStrike">
              <a:solidFill>
                <a:srgbClr val="000000"/>
              </a:solidFill>
              <a:latin typeface="Times New Roman"/>
            </a:endParaRPr>
          </a:p>
        </p:txBody>
      </p:sp>
      <p:sp>
        <p:nvSpPr>
          <p:cNvPr id="15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 (see next slid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ace to Face ad-hoc meeting</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July 12:00 noon ET for 1 hou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5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0 slots, room for 3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6DD7B42-FB08-4FB0-ACF1-2F3787D8E2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5, Vancouver, Canad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5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585B7AD-5331-4512-AC99-406B9318CC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May 2015 (update)</a:t>
            </a:r>
            <a:endParaRPr b="1" lang="en-US" sz="3200" spc="-1" strike="noStrike">
              <a:solidFill>
                <a:srgbClr val="000000"/>
              </a:solidFill>
              <a:latin typeface="Times New Roman"/>
            </a:endParaRPr>
          </a:p>
        </p:txBody>
      </p:sp>
      <p:sp>
        <p:nvSpPr>
          <p:cNvPr id="162"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May 2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May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July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November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November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January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May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November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November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ED6B8E7-669D-417B-A4E2-27B192CC5A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
        <p:nvSpPr>
          <p:cNvPr id="73"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D6563FD-BA4E-4FDE-BAA8-53114F213A9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All participants in this meeting have certain obligations under the IEEE-SA Patent Policy. </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Participants [Note: Quoted text excerpted from IEEE-SA Standards Board Bylaws subclause 6.2]:</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The above does not apply if the patent claim is already the subject of an Accepted Letter of Assurance that applies to the proposed standard(s) under consideration by this group</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Early identification of holders of potential Essential Patent Claims is strongly encouraged</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No duty to perform a patent search</a:t>
            </a:r>
            <a:endParaRPr b="0" lang="en-US" sz="17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8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D572E9F-3325-45EC-80E2-CED463AF3B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84"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sect6-7.html#6</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sect6.html#6.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about/sasb/patcom/materials.html</a:t>
            </a:r>
            <a:endParaRPr b="0" lang="en-US" sz="2400" spc="-1" strike="noStrike">
              <a:solidFill>
                <a:srgbClr val="000000"/>
              </a:solidFill>
              <a:latin typeface="Times New Roman"/>
            </a:endParaRPr>
          </a:p>
        </p:txBody>
      </p:sp>
      <p:sp>
        <p:nvSpPr>
          <p:cNvPr id="85"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May 2015</a:t>
            </a:r>
            <a:endParaRPr b="0" lang="en-US" sz="1800" spc="-1" strike="noStrike">
              <a:solidFill>
                <a:srgbClr val="000000"/>
              </a:solidFill>
              <a:latin typeface="Times New Roman"/>
            </a:endParaRPr>
          </a:p>
        </p:txBody>
      </p:sp>
      <p:sp>
        <p:nvSpPr>
          <p:cNvPr id="87" name="Footer Placeholder 3"/>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8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330486F2-DE0B-4E2D-BD81-16862D2DC8E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0"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1"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MS PGothic"/>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2E51D2D-1923-4094-BA57-FF69F55BD2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1000"/>
          </a:bodyPr>
          <a:p>
            <a:pPr marL="209160" indent="-20916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09160" indent="-20916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interpretation, validity, or essentiality of patents/patent claims. </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specific license rates, terms, or conditions.</a:t>
            </a:r>
            <a:endParaRPr b="0" lang="en-US" sz="1800" spc="-1" strike="noStrike">
              <a:solidFill>
                <a:srgbClr val="000000"/>
              </a:solidFill>
              <a:latin typeface="Times New Roman"/>
            </a:endParaRPr>
          </a:p>
          <a:p>
            <a:pPr lvl="2" marL="1040040" indent="-20772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455840" indent="-20772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Technical considerations remain primary focus</a:t>
            </a:r>
            <a:endParaRPr b="0" lang="en-US" sz="16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or engage in the fixing of product prices, allocation of customers, or division of sales markets.</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status or substance of ongoing or threatened litigation.</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be silent if inappropriate topics are discussed </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 do formally object.</a:t>
            </a:r>
            <a:endParaRPr b="0" lang="en-US" sz="1800" spc="-1" strike="noStrike">
              <a:solidFill>
                <a:srgbClr val="000000"/>
              </a:solidFill>
              <a:latin typeface="Times New Roman"/>
            </a:endParaRPr>
          </a:p>
          <a:p>
            <a:pPr marL="209160" indent="-2091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a:t>
            </a:r>
            <a:endParaRPr b="0" lang="en-US" sz="800" spc="-1" strike="noStrike">
              <a:solidFill>
                <a:srgbClr val="000000"/>
              </a:solidFill>
              <a:latin typeface="Times New Roman"/>
            </a:endParaRPr>
          </a:p>
          <a:p>
            <a:pPr marL="209160" indent="-2091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e </a:t>
            </a:r>
            <a:r>
              <a:rPr b="0" i="1" lang="en-US" sz="1000" spc="-1" strike="noStrike">
                <a:solidFill>
                  <a:srgbClr val="000000"/>
                </a:solidFill>
                <a:latin typeface="Times New Roman"/>
                <a:ea typeface="Arial"/>
              </a:rPr>
              <a:t>IEEE-SA Standards Board Operations Manual</a:t>
            </a:r>
            <a:r>
              <a:rPr b="0" lang="en-US" sz="1000" spc="-1" strike="noStrike">
                <a:solidFill>
                  <a:srgbClr val="000000"/>
                </a:solidFill>
                <a:latin typeface="Times New Roman"/>
                <a:ea typeface="Arial"/>
              </a:rPr>
              <a:t>, clause 5.3.10 and </a:t>
            </a:r>
            <a:r>
              <a:rPr b="0" lang="en-GB" sz="1000" spc="-1" strike="noStrike">
                <a:solidFill>
                  <a:srgbClr val="000000"/>
                </a:solidFill>
                <a:latin typeface="Times New Roman"/>
                <a:ea typeface="Arial"/>
              </a:rPr>
              <a:t>“Promoting Competition and Innovation: What You Need to Know about the IEEE Standards Association's Antitrust and Competition Policy”</a:t>
            </a:r>
            <a:r>
              <a:rPr b="0" lang="en-US" sz="1000" spc="-1" strike="noStrike">
                <a:solidFill>
                  <a:srgbClr val="000000"/>
                </a:solidFill>
                <a:latin typeface="Times New Roman"/>
                <a:ea typeface="Arial"/>
              </a:rPr>
              <a:t> for more detail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1783B7B-93EB-41AA-81CD-39A6DD00679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02"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0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B6142CD-CE25-46DB-AF5E-D76CA3C474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07"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5-05-06T12:53:12Z</dcterms:modified>
  <cp:revision>1398</cp:revision>
  <dc:subject/>
  <dc:title>ISD Agenda</dc:title>
</cp:coreProperties>
</file>