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4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ftr" idx="35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 type="sldNum" idx="3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517D2E-07E5-4D26-8BDB-7D7725271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7B4C46-5191-46BC-9FA3-D535E2DCC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A7E070-59D4-49C2-B2BC-E08721427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67D-8B8F-40BD-8F10-D83FC886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16F-68F3-47F2-92CF-668B2086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035EC-302E-4B55-9D66-CA349568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7D9C7-40F3-41B2-A39A-60026FC4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6FD09-8640-4AEA-AE9A-C8B5B6DC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D6009-A08E-42A0-BCB9-6ED92C4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DC649-ECAD-4567-8735-10AA200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83C1F-67A4-476C-8248-35ED6A4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84846-3330-47BF-B657-07855901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981CC-E9EA-43DF-951C-D846D4D0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33C53-D6E5-4A0C-A629-E2033A3D2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8348F-515B-4C73-90B7-1595474B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1EC-B065-420D-87F3-05BA38512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D759D-B9E0-4616-B5D9-0AA27786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20FC7-1A1F-4C8B-827A-493B1C89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A3B2D-60E1-4C51-A8E1-6D9FBE41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AA278-FB41-454A-8E06-7084E955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3BC0EC-E170-43AC-B5C8-DF1997F2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FA9C5-FA5E-4037-8B7F-798947BF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A17E5-7934-4508-A023-334A29F5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C008F5-E0B5-4A7D-9120-2587653C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CBD1A-8CC7-4816-B3E0-E3776AC1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CFAA2-68AE-4825-800E-21CAD12C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1C0-2CDD-438A-8CE6-E1D212AFD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8E7A8-0C12-4175-8FBF-A14A183F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4F618-E299-4434-874D-62F2B3090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B3786-2294-4F2F-AF88-AA2B5DC1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A50DE1-AC3B-4A90-AC60-8361383A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2D305-A2BE-4FCF-B5E5-0D46F1F0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0F637-0117-4A63-B182-3525817F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B870-1D6F-460F-B69A-59BFC2A4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55F0B-131E-4D5C-B3DD-80B1AD94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ADB90-9024-4FA5-8AC5-608793CC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27D6E-E1C2-4E25-BA7B-B1B438BF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E969-1BEA-4E7D-AF5D-245333D7A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6175-6822-45E7-A18D-C8724929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9163C-24BA-48BE-8E85-E862837D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8ADE54-BA5A-4601-A7BC-0368E75A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2FC-2FD1-4C19-BAB0-24FB1A44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0CC14-7F20-49A9-BD9E-987848B8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3C92-1F46-4CDF-8163-AA0A22D3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FDF3-6590-4C7A-A200-C280B4BA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37305-982B-4431-ADAA-F0709691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2401-C578-47B3-B12B-BAC781B0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230-499C-4E31-B12A-336465F6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F1D2-9702-4913-9DA0-02D799AE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7F55-681B-4F77-A0D9-996342A6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A716E-F1DA-4ACB-ADEC-14EA0A35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927B-66D3-46DB-B891-D745A216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6B47-7C19-4032-976B-ABAD83BD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3B64B-5735-4E99-9C83-03908B9E6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E6AB-351B-4C7F-80CD-E59655BE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AD7C-3DBE-4512-9047-DC653CC1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4485-239F-402E-8952-C9FE3D74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53171-B11E-415D-80E1-E4E4206D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8C70-A840-494B-9FD1-B78DBC2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6C9FB-2531-433A-AB55-C99E7DC7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BC78A-0E31-42BF-A575-EF0DD4F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B8C1F-9517-413F-8E6E-45930444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6BDA5-85FF-423E-A49F-AEEC787D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7BBC1-9A50-4860-8A9C-0EF40593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E4923-B8F3-49C2-8820-1BD2EC00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073EF-D36C-405F-809D-35F0D038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8392-D9AA-4E12-BEA3-4BD81F18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E6985-D810-4DD0-B99D-CDA3FBB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7615-513C-4669-A10B-8F61CB09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A339-1BD3-4C66-BA66-54C33583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2CD0D-8930-4B23-90AD-5C75F086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D240-2841-4AAD-B931-344DE2B8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A884-823D-4BEC-966B-3B40D6A8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7480B-F31F-4B14-9146-1F1AFB50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4F64-5765-4E14-88BE-63FCC87C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E1D3-4504-463A-B586-D5FDD27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E81E2-A1F7-435E-8DC3-4BD2857A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287EF-43F2-4BB7-B8CA-4E8C83B1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9CAC-11D6-43DF-B9DD-28F60CCE9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97353-974F-4E0D-BED7-93EF1D2D4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0E7-C628-40C9-B953-62F88246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4135-06D1-4807-87CF-14E9D0F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08826-C8FF-4156-83CA-FC2DEBC9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BE9F3-C1C6-4442-99EF-E4E9C43E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DE06-1B56-4C39-86FF-45854DBF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B47D7-7799-48FD-AD78-BCC37301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11A8D-4345-404D-882C-3F7A9C65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B2C77-BA47-4D46-8A75-C00B5833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5E7FF-9CAB-482B-A7D8-C832505F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55C61-163A-4585-AC43-E2D5D917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4BA35-7BE9-4C69-B340-6C992D7D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4B2-003C-4ECF-A380-91CF2401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33C1A-AC09-41CE-B70E-FB7B34C3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7B924-666C-4713-B1D1-DE4362F8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233F7-743F-4E0C-B836-48ABA7E9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D05FE-B3CA-4ED2-910E-D1F5DB5E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CE317-4E7E-4632-97FB-0F3F24C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3718AE-A517-43F5-96D8-4AEA423F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DBD4-E215-4125-B88D-DFE8B8C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889E0-53E2-4303-9C91-9A5124C8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1C2B-8113-4098-8B89-4BAEE9A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B4433-265C-4E77-BC44-416B4C49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9A2-3F34-4A27-A235-72B35E68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8065B-0CBC-436B-9E65-BFC72D53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1A1EE-5B86-4943-8808-D5F09D36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C27F-3423-4B67-8E13-98DD2CA1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14D7-2FA2-45AD-84B2-B5D29EF5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E6D38-CD28-429E-B284-631C2378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9E249-0F20-488A-90E2-027A9511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AFF9D-4C73-47C4-8597-F77454EF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1D4DF-81F0-4F1E-94BD-8F41F20F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FE112-09BE-479E-90BB-6A96ED8A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05CCF-9BED-40F6-8F19-BB6148DA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0C18-8481-4B71-A603-516302C2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A856B-A394-4FD7-8E28-0794B2A1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9E5FA-A094-41A3-A745-4D84FA69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58319-1C7B-4192-BF46-DDEB0242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74974-C73C-4D7C-A3C4-D8AF19AE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C1DF8-2D66-4854-BA45-3E1F685B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055A7-7936-4083-B87F-2AE7FFBC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EABE-6C23-4997-8928-34D68F24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F0185-902F-4695-A48C-AABC8076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8ED6A-17A3-4C59-9989-5856773C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16126-9B12-4000-A56B-94418AA5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7707-41DB-4CDD-A89E-A72B794F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68D57-382A-4D49-819B-096DB9E49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38AB0-5C37-423B-85B4-4C96D7C5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110B7-2B13-48A4-8909-033C52F6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20A35-B1CB-4F43-B813-99DDEA00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F8E91-70A3-49D1-8EA5-C4217E09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ECDEA-9E13-4AFD-B03B-011743DDE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AC2C7-BF4D-4E87-91EB-E1424635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7C59A-64C6-4307-8C12-45750566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90D17-2935-4440-8E14-FA2ACA0A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52F2EF-561B-42A5-9B0A-9A3A1889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524D9DB-D533-4BC7-B2E8-26D2B0DD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9CCFA5-3E71-4C4A-BDCD-12949CCC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641B60-1F84-4AFB-99AE-768A2432F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DFF1-1EEC-409E-9027-D557818B0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D26E5A-AA23-4980-9A61-0D8F19C99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66CBB9-0F3D-4D08-A55E-7DBF83267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0DE5C8-AE19-4B65-AC45-111C7CDD4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60120"/>
            <a:ext cx="14558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54DED28-46CB-4B6A-9CC9-3E73C80A8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BDA6FE5-835A-46A4-8EAE-BC4D17B7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D4928AF-DF4C-474B-B813-57F7D35F6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88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455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774F79-20C1-459F-816D-57FBEC2FA9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DD2EBB9-35FF-44B5-ABB0-D9C46D28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verview of Straw Poll Resul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2-2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6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4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562DFF-C1D2-4943-A1AA-608023C332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Picture 2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4724280" cy="3260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"/>
          <p:cNvPicPr/>
          <p:nvPr/>
        </p:nvPicPr>
        <p:blipFill>
          <a:blip r:embed="rId2"/>
          <a:stretch/>
        </p:blipFill>
        <p:spPr>
          <a:xfrm>
            <a:off x="2019240" y="4668840"/>
            <a:ext cx="411480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you support a Part 90/95 rule change to move the V2V Safety Channel (currently in Channel 172) to one of the upper channels (180, 182, or 184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2CDBC0-1541-4B56-82CE-AF0770517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5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5099775-5139-4790-95F3-14AB6B051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5639040" cy="3322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" descr=""/>
          <p:cNvPicPr/>
          <p:nvPr/>
        </p:nvPicPr>
        <p:blipFill>
          <a:blip r:embed="rId2"/>
          <a:stretch/>
        </p:blipFill>
        <p:spPr>
          <a:xfrm>
            <a:off x="2006640" y="4800600"/>
            <a:ext cx="467352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you support a proposal to use one of the upper channels (180/182/184) for V2V Safety Channel traff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172? (No rule change.  Part 95 still applies to Channel 172.  Channel 172 would be shared with Part 15 devic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2CF12FC-3422-4CEF-92CF-94C43098C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6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CF9A8B6-EA70-4C04-A029-8F117C08A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2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095880" cy="35924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3" descr=""/>
          <p:cNvPicPr/>
          <p:nvPr/>
        </p:nvPicPr>
        <p:blipFill>
          <a:blip r:embed="rId2"/>
          <a:stretch/>
        </p:blipFill>
        <p:spPr>
          <a:xfrm>
            <a:off x="1905120" y="4809960"/>
            <a:ext cx="47242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82" name="Straight Arrow Connector 48"/>
          <p:cNvCxnSpPr/>
          <p:nvPr/>
        </p:nvCxnSpPr>
        <p:spPr>
          <a:xfrm>
            <a:off x="5688000" y="4024080"/>
            <a:ext cx="1845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6600960" y="662796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4115880" y="662796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080594-30F2-4649-855A-674FE4F39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8"/>
          <p:cNvSpPr/>
          <p:nvPr/>
        </p:nvSpPr>
        <p:spPr>
          <a:xfrm>
            <a:off x="5715000" y="4392720"/>
            <a:ext cx="1817640" cy="2160360"/>
          </a:xfrm>
          <a:prstGeom prst="rect">
            <a:avLst/>
          </a:prstGeom>
          <a:solidFill>
            <a:srgbClr val="f5f6f6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RC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rapezoid 11"/>
          <p:cNvSpPr/>
          <p:nvPr/>
        </p:nvSpPr>
        <p:spPr>
          <a:xfrm>
            <a:off x="4430880" y="4863960"/>
            <a:ext cx="460080" cy="31608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rapezoid 12"/>
          <p:cNvSpPr/>
          <p:nvPr/>
        </p:nvSpPr>
        <p:spPr>
          <a:xfrm>
            <a:off x="4910040" y="4863960"/>
            <a:ext cx="460440" cy="31608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rapezoid 13"/>
          <p:cNvSpPr/>
          <p:nvPr/>
        </p:nvSpPr>
        <p:spPr>
          <a:xfrm>
            <a:off x="5380200" y="4863960"/>
            <a:ext cx="46008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rapezoid 14"/>
          <p:cNvSpPr/>
          <p:nvPr/>
        </p:nvSpPr>
        <p:spPr>
          <a:xfrm>
            <a:off x="5867280" y="4863960"/>
            <a:ext cx="45900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rapezoid 15"/>
          <p:cNvSpPr/>
          <p:nvPr/>
        </p:nvSpPr>
        <p:spPr>
          <a:xfrm>
            <a:off x="6350040" y="4863960"/>
            <a:ext cx="45864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rapezoid 16"/>
          <p:cNvSpPr/>
          <p:nvPr/>
        </p:nvSpPr>
        <p:spPr>
          <a:xfrm>
            <a:off x="6829560" y="4427640"/>
            <a:ext cx="233280" cy="315720"/>
          </a:xfrm>
          <a:custGeom>
            <a:avLst/>
            <a:gdLst/>
            <a:ahLst/>
            <a:rect l="l" t="t" r="r" b="b"/>
            <a:pathLst>
              <a:path w="233363" h="315912">
                <a:moveTo>
                  <a:pt x="0" y="315912"/>
                </a:moveTo>
                <a:lnTo>
                  <a:pt x="58341" y="0"/>
                </a:lnTo>
                <a:lnTo>
                  <a:pt x="175022" y="0"/>
                </a:lnTo>
                <a:lnTo>
                  <a:pt x="233363" y="315912"/>
                </a:lnTo>
                <a:lnTo>
                  <a:pt x="0" y="315912"/>
                </a:lnTo>
                <a:close/>
              </a:path>
            </a:pathLst>
          </a:custGeom>
          <a:noFill/>
          <a:ln w="12600">
            <a:solidFill>
              <a:srgbClr val="00c4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rapezoid 17"/>
          <p:cNvSpPr/>
          <p:nvPr/>
        </p:nvSpPr>
        <p:spPr>
          <a:xfrm>
            <a:off x="7062840" y="4419720"/>
            <a:ext cx="234720" cy="315720"/>
          </a:xfrm>
          <a:custGeom>
            <a:avLst/>
            <a:gdLst/>
            <a:ahLst/>
            <a:rect l="l" t="t" r="r" b="b"/>
            <a:pathLst>
              <a:path w="234950" h="315913">
                <a:moveTo>
                  <a:pt x="0" y="315913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3"/>
                </a:lnTo>
                <a:lnTo>
                  <a:pt x="0" y="315913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rapezoid 18"/>
          <p:cNvSpPr/>
          <p:nvPr/>
        </p:nvSpPr>
        <p:spPr>
          <a:xfrm>
            <a:off x="7297560" y="4419720"/>
            <a:ext cx="235080" cy="315720"/>
          </a:xfrm>
          <a:custGeom>
            <a:avLst/>
            <a:gdLst/>
            <a:ahLst/>
            <a:rect l="l" t="t" r="r" b="b"/>
            <a:pathLst>
              <a:path w="234950" h="315913">
                <a:moveTo>
                  <a:pt x="0" y="315913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3"/>
                </a:lnTo>
                <a:lnTo>
                  <a:pt x="0" y="315913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rapezoid 19"/>
          <p:cNvSpPr/>
          <p:nvPr/>
        </p:nvSpPr>
        <p:spPr>
          <a:xfrm>
            <a:off x="6369120" y="4419720"/>
            <a:ext cx="460440" cy="315720"/>
          </a:xfrm>
          <a:prstGeom prst="pie">
            <a:avLst/>
          </a:prstGeom>
          <a:solidFill>
            <a:srgbClr val="368b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rapezoid 20"/>
          <p:cNvSpPr/>
          <p:nvPr/>
        </p:nvSpPr>
        <p:spPr>
          <a:xfrm>
            <a:off x="5908680" y="4419720"/>
            <a:ext cx="460440" cy="315720"/>
          </a:xfrm>
          <a:prstGeom prst="pie">
            <a:avLst/>
          </a:prstGeom>
          <a:solidFill>
            <a:srgbClr val="368b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Box 22"/>
          <p:cNvSpPr/>
          <p:nvPr/>
        </p:nvSpPr>
        <p:spPr>
          <a:xfrm>
            <a:off x="1060560" y="4419720"/>
            <a:ext cx="186372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RC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Box 23"/>
          <p:cNvSpPr/>
          <p:nvPr/>
        </p:nvSpPr>
        <p:spPr>
          <a:xfrm>
            <a:off x="1060560" y="5389560"/>
            <a:ext cx="1725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-Fi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ight Arrow 24"/>
          <p:cNvSpPr/>
          <p:nvPr/>
        </p:nvSpPr>
        <p:spPr>
          <a:xfrm>
            <a:off x="2924280" y="4451400"/>
            <a:ext cx="2651040" cy="29196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68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rapezoid 25"/>
          <p:cNvSpPr/>
          <p:nvPr/>
        </p:nvSpPr>
        <p:spPr>
          <a:xfrm>
            <a:off x="3138480" y="5832360"/>
            <a:ext cx="368316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rapezoid 26"/>
          <p:cNvSpPr/>
          <p:nvPr/>
        </p:nvSpPr>
        <p:spPr>
          <a:xfrm>
            <a:off x="4965840" y="5356080"/>
            <a:ext cx="184464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rapezoid 27"/>
          <p:cNvSpPr/>
          <p:nvPr/>
        </p:nvSpPr>
        <p:spPr>
          <a:xfrm>
            <a:off x="6821640" y="4427640"/>
            <a:ext cx="234720" cy="31572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rapezoid 28"/>
          <p:cNvSpPr/>
          <p:nvPr/>
        </p:nvSpPr>
        <p:spPr>
          <a:xfrm>
            <a:off x="3121200" y="5357880"/>
            <a:ext cx="1844640" cy="31572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eft Brace 29"/>
          <p:cNvSpPr/>
          <p:nvPr/>
        </p:nvSpPr>
        <p:spPr>
          <a:xfrm>
            <a:off x="2786040" y="4951440"/>
            <a:ext cx="277920" cy="1125360"/>
          </a:xfrm>
          <a:custGeom>
            <a:avLst/>
            <a:gdLst>
              <a:gd name="textAreaLeft" fmla="*/ 177480 w 277920"/>
              <a:gd name="textAreaRight" fmla="*/ 277920 w 277920"/>
              <a:gd name="textAreaTop" fmla="*/ 7200 h 1125360"/>
              <a:gd name="textAreaBottom" fmla="*/ 111816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2"/>
                  <a:pt x="10800" y="444"/>
                </a:cubicBezTo>
                <a:lnTo>
                  <a:pt x="10800" y="10356"/>
                </a:lnTo>
                <a:cubicBezTo>
                  <a:pt x="10800" y="10578"/>
                  <a:pt x="5400" y="10800"/>
                  <a:pt x="0" y="10800"/>
                </a:cubicBezTo>
                <a:cubicBezTo>
                  <a:pt x="5400" y="10800"/>
                  <a:pt x="10800" y="11022"/>
                  <a:pt x="10800" y="11244"/>
                </a:cubicBezTo>
                <a:lnTo>
                  <a:pt x="10800" y="21156"/>
                </a:lnTo>
                <a:cubicBezTo>
                  <a:pt x="10800" y="2137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6" name="Straight Arrow Connector 34"/>
          <p:cNvCxnSpPr/>
          <p:nvPr/>
        </p:nvCxnSpPr>
        <p:spPr>
          <a:xfrm>
            <a:off x="5987520" y="5285880"/>
            <a:ext cx="1080" cy="1080"/>
          </a:xfrm>
          <a:prstGeom prst="straightConnector1">
            <a:avLst/>
          </a:prstGeom>
          <a:ln w="38160">
            <a:solidFill>
              <a:srgbClr val="006dbc"/>
            </a:solidFill>
            <a:miter/>
            <a:tailEnd len="med" type="triangle" w="med"/>
          </a:ln>
        </p:spPr>
      </p:cxnSp>
      <p:sp>
        <p:nvSpPr>
          <p:cNvPr id="607" name="Trapezoid 37"/>
          <p:cNvSpPr/>
          <p:nvPr/>
        </p:nvSpPr>
        <p:spPr>
          <a:xfrm>
            <a:off x="5925960" y="4417920"/>
            <a:ext cx="23508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rapezoid 38"/>
          <p:cNvSpPr/>
          <p:nvPr/>
        </p:nvSpPr>
        <p:spPr>
          <a:xfrm>
            <a:off x="6148440" y="4417920"/>
            <a:ext cx="23472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rapezoid 39"/>
          <p:cNvSpPr/>
          <p:nvPr/>
        </p:nvSpPr>
        <p:spPr>
          <a:xfrm>
            <a:off x="6372360" y="4417920"/>
            <a:ext cx="233280" cy="316080"/>
          </a:xfrm>
          <a:custGeom>
            <a:avLst/>
            <a:gdLst/>
            <a:ahLst/>
            <a:rect l="l" t="t" r="r" b="b"/>
            <a:pathLst>
              <a:path w="233363" h="315912">
                <a:moveTo>
                  <a:pt x="0" y="315912"/>
                </a:moveTo>
                <a:lnTo>
                  <a:pt x="58341" y="0"/>
                </a:lnTo>
                <a:lnTo>
                  <a:pt x="175022" y="0"/>
                </a:lnTo>
                <a:lnTo>
                  <a:pt x="233363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rapezoid 40"/>
          <p:cNvSpPr/>
          <p:nvPr/>
        </p:nvSpPr>
        <p:spPr>
          <a:xfrm>
            <a:off x="6594480" y="4417920"/>
            <a:ext cx="23508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and sharing is allowed, would you prefer that the upper edge of the U-NII4 band be at 5.925 GHz (all 75MHz) or 5.895 GHz (only the lower 45MHz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lower 45MH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75MH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45"/>
          <p:cNvSpPr/>
          <p:nvPr/>
        </p:nvSpPr>
        <p:spPr>
          <a:xfrm>
            <a:off x="5720400" y="41148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er 45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46"/>
          <p:cNvSpPr/>
          <p:nvPr/>
        </p:nvSpPr>
        <p:spPr>
          <a:xfrm>
            <a:off x="6176880" y="3886200"/>
            <a:ext cx="901440" cy="276480"/>
          </a:xfrm>
          <a:prstGeom prst="rect">
            <a:avLst/>
          </a:prstGeom>
          <a:solidFill>
            <a:srgbClr val="f5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75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7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2A91538-21CA-412D-9137-113B46F26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562360" cy="34610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3" descr=""/>
          <p:cNvPicPr/>
          <p:nvPr/>
        </p:nvPicPr>
        <p:blipFill>
          <a:blip r:embed="rId2"/>
          <a:stretch/>
        </p:blipFill>
        <p:spPr>
          <a:xfrm>
            <a:off x="1562040" y="4876920"/>
            <a:ext cx="533412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haring is only allowed in the lower 45MHz portion of the band (5850-5895MHz), should DSRC only use 20MHz channels 173 and 177 in that shared portion of the band? (Note: Channels 172 &amp; 178 in Part 95 are defined as 10MHz in bandwidth, so a rule change may be required.  Channels 173 and 177 align with 11ac.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 – only 20MHz DSRC channels in the shared b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– DSRC should use only 10MHz chann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/Not enough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A84809-5EEA-4201-89AF-1C94F5A1D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8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BD50EF-CC08-4006-9EAB-98002DFB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562720" cy="34610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765440" y="4800600"/>
            <a:ext cx="50799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a Clear Channel Assessment approach is adopted as outlined in document 13/994r0 by Ecclesine, would unlicensed devices need to vacate the entire 5850-5925 MHz band after detecting a DSRC signal on any one channel within the band in order to avoid harmful interferenc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 – unlicensed devices would need to vacate the entire shared band (5850-5925 MHz) after detecting a DSRC signal on one chann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– unlicensed devices could still operate in other unoccupied parts of the shared band (5850-5925 MHz) after detecting DSRC signals on one or more channel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ABFC07-96DC-4EB0-9E1B-F8DE9F1FC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liminary results of Straw Poll questions, which will be incorporated into the final report of the IEEE 802.11 (Regulatory Standing Committee) DSRC Coexistence Tiger 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Date Placeholder 6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788F8A-9D59-43FF-A661-44D1D5A83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1"/>
          <p:cNvSpPr/>
          <p:nvPr/>
        </p:nvSpPr>
        <p:spPr>
          <a:xfrm>
            <a:off x="762120" y="5943600"/>
            <a:ext cx="769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here may be some slight differences between the wording in the online (Survey Monkey) questions and the wording in these slides.  The changes were strictly edito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9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89E98E-ED3D-4C22-8200-A4335B6A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2" descr=""/>
          <p:cNvPicPr/>
          <p:nvPr/>
        </p:nvPicPr>
        <p:blipFill>
          <a:blip r:embed="rId1"/>
          <a:stretch/>
        </p:blipFill>
        <p:spPr>
          <a:xfrm>
            <a:off x="1682640" y="1523880"/>
            <a:ext cx="5181840" cy="32241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3" descr=""/>
          <p:cNvPicPr/>
          <p:nvPr/>
        </p:nvPicPr>
        <p:blipFill>
          <a:blip r:embed="rId2"/>
          <a:stretch/>
        </p:blipFill>
        <p:spPr>
          <a:xfrm>
            <a:off x="1612800" y="4572000"/>
            <a:ext cx="532152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tal of 94 respon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will be rolled into Section 11 along with com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9 people wanted name and affiliation inclu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 people di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want name and affiliation includ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TS of comments…several pag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CD35961-30F5-4636-A838-269991BB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of the Tiger Tea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Create a document that describes and quantifies possible coexistence mechanisms between DSRC and extensions of the 802.11 base standard in the proposed UNII-4 band, if the FCC allows such band sharing in a future R&amp;O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it is technically feasible to protect DSRC systems from harmful interference if unlicensed (Part 15) devices share the 5.9 GHz ban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ADF0ABF-39A7-492A-8E4E-D20E8D976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1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FDF3E6-4703-40F7-A596-1ADAA52D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Content Placeholder 8" descr="chart7586283080.png"/>
          <p:cNvPicPr/>
          <p:nvPr/>
        </p:nvPicPr>
        <p:blipFill>
          <a:blip r:embed="rId1"/>
          <a:stretch/>
        </p:blipFill>
        <p:spPr>
          <a:xfrm>
            <a:off x="1508040" y="1447920"/>
            <a:ext cx="5730840" cy="35701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2" descr=""/>
          <p:cNvPicPr/>
          <p:nvPr/>
        </p:nvPicPr>
        <p:blipFill>
          <a:blip r:embed="rId2"/>
          <a:stretch/>
        </p:blipFill>
        <p:spPr>
          <a:xfrm>
            <a:off x="2087640" y="5029200"/>
            <a:ext cx="45720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ing the proposal in document 13/994r0 by Peter Ecclesine of Cisco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this proposed band sharing technique has merit and, after developing a more complete definition and field testing, should be considered a basis for a band sharing solution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/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92A323-076A-433B-B93E-7B1F53985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2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DD2BAD-27E4-442F-9995-68F98164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2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257800" cy="32716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2209680" y="4952880"/>
            <a:ext cx="50832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ing the proposal in document 13/1449r2 by Tevfik Yucek of Qualcomm (and oth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http://apps.fcc.gov/ecfs/document/view?id=7022418821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this proposed band sharing technique has merit and, after developing a more complete definition and field testing, should be considered a basis for a band sharing solution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/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9FD170-A652-434A-BEC1-997851673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3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F361DF-4843-482E-9D8D-16C19367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tretch/>
        </p:blipFill>
        <p:spPr>
          <a:xfrm>
            <a:off x="1486080" y="1523880"/>
            <a:ext cx="5638680" cy="35085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"/>
          <p:cNvPicPr/>
          <p:nvPr/>
        </p:nvPicPr>
        <p:blipFill>
          <a:blip r:embed="rId2"/>
          <a:stretch/>
        </p:blipFill>
        <p:spPr>
          <a:xfrm>
            <a:off x="1866960" y="4876920"/>
            <a:ext cx="4876920" cy="14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proposal do you support for further specification development and field test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3/994r0 proposal by Ecclesine [1]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3/1449r2 proposal by Yucek [1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upport a combination of both proposals with additional details ad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elieve further study of both proposals independently is nee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ther – I do not support any band sha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I support band sharing, I do not believe either approach can form the basis for an acceptable band sharing solution – we need something differ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Date Placeholder 3"/>
          <p:cNvSpPr/>
          <p:nvPr/>
        </p:nvSpPr>
        <p:spPr>
          <a:xfrm>
            <a:off x="702720" y="334800"/>
            <a:ext cx="144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A64FF09-DB07-4394-BDDF-3AAFF7991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Box 1"/>
          <p:cNvSpPr/>
          <p:nvPr/>
        </p:nvSpPr>
        <p:spPr>
          <a:xfrm>
            <a:off x="490320" y="5942160"/>
            <a:ext cx="595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te 1: Both proposals will need additional development before field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im Lansford</cp:lastModifiedBy>
  <cp:lastPrinted>1998-02-10T13:28:06Z</cp:lastPrinted>
  <dcterms:modified xsi:type="dcterms:W3CDTF">2015-02-27T05:55:53Z</dcterms:modified>
  <cp:revision>1616</cp:revision>
  <dc:subject/>
  <dc:title>DSRC Tiger Team</dc:title>
</cp:coreProperties>
</file>