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hdr"/>
          </p:nvPr>
        </p:nvSpPr>
        <p:spPr>
          <a:xfrm>
            <a:off x="5640120" y="-755280"/>
            <a:ext cx="64116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9-09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dt" idx="37"/>
          </p:nvPr>
        </p:nvSpPr>
        <p:spPr>
          <a:xfrm>
            <a:off x="65376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ftr" idx="38"/>
          </p:nvPr>
        </p:nvSpPr>
        <p:spPr>
          <a:xfrm>
            <a:off x="5357880" y="8984880"/>
            <a:ext cx="9237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ich Kennedy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77B00C6-C1BE-4B91-8ABD-A0629B0BD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9-09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3"/>
          <p:cNvSpPr/>
          <p:nvPr/>
        </p:nvSpPr>
        <p:spPr>
          <a:xfrm>
            <a:off x="661680" y="9756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6"/>
          <p:cNvSpPr/>
          <p:nvPr/>
        </p:nvSpPr>
        <p:spPr>
          <a:xfrm>
            <a:off x="4511160" y="898524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ich Kennedy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A48ACE7-2675-491C-B982-C0402099E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9-09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661680" y="9756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ril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6"/>
          <p:cNvSpPr/>
          <p:nvPr/>
        </p:nvSpPr>
        <p:spPr>
          <a:xfrm>
            <a:off x="4511160" y="8985240"/>
            <a:ext cx="2617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ich Kennedy, Research In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0FDC233-5065-4B68-8AB7-9F498F4FF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FE0B-4E5B-4F94-8F5C-E98DF9660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9F36-9CEA-48E3-BB9A-45BB9851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96187-6ECB-4B1D-87F3-010256F5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AF849-E54D-4DD5-8C74-C0E124E6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E0E8A-9443-41F6-8416-9111E0B8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F5113-7658-4914-A1E2-7EB1A584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C4FE79-1A62-45E9-8290-9BF0DFB8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92884-FEEE-4302-B4AF-75E8C9D6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57C8E-17C8-40E2-8593-AB7004D1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F343C2-D694-43AF-B8D0-2FF79AFA4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0BF2E-677B-4696-880F-EAD281680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963E7-BD03-4E3D-81E0-8CAA43196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CFF8-4E56-47E1-8D01-6C52D9979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57857D-1D40-4C52-B86E-48EA715A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94230F-72FF-4203-A40E-52C25C22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506CA-9455-4B6F-971A-2F9C9791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95EE7-B0BA-407A-B351-0B6889DF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0968F7-BA23-4F4C-9D81-8CDE4CE6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6788D-E297-455E-8502-979BDDDF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4E4600-27AA-4D60-8D0C-DBEA03CB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B7C076-F3C9-4883-868A-7E203453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04E7B3-40A7-47D5-A0BE-2B8F26AE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5A64B-3002-4652-AD72-36B959006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8FC7-AB4C-4C8A-B942-9E8E8B082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44F8B6-5BE5-48A9-A243-7A9E2587E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1156E-533F-4964-8BD8-8761F7D89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91836-2836-4310-BE70-8C26AB3E4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02EBCF-599E-4DAD-BEA3-4E1AD1FD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5A33A-50A6-4F0A-8CC3-47F22B4C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FA3C4-8232-4A2D-BB38-31213CA0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6CB59-E40B-4D54-A008-D536436B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50032-F520-4F4E-B5B7-BCE7E7BA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C9A84-44E9-4CB2-9DD6-7B671524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B1D97-15AD-4E7C-A3B2-91322D43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BCBE-02CF-41F7-A825-2B2AAF72C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948E1-D7CF-412E-AC26-2D6C68C9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099B0-74BD-46B5-96E5-62F462996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6691E-2950-4982-8689-98574DEA6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3032C8-1571-4C5E-8418-B11CDA8F9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8AC927-FCFA-40C1-B7E6-B880B5220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B07BCD-2268-4865-ACD8-99C3EC8A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C5ACD4-7E70-4AFD-A0F2-C040F83D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A519CD-3446-4D46-9D04-F9A54FA2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035C46-ECC2-410C-889B-5F267B4B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91AF89-234D-4FDC-86AF-9D23C891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2162A-5799-45FC-B4EF-0800AA49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917AC2-B4EB-4679-8F47-077E180F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0ECAAE-F43B-42AF-9EB9-14E35943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8C22FF-8112-4F2B-8400-5876A9A6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A3B533-F08C-4C99-B822-289177377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C32476-BA48-4B98-9C34-7B6ACB33F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2800-E12E-4D4E-9A9E-8B3380DC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63E3-C376-4076-8831-14AE02BB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64C7-3797-45D8-B8FB-D1765652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F5E0-CC3D-4C85-95B7-068B1DFB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3FA03-F0C0-4E2B-84AA-07C7DDDA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E59F-31C5-479F-BA4F-0990302E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0278-0C60-4379-A973-1D2874E9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3EFE-0C1B-4FC0-8A70-88B301EC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B597-6B5A-459E-9D76-5B7F8D20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A1CB-4C7B-493D-8EDA-7CF21AF3D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FD15D-C0D3-491E-BB06-702F6FD64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9E84B-2B66-4CB9-B7C4-F79F520E4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DECB4-21AC-4A94-8200-1FFD3F36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BF256-CA5E-4C21-8518-98773D23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DE00C-7FF2-40A9-8120-39AC53F3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B3D3E-0DA7-40F3-9430-6A210840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D1B1-E46F-4D43-A3EB-DD7F8537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A3DB6-22D9-4821-8BF7-3CAA95438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33142-9F8A-4E7F-B071-02953D83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50555-98F2-410B-BA59-E4086CAD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450AE-3B18-4FB0-86B1-63CBB75E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2DD1E-678B-460F-805F-2D2D50DF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02FEC-0665-4C71-BFDB-B07030015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74D91-FF39-4F6C-A60F-CEB5CFCF3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BC257-DD90-44B5-8C88-8D2DF4F8E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96FF3-176E-4AEF-A22B-AA35379D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C67F0-59F4-44D5-BF42-91F08EE3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E9C4-F985-42DA-9D14-253EA56A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B8E9F-343E-4AFF-9981-CECF650D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F6A26-6BBD-4CDF-9F98-F4F01DE5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47CE6-F2DD-4DF0-87CA-50770FCA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3D876-0EEE-4E78-86B0-B157E367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D4409-6C08-49AE-B190-0781164A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A1069-CDE9-4436-90A5-CA985BA1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51BAB-4524-483E-8CD0-8F681960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29417-C5D0-4DCC-8290-F9AE6A701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AFE72-C6D9-4836-AAA2-CFA29DE1D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E5BF6-413D-4AB1-8985-1AF18090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7B45-CFE9-40C4-8859-C384E276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FF9AB-AFEC-47DE-8D42-A8A7DFAD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0FDAE-4B50-4FB7-8020-36178ABD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B55FC-1E48-4680-9538-454876FA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BCA03-8D07-4426-A110-A47636D1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F36B2-C7F8-4BFB-8707-0921A332C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0AD9A-AAB4-4828-B96D-9B28BAFC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E3897-376C-4CC4-8E64-C3A59A2B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F8BC0-7872-4BB6-B495-34BF3E92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B211F-BD4A-4345-8D86-54515BD1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C45CC-F79F-4F30-81D7-AA24443D9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465A-52C5-445B-922A-6B199B16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4DC6A-348D-43A1-A830-B743D189E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9D5B3-BB25-4516-8333-CBB5289D1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83DE0-7765-4A10-884A-AFDC1A8C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507CC-4B0A-42AC-8D1E-F3ADC2E9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B325F-9DF5-46B9-A3CA-3F14880C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E4E73-CE0F-4720-9F90-CC8CDA83F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2E498-28FE-49EB-B844-D971C1C3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104EC-CE51-4F0C-BDC9-E801AB2B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3267A-5927-42B0-8DDB-8E3CDE42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D04C4-1D30-4352-A606-E402BF5F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326B-BD8C-4F4D-8227-5F239F3B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7F44C-A88C-4D6A-96F7-74C346F3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99E80-6633-487A-A28C-02553E21A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044C5-E0D5-46F3-AAE0-F6380BC45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3F45F-D02F-472B-B5E4-7EBA9AF1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ECFEF-F7C9-42D4-8CB2-D0D62ABD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5627C-CDA3-4988-A23F-4D5CC151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838E4-3345-4B3B-807C-1AAEE88D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CF745-8B9E-4D3B-90C9-A6F95404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2CD68-5D84-4C1A-83C4-BD1C8263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0AF32-E405-427A-9506-F96519F2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48E6-85E6-49CB-AE25-0C014461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C26E47-3BCC-48FA-B9A3-C0961EEA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A2EBB-FFB5-4682-91AF-5E1C094C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5A69A-5A8A-43EA-AE0F-F69C2F3B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33F2A-7F56-4749-A0DC-48CC5AABF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4EAF8-5D18-42E2-9850-C6E588005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E0463-CFE9-4580-A320-6C0491676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8153A-72A5-4672-998D-F16183BA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8A7BD-2B7F-4F04-823B-151B531B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B7AC9-BFE6-4B73-A343-2C72B254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75063-C390-405F-BFF1-311BD26C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29BF-D7AF-4623-B289-AA836C03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460EF-A541-495D-8371-DC76BC0D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ADF5B3-C85C-40DA-A7EE-E07D4830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26A2D-21BB-4E3D-A09A-7C4EBF0B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B735E-04BC-4C70-A880-E024B14D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A0487-5DBB-4AAD-BC19-CD4CDDAB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AD0FB-CAE5-474E-8AD4-AF70469A8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25D60-5987-4AD2-A784-A0DE23FFB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46398-1F14-4163-BE9D-EF1FF1E8D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DF8F72-3CAB-4E80-B254-94D331EB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E16774-E895-4D5D-B155-8F1BBEAA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6F55047-E9AA-494A-BF97-073D693D1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5/0240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5/0240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8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9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6098A62-4A2D-42E1-88BB-32DF567AAF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5/0240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0DB812E-CB13-40EF-9007-BC6FE418C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5/0240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4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5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6E8FB42-7236-4E07-90E3-B93974AC1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ugust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003E-2CAE-4512-BD17-BC926148BB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5/0240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696960" y="60120"/>
            <a:ext cx="133992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ebruar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5ACE2EC-575B-414A-A710-918F92E6F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5/0240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F96F84D-CAE1-4C6C-AC60-ECB536CE2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5/0240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D6935EA-B921-4878-A2E6-618B42FB3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5/0240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00B1455-AD95-4214-A24A-EAF795A4C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5/0240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696960" y="60120"/>
            <a:ext cx="133992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cember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2917432-12D0-4A68-8EED-7B9F6BAF6B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5/0240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2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3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B607B51-D63F-4406-89D3-207DF4ED7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15/0240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5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6"/>
          </p:nvPr>
        </p:nvSpPr>
        <p:spPr>
          <a:xfrm>
            <a:off x="6597720" y="6475320"/>
            <a:ext cx="19461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A6F3CCF-9878-4DB9-BD70-302BE7C62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Date Placeholder 3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627174A-3BEF-45AA-82BD-E4E7177F6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EEE 802.11 Regulatory SC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SRC Coexistence Tiger Tea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al Report Straw Poll Ques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5-01-2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1" name="Object 11"/>
          <p:cNvGraphicFramePr/>
          <p:nvPr/>
        </p:nvGraphicFramePr>
        <p:xfrm>
          <a:off x="511200" y="3075120"/>
          <a:ext cx="8169120" cy="287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3075120"/>
                    <a:ext cx="8169120" cy="28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Rectangle 12"/>
          <p:cNvSpPr/>
          <p:nvPr/>
        </p:nvSpPr>
        <p:spPr>
          <a:xfrm>
            <a:off x="533520" y="2666880"/>
            <a:ext cx="14475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96" name="Straight Arrow Connector 48"/>
          <p:cNvCxnSpPr/>
          <p:nvPr/>
        </p:nvCxnSpPr>
        <p:spPr>
          <a:xfrm>
            <a:off x="5688000" y="4024080"/>
            <a:ext cx="184536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aw poll question #7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Date Placeholder 3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Footer Placeholder 4"/>
          <p:cNvSpPr/>
          <p:nvPr/>
        </p:nvSpPr>
        <p:spPr>
          <a:xfrm>
            <a:off x="6600960" y="662796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Slide Number Placeholder 5"/>
          <p:cNvSpPr/>
          <p:nvPr/>
        </p:nvSpPr>
        <p:spPr>
          <a:xfrm>
            <a:off x="4115880" y="662796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B65875A-747E-4363-AF64-6F59C2D3A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8"/>
          <p:cNvSpPr/>
          <p:nvPr/>
        </p:nvSpPr>
        <p:spPr>
          <a:xfrm>
            <a:off x="5715000" y="4392720"/>
            <a:ext cx="1817640" cy="2160360"/>
          </a:xfrm>
          <a:prstGeom prst="rect">
            <a:avLst/>
          </a:prstGeom>
          <a:solidFill>
            <a:srgbClr val="f5f6f6">
              <a:alpha val="50000"/>
            </a:srgbClr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RC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rapezoid 11"/>
          <p:cNvSpPr/>
          <p:nvPr/>
        </p:nvSpPr>
        <p:spPr>
          <a:xfrm>
            <a:off x="4430880" y="4863960"/>
            <a:ext cx="460080" cy="316080"/>
          </a:xfrm>
          <a:prstGeom prst="pie">
            <a:avLst/>
          </a:prstGeom>
          <a:solidFill>
            <a:srgbClr val="007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16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rapezoid 12"/>
          <p:cNvSpPr/>
          <p:nvPr/>
        </p:nvSpPr>
        <p:spPr>
          <a:xfrm>
            <a:off x="4910040" y="4863960"/>
            <a:ext cx="460440" cy="316080"/>
          </a:xfrm>
          <a:prstGeom prst="pie">
            <a:avLst/>
          </a:prstGeom>
          <a:solidFill>
            <a:srgbClr val="007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16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rapezoid 13"/>
          <p:cNvSpPr/>
          <p:nvPr/>
        </p:nvSpPr>
        <p:spPr>
          <a:xfrm>
            <a:off x="5380200" y="4863960"/>
            <a:ext cx="460080" cy="316080"/>
          </a:xfrm>
          <a:prstGeom prst="pi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16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rapezoid 14"/>
          <p:cNvSpPr/>
          <p:nvPr/>
        </p:nvSpPr>
        <p:spPr>
          <a:xfrm>
            <a:off x="5867280" y="4863960"/>
            <a:ext cx="459000" cy="316080"/>
          </a:xfrm>
          <a:prstGeom prst="pi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17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rapezoid 15"/>
          <p:cNvSpPr/>
          <p:nvPr/>
        </p:nvSpPr>
        <p:spPr>
          <a:xfrm>
            <a:off x="6350040" y="4863960"/>
            <a:ext cx="458640" cy="316080"/>
          </a:xfrm>
          <a:prstGeom prst="pi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17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rapezoid 16"/>
          <p:cNvSpPr/>
          <p:nvPr/>
        </p:nvSpPr>
        <p:spPr>
          <a:xfrm>
            <a:off x="6829560" y="4427640"/>
            <a:ext cx="233280" cy="315720"/>
          </a:xfrm>
          <a:custGeom>
            <a:avLst/>
            <a:gdLst/>
            <a:ahLst/>
            <a:rect l="l" t="t" r="r" b="b"/>
            <a:pathLst>
              <a:path w="233363" h="315912">
                <a:moveTo>
                  <a:pt x="0" y="315912"/>
                </a:moveTo>
                <a:lnTo>
                  <a:pt x="58341" y="0"/>
                </a:lnTo>
                <a:lnTo>
                  <a:pt x="175022" y="0"/>
                </a:lnTo>
                <a:lnTo>
                  <a:pt x="233363" y="315912"/>
                </a:lnTo>
                <a:lnTo>
                  <a:pt x="0" y="315912"/>
                </a:lnTo>
                <a:close/>
              </a:path>
            </a:pathLst>
          </a:custGeom>
          <a:noFill/>
          <a:ln w="12600">
            <a:solidFill>
              <a:srgbClr val="00c4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rapezoid 17"/>
          <p:cNvSpPr/>
          <p:nvPr/>
        </p:nvSpPr>
        <p:spPr>
          <a:xfrm>
            <a:off x="7062840" y="4419720"/>
            <a:ext cx="234720" cy="315720"/>
          </a:xfrm>
          <a:custGeom>
            <a:avLst/>
            <a:gdLst/>
            <a:ahLst/>
            <a:rect l="l" t="t" r="r" b="b"/>
            <a:pathLst>
              <a:path w="234950" h="315913">
                <a:moveTo>
                  <a:pt x="0" y="315913"/>
                </a:moveTo>
                <a:lnTo>
                  <a:pt x="58738" y="0"/>
                </a:lnTo>
                <a:lnTo>
                  <a:pt x="176213" y="0"/>
                </a:lnTo>
                <a:lnTo>
                  <a:pt x="234950" y="315913"/>
                </a:lnTo>
                <a:lnTo>
                  <a:pt x="0" y="315913"/>
                </a:lnTo>
                <a:close/>
              </a:path>
            </a:pathLst>
          </a:custGeom>
          <a:solidFill>
            <a:srgbClr val="368b9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rapezoid 18"/>
          <p:cNvSpPr/>
          <p:nvPr/>
        </p:nvSpPr>
        <p:spPr>
          <a:xfrm>
            <a:off x="7297560" y="4419720"/>
            <a:ext cx="235080" cy="315720"/>
          </a:xfrm>
          <a:custGeom>
            <a:avLst/>
            <a:gdLst/>
            <a:ahLst/>
            <a:rect l="l" t="t" r="r" b="b"/>
            <a:pathLst>
              <a:path w="234950" h="315913">
                <a:moveTo>
                  <a:pt x="0" y="315913"/>
                </a:moveTo>
                <a:lnTo>
                  <a:pt x="58738" y="0"/>
                </a:lnTo>
                <a:lnTo>
                  <a:pt x="176213" y="0"/>
                </a:lnTo>
                <a:lnTo>
                  <a:pt x="234950" y="315913"/>
                </a:lnTo>
                <a:lnTo>
                  <a:pt x="0" y="315913"/>
                </a:lnTo>
                <a:close/>
              </a:path>
            </a:pathLst>
          </a:custGeom>
          <a:solidFill>
            <a:srgbClr val="368b9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rapezoid 19"/>
          <p:cNvSpPr/>
          <p:nvPr/>
        </p:nvSpPr>
        <p:spPr>
          <a:xfrm>
            <a:off x="6369120" y="4419720"/>
            <a:ext cx="460440" cy="315720"/>
          </a:xfrm>
          <a:prstGeom prst="pie">
            <a:avLst/>
          </a:prstGeom>
          <a:solidFill>
            <a:srgbClr val="368b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17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rapezoid 20"/>
          <p:cNvSpPr/>
          <p:nvPr/>
        </p:nvSpPr>
        <p:spPr>
          <a:xfrm>
            <a:off x="5908680" y="4419720"/>
            <a:ext cx="460440" cy="315720"/>
          </a:xfrm>
          <a:prstGeom prst="pie">
            <a:avLst/>
          </a:prstGeom>
          <a:solidFill>
            <a:srgbClr val="368b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17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Box 22"/>
          <p:cNvSpPr/>
          <p:nvPr/>
        </p:nvSpPr>
        <p:spPr>
          <a:xfrm>
            <a:off x="1060560" y="4419720"/>
            <a:ext cx="86652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SRC Chann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Box 23"/>
          <p:cNvSpPr/>
          <p:nvPr/>
        </p:nvSpPr>
        <p:spPr>
          <a:xfrm>
            <a:off x="1060560" y="5389560"/>
            <a:ext cx="8665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-Fi Chann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ight Arrow 24"/>
          <p:cNvSpPr/>
          <p:nvPr/>
        </p:nvSpPr>
        <p:spPr>
          <a:xfrm>
            <a:off x="2924280" y="4451400"/>
            <a:ext cx="2651040" cy="29196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368b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rapezoid 25"/>
          <p:cNvSpPr/>
          <p:nvPr/>
        </p:nvSpPr>
        <p:spPr>
          <a:xfrm>
            <a:off x="3138480" y="5832360"/>
            <a:ext cx="3683160" cy="316080"/>
          </a:xfrm>
          <a:prstGeom prst="pi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60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rapezoid 26"/>
          <p:cNvSpPr/>
          <p:nvPr/>
        </p:nvSpPr>
        <p:spPr>
          <a:xfrm>
            <a:off x="4965840" y="5356080"/>
            <a:ext cx="1844640" cy="316080"/>
          </a:xfrm>
          <a:prstGeom prst="pi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rapezoid 27"/>
          <p:cNvSpPr/>
          <p:nvPr/>
        </p:nvSpPr>
        <p:spPr>
          <a:xfrm>
            <a:off x="6821640" y="4427640"/>
            <a:ext cx="234720" cy="315720"/>
          </a:xfrm>
          <a:custGeom>
            <a:avLst/>
            <a:gdLst/>
            <a:ahLst/>
            <a:rect l="l" t="t" r="r" b="b"/>
            <a:pathLst>
              <a:path w="234950" h="315912">
                <a:moveTo>
                  <a:pt x="0" y="315912"/>
                </a:moveTo>
                <a:lnTo>
                  <a:pt x="58738" y="0"/>
                </a:lnTo>
                <a:lnTo>
                  <a:pt x="176213" y="0"/>
                </a:lnTo>
                <a:lnTo>
                  <a:pt x="234950" y="315912"/>
                </a:lnTo>
                <a:lnTo>
                  <a:pt x="0" y="315912"/>
                </a:lnTo>
                <a:close/>
              </a:path>
            </a:pathLst>
          </a:custGeom>
          <a:solidFill>
            <a:srgbClr val="368b96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rapezoid 28"/>
          <p:cNvSpPr/>
          <p:nvPr/>
        </p:nvSpPr>
        <p:spPr>
          <a:xfrm>
            <a:off x="3121200" y="5357880"/>
            <a:ext cx="1844640" cy="315720"/>
          </a:xfrm>
          <a:prstGeom prst="pie">
            <a:avLst/>
          </a:prstGeom>
          <a:solidFill>
            <a:srgbClr val="007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eft Brace 29"/>
          <p:cNvSpPr/>
          <p:nvPr/>
        </p:nvSpPr>
        <p:spPr>
          <a:xfrm>
            <a:off x="2786040" y="4951440"/>
            <a:ext cx="277920" cy="1125360"/>
          </a:xfrm>
          <a:custGeom>
            <a:avLst/>
            <a:gdLst>
              <a:gd name="textAreaLeft" fmla="*/ 177480 w 277920"/>
              <a:gd name="textAreaRight" fmla="*/ 277920 w 277920"/>
              <a:gd name="textAreaTop" fmla="*/ 7200 h 1125360"/>
              <a:gd name="textAreaBottom" fmla="*/ 1118160 h 112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2"/>
                  <a:pt x="10800" y="444"/>
                </a:cubicBezTo>
                <a:lnTo>
                  <a:pt x="10800" y="10356"/>
                </a:lnTo>
                <a:cubicBezTo>
                  <a:pt x="10800" y="10578"/>
                  <a:pt x="5400" y="10800"/>
                  <a:pt x="0" y="10800"/>
                </a:cubicBezTo>
                <a:cubicBezTo>
                  <a:pt x="5400" y="10800"/>
                  <a:pt x="10800" y="11022"/>
                  <a:pt x="10800" y="11244"/>
                </a:cubicBezTo>
                <a:lnTo>
                  <a:pt x="10800" y="21156"/>
                </a:lnTo>
                <a:cubicBezTo>
                  <a:pt x="10800" y="21378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0" name="Straight Arrow Connector 34"/>
          <p:cNvCxnSpPr/>
          <p:nvPr/>
        </p:nvCxnSpPr>
        <p:spPr>
          <a:xfrm>
            <a:off x="5987520" y="5285880"/>
            <a:ext cx="1080" cy="1080"/>
          </a:xfrm>
          <a:prstGeom prst="straightConnector1">
            <a:avLst/>
          </a:prstGeom>
          <a:ln w="38160">
            <a:solidFill>
              <a:srgbClr val="006dbc"/>
            </a:solidFill>
            <a:miter/>
            <a:tailEnd len="med" type="triangle" w="med"/>
          </a:ln>
        </p:spPr>
      </p:cxnSp>
      <p:sp>
        <p:nvSpPr>
          <p:cNvPr id="621" name="Trapezoid 37"/>
          <p:cNvSpPr/>
          <p:nvPr/>
        </p:nvSpPr>
        <p:spPr>
          <a:xfrm>
            <a:off x="5925960" y="4417920"/>
            <a:ext cx="235080" cy="316080"/>
          </a:xfrm>
          <a:custGeom>
            <a:avLst/>
            <a:gdLst/>
            <a:ahLst/>
            <a:rect l="l" t="t" r="r" b="b"/>
            <a:pathLst>
              <a:path w="234950" h="315912">
                <a:moveTo>
                  <a:pt x="0" y="315912"/>
                </a:moveTo>
                <a:lnTo>
                  <a:pt x="58738" y="0"/>
                </a:lnTo>
                <a:lnTo>
                  <a:pt x="176213" y="0"/>
                </a:lnTo>
                <a:lnTo>
                  <a:pt x="234950" y="315912"/>
                </a:lnTo>
                <a:lnTo>
                  <a:pt x="0" y="315912"/>
                </a:lnTo>
                <a:close/>
              </a:path>
            </a:pathLst>
          </a:custGeom>
          <a:solidFill>
            <a:srgbClr val="66d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rapezoid 38"/>
          <p:cNvSpPr/>
          <p:nvPr/>
        </p:nvSpPr>
        <p:spPr>
          <a:xfrm>
            <a:off x="6148440" y="4417920"/>
            <a:ext cx="234720" cy="316080"/>
          </a:xfrm>
          <a:custGeom>
            <a:avLst/>
            <a:gdLst/>
            <a:ahLst/>
            <a:rect l="l" t="t" r="r" b="b"/>
            <a:pathLst>
              <a:path w="234950" h="315912">
                <a:moveTo>
                  <a:pt x="0" y="315912"/>
                </a:moveTo>
                <a:lnTo>
                  <a:pt x="58738" y="0"/>
                </a:lnTo>
                <a:lnTo>
                  <a:pt x="176213" y="0"/>
                </a:lnTo>
                <a:lnTo>
                  <a:pt x="234950" y="315912"/>
                </a:lnTo>
                <a:lnTo>
                  <a:pt x="0" y="315912"/>
                </a:lnTo>
                <a:close/>
              </a:path>
            </a:pathLst>
          </a:custGeom>
          <a:solidFill>
            <a:srgbClr val="66d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rapezoid 39"/>
          <p:cNvSpPr/>
          <p:nvPr/>
        </p:nvSpPr>
        <p:spPr>
          <a:xfrm>
            <a:off x="6372360" y="4417920"/>
            <a:ext cx="233280" cy="316080"/>
          </a:xfrm>
          <a:custGeom>
            <a:avLst/>
            <a:gdLst/>
            <a:ahLst/>
            <a:rect l="l" t="t" r="r" b="b"/>
            <a:pathLst>
              <a:path w="233363" h="315912">
                <a:moveTo>
                  <a:pt x="0" y="315912"/>
                </a:moveTo>
                <a:lnTo>
                  <a:pt x="58341" y="0"/>
                </a:lnTo>
                <a:lnTo>
                  <a:pt x="175022" y="0"/>
                </a:lnTo>
                <a:lnTo>
                  <a:pt x="233363" y="315912"/>
                </a:lnTo>
                <a:lnTo>
                  <a:pt x="0" y="315912"/>
                </a:lnTo>
                <a:close/>
              </a:path>
            </a:pathLst>
          </a:custGeom>
          <a:solidFill>
            <a:srgbClr val="66d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rapezoid 40"/>
          <p:cNvSpPr/>
          <p:nvPr/>
        </p:nvSpPr>
        <p:spPr>
          <a:xfrm>
            <a:off x="6594480" y="4417920"/>
            <a:ext cx="235080" cy="316080"/>
          </a:xfrm>
          <a:custGeom>
            <a:avLst/>
            <a:gdLst/>
            <a:ahLst/>
            <a:rect l="l" t="t" r="r" b="b"/>
            <a:pathLst>
              <a:path w="234950" h="315912">
                <a:moveTo>
                  <a:pt x="0" y="315912"/>
                </a:moveTo>
                <a:lnTo>
                  <a:pt x="58738" y="0"/>
                </a:lnTo>
                <a:lnTo>
                  <a:pt x="176213" y="0"/>
                </a:lnTo>
                <a:lnTo>
                  <a:pt x="234950" y="315912"/>
                </a:lnTo>
                <a:lnTo>
                  <a:pt x="0" y="315912"/>
                </a:lnTo>
                <a:close/>
              </a:path>
            </a:pathLst>
          </a:custGeom>
          <a:solidFill>
            <a:srgbClr val="66d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685800" y="14475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band sharing is allowed, would you prefer that the upper edge of the U-NII4 band be at 5.925 GHz (all 75MHz) or 5.895 GHz (only the lower 45MHz)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lower 45MHz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75MHz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opin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do not support band shar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Box 45"/>
          <p:cNvSpPr/>
          <p:nvPr/>
        </p:nvSpPr>
        <p:spPr>
          <a:xfrm>
            <a:off x="5720400" y="4114800"/>
            <a:ext cx="11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ower 45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Box 46"/>
          <p:cNvSpPr/>
          <p:nvPr/>
        </p:nvSpPr>
        <p:spPr>
          <a:xfrm>
            <a:off x="6176880" y="3886200"/>
            <a:ext cx="901440" cy="276480"/>
          </a:xfrm>
          <a:prstGeom prst="rect">
            <a:avLst/>
          </a:prstGeom>
          <a:solidFill>
            <a:srgbClr val="f5f6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ll 75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Box 1"/>
          <p:cNvSpPr/>
          <p:nvPr/>
        </p:nvSpPr>
        <p:spPr>
          <a:xfrm>
            <a:off x="5203800" y="2454120"/>
            <a:ext cx="3484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Keep/reword the question, or delete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aw poll question #8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sharing is only allowed in the lower 45MHz portion of the band (5850-5895MHz), should DSRC only use 20MHz channels in that shared portion of the band? (Note: Channels 172 &amp; 178 in Part 95 are defined as 10MHz in bandwidth, so a rule change may be required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s – only 20MHz DSRC channels in the shared ba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– DSRC should use 10MHz channe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opin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do not support band shar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Date Placeholder 3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CEB27F3-F941-458A-ACDC-6B97CEF96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aw poll question #9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 a Clear Channel Assessment approach is adopted as outlined in document 13/994r0 by Ecclesine, would unlicensed devices need to vacate the entire 5850-5925 MHz band after detecting a DSRC signal on one channel within the band in order for sharing to be feasible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es – unlicensed devices would need to vacate the entire shared band (5850-5925 MHz) after detecting a DSRC signal on one chann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 – unlicensed devices could still operate in other parts of the shared band (5850-5925 MHz) after detecting a DSRC signal on one chann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 opin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do not support band shari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Date Placeholder 3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CE97B6C-9FF3-43CE-A0A9-A62FD9D87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estions finalized on January 3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rvey Monkey poll will go out ASA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osed: 2 weeks to respon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 rolled into Section 1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nt resolution will proceed in parall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rything must be complete by March 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al straw poll to indicate approval to forward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Date Placeholder 3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BC0C75E-B782-4908-98C3-114C46C77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 of Straw Poll questions, the results of which will be incorporated into the final report of the IEEE 802.11 (Regulatory Standing Committee) DSRC Coexistence Tiger Tea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Date Placeholder 6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Slide Number Placeholder 7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0570331-553B-412A-9438-DE8A3E2F3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ound rules for straw pol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recorded participants as of the end of the January IEEE meeting will be allowed to particip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answers to the questions will be tabulated and included in Section 11 of the final repo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ach question will have a comment field to allow text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se comments will also be included in the final report.  The name of the commente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e included UNLESS the respondent says to omit his/her na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Date Placeholder 3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8514850-74D0-499F-87E5-441F9D177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aw poll question #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ive of the Tiger Team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“Create a document that describes and quantifies possible coexistence mechanisms between DSRC and extensions of the 802.11 base standard in the proposed UNII-4 band, if the FCC allows such band sharing in a future R&amp;O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 you believe that sharing of the 5.9GHz band by unlicensed (Part 15) devices should be allowed?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eds more stud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opin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Date Placeholder 3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67864E5-6116-47F6-957E-E59FE7E90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aw poll question #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arding the proposal in document 13/994r0 by Peter Ecclesine of Cisco Syste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s://mentor.ieee.org/802.11/dcn/13/11-13-0994-00-0reg-proposal-for-u-nii-4-devices.docx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{additional links?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 you believe this proposed band sharing technique has merit and, after developing a more complete definition and field testing, should be considered a basis for a band sharing solution?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enough information/needs more stud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opin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Date Placeholder 3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0B7D3A0-9963-49EF-93DF-67150BA69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aw poll question #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arding the proposal in document 13/1449r2 by Tevfik Yucek of Qualcomm (and other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s://mentor.ieee.org/802.11/dcn/13/11-13-1449-02-0reg-proposal-for-dsrc-band-coexistence.pptx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http://apps.fcc.gov/ecfs/document/view?id=7022418821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 you believe this proposed band sharing technique has merit and, after developing a more complete definition and field testing, should be considered a basis for a band sharing solution?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enough information/needs more stud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opin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Date Placeholder 3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CE05667-7357-4573-B121-3AFB0D0BB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aw poll question #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ch proposal do you support for further specification development and field testing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13/994r0 proposal by Ecclesine [1]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13/1449r2 proposal by Yucek [1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support a combination of both proposals with additional details adde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believe further study of both proposals independently is neede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ither – I do not support any band shari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le I support band sharing, I do not believe either approach can form the basis for an acceptable band sharing solution – we need something differen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Date Placeholder 3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1977144-EADB-4578-818B-B379A9720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Box 1"/>
          <p:cNvSpPr/>
          <p:nvPr/>
        </p:nvSpPr>
        <p:spPr>
          <a:xfrm>
            <a:off x="490320" y="5942160"/>
            <a:ext cx="595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ote 1: Both proposals will need additional development before field te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aw poll question #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it would enhance band sharing, would you support a proposal to move the V2V Safety Channel (currently in Channel 172) to one of the upper channels (180, 182, or 184)? (Note: this could require a rule chang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enough inform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don’t support band shar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opin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Date Placeholder 3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2E777C9-944E-4951-A2C8-55FCFC46E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Box 1"/>
          <p:cNvSpPr/>
          <p:nvPr/>
        </p:nvSpPr>
        <p:spPr>
          <a:xfrm>
            <a:off x="2463120" y="5435640"/>
            <a:ext cx="400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eed to finalize language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aw poll question #6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uld you support a proposal to use one of the upper channels (180/182/184) for BSM traffic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stead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nnel 172? (No rule change.  Part 95 still applies to Channel 172.  Channel 172 would be shared with Part 15 device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enough inform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don’t support band shar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opin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Date Placeholder 3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Footer Placeholder 4"/>
          <p:cNvSpPr/>
          <p:nvPr/>
        </p:nvSpPr>
        <p:spPr>
          <a:xfrm>
            <a:off x="6600960" y="6475320"/>
            <a:ext cx="193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m Lansford, CS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88084BF-019C-4A8E-BDCA-6C9027122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8:18:19Z</dcterms:created>
  <dc:creator>Jim Lansford</dc:creator>
  <dc:description/>
  <dc:language>en-US</dc:language>
  <cp:lastModifiedBy>Jim Lansford</cp:lastModifiedBy>
  <cp:lastPrinted>1998-02-10T13:28:06Z</cp:lastPrinted>
  <dcterms:modified xsi:type="dcterms:W3CDTF">2015-01-30T07:13:03Z</dcterms:modified>
  <cp:revision>1599</cp:revision>
  <dc:subject/>
  <dc:title>DSRC Tiger Team</dc:title>
</cp:coreProperties>
</file>