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8B382872-5B48-479D-850A-F88F52F4F3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8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8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6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0D79B3-4519-4778-8BA5-70F59E0B6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4/1031r5</a:t>
            </a:r>
            <a:endParaRPr b="0" lang="en-US" sz="1400" spc="-1" strike="noStrike">
              <a:solidFill>
                <a:srgbClr val="000000"/>
              </a:solidFill>
              <a:latin typeface="Times New Roman"/>
            </a:endParaRPr>
          </a:p>
        </p:txBody>
      </p:sp>
      <p:sp>
        <p:nvSpPr>
          <p:cNvPr id="728"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 2014</a:t>
            </a:r>
            <a:endParaRPr b="0" lang="en-US" sz="1400" spc="-1" strike="noStrike">
              <a:solidFill>
                <a:srgbClr val="000000"/>
              </a:solidFill>
              <a:latin typeface="Times New Roman"/>
            </a:endParaRPr>
          </a:p>
        </p:txBody>
      </p:sp>
      <p:sp>
        <p:nvSpPr>
          <p:cNvPr id="729" name="Rectangle 6"/>
          <p:cNvSpPr/>
          <p:nvPr/>
        </p:nvSpPr>
        <p:spPr>
          <a:xfrm>
            <a:off x="4233960" y="8985240"/>
            <a:ext cx="2262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Stephen McCann, Blackberry</a:t>
            </a:r>
            <a:endParaRPr b="0" lang="en-US" sz="1200" spc="-1" strike="noStrike">
              <a:solidFill>
                <a:srgbClr val="000000"/>
              </a:solidFill>
              <a:latin typeface="Times New Roman"/>
            </a:endParaRPr>
          </a:p>
        </p:txBody>
      </p:sp>
      <p:sp>
        <p:nvSpPr>
          <p:cNvPr id="730" name="Rectangle 7"/>
          <p:cNvSpPr/>
          <p:nvPr/>
        </p:nvSpPr>
        <p:spPr>
          <a:xfrm>
            <a:off x="30420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3CE8EC-520D-4E27-B47C-00A7698BC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34"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35"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36"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967E7CB3-0AF9-4910-AAB0-ED8DFBDE0C38}"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7680" y="696960"/>
            <a:ext cx="4640400" cy="3479760"/>
          </a:xfrm>
          <a:prstGeom prst="rect">
            <a:avLst/>
          </a:prstGeom>
          <a:ln w="0">
            <a:noFill/>
          </a:ln>
        </p:spPr>
      </p:sp>
      <p:sp>
        <p:nvSpPr>
          <p:cNvPr id="73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40"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41"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4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D6DAF84E-F5D1-47C0-8053-2DFE68137157}"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6240" y="695160"/>
            <a:ext cx="4643280" cy="3481560"/>
          </a:xfrm>
          <a:prstGeom prst="rect">
            <a:avLst/>
          </a:prstGeom>
          <a:ln w="0">
            <a:noFill/>
          </a:ln>
        </p:spPr>
      </p:sp>
      <p:sp>
        <p:nvSpPr>
          <p:cNvPr id="744"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746"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747"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Dorothy Stanley, Aruba Networks</a:t>
            </a:r>
            <a:endParaRPr b="0" lang="en-US" sz="1200" spc="-1" strike="noStrike">
              <a:solidFill>
                <a:srgbClr val="000000"/>
              </a:solidFill>
              <a:latin typeface="Times New Roman"/>
            </a:endParaRPr>
          </a:p>
        </p:txBody>
      </p:sp>
      <p:sp>
        <p:nvSpPr>
          <p:cNvPr id="74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681E9B-AF3A-4977-ABBD-167EDC4EE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50"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51"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75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CDFC75-1C1E-45D5-9A99-B4319E6EB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54160" y="701640"/>
            <a:ext cx="4626000" cy="3468600"/>
          </a:xfrm>
          <a:prstGeom prst="rect">
            <a:avLst/>
          </a:prstGeom>
          <a:ln w="0">
            <a:noFill/>
          </a:ln>
        </p:spPr>
      </p:sp>
      <p:sp>
        <p:nvSpPr>
          <p:cNvPr id="7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5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F04905-3260-4739-A2F5-FEA120114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54160" y="701640"/>
            <a:ext cx="4626000" cy="3468600"/>
          </a:xfrm>
          <a:prstGeom prst="rect">
            <a:avLst/>
          </a:prstGeom>
          <a:ln w="0">
            <a:noFill/>
          </a:ln>
        </p:spPr>
      </p:sp>
      <p:sp>
        <p:nvSpPr>
          <p:cNvPr id="7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6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165B5E-C550-4F7D-A671-ECB7E0CD1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6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6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0ECC22-28B2-41A2-879A-E62CA7068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54160" y="701640"/>
            <a:ext cx="4626000" cy="3468600"/>
          </a:xfrm>
          <a:prstGeom prst="rect">
            <a:avLst/>
          </a:prstGeom>
          <a:ln w="0">
            <a:noFill/>
          </a:ln>
        </p:spPr>
      </p:sp>
      <p:sp>
        <p:nvSpPr>
          <p:cNvPr id="7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686"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687"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Dorothy Stanley, Aruba Networks</a:t>
            </a:r>
            <a:endParaRPr b="0" lang="en-US" sz="1200" spc="-1" strike="noStrike">
              <a:solidFill>
                <a:srgbClr val="000000"/>
              </a:solidFill>
              <a:latin typeface="Times New Roman"/>
            </a:endParaRPr>
          </a:p>
        </p:txBody>
      </p:sp>
      <p:sp>
        <p:nvSpPr>
          <p:cNvPr id="68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5DCD78-9C09-465C-A5D4-406496F9F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54160" y="701640"/>
            <a:ext cx="4626000" cy="3468600"/>
          </a:xfrm>
          <a:prstGeom prst="rect">
            <a:avLst/>
          </a:prstGeom>
          <a:ln w="0">
            <a:noFill/>
          </a:ln>
        </p:spPr>
      </p:sp>
      <p:sp>
        <p:nvSpPr>
          <p:cNvPr id="6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7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7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3ED72F-A8D7-4144-A646-720852CC0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54160" y="701640"/>
            <a:ext cx="4626000" cy="3468600"/>
          </a:xfrm>
          <a:prstGeom prst="rect">
            <a:avLst/>
          </a:prstGeom>
          <a:ln w="0">
            <a:noFill/>
          </a:ln>
        </p:spPr>
      </p:sp>
      <p:sp>
        <p:nvSpPr>
          <p:cNvPr id="7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2"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83"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717AEC-63A8-4779-B975-AFE0D20E5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88"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89"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FFCB64-5CD4-494F-8507-41ECB24AB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9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9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5E2ED4-D248-4842-AE19-4B1856248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94"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95"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6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8C0530-9217-4633-9864-A927ADD5F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99"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00" name="Date Placeholder 4"/>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01" name="Footer Placeholder 5"/>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545E51-DFB3-4071-A393-1B0D49DCE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0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0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70C25F-0148-47EA-913D-91B34DE26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71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71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7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58F191-9DD5-4F5B-9D42-7CF50892E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16"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17"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1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723B9878-E8B6-4FD1-A7A6-B161BA986E03}"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7680" y="696960"/>
            <a:ext cx="4640400" cy="3479760"/>
          </a:xfrm>
          <a:prstGeom prst="rect">
            <a:avLst/>
          </a:prstGeom>
          <a:ln w="0">
            <a:noFill/>
          </a:ln>
        </p:spPr>
      </p:sp>
      <p:sp>
        <p:nvSpPr>
          <p:cNvPr id="72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ＭＳ Ｐゴシック"/>
              </a:rPr>
              <a:t>doc.: IEEE 802.11-14/1031r5</a:t>
            </a:r>
            <a:endParaRPr b="0" lang="en-US" sz="1400" spc="-1" strike="noStrike">
              <a:solidFill>
                <a:srgbClr val="000000"/>
              </a:solidFill>
              <a:latin typeface="Times New Roman"/>
            </a:endParaRPr>
          </a:p>
        </p:txBody>
      </p:sp>
      <p:sp>
        <p:nvSpPr>
          <p:cNvPr id="722" name="Rectangle 3"/>
          <p:cNvSpPr/>
          <p:nvPr/>
        </p:nvSpPr>
        <p:spPr>
          <a:xfrm>
            <a:off x="65520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September 2014</a:t>
            </a:r>
            <a:endParaRPr b="0" lang="en-US" sz="1400" spc="-1" strike="noStrike">
              <a:solidFill>
                <a:srgbClr val="000000"/>
              </a:solidFill>
              <a:latin typeface="Times New Roman"/>
            </a:endParaRPr>
          </a:p>
        </p:txBody>
      </p:sp>
      <p:sp>
        <p:nvSpPr>
          <p:cNvPr id="723" name="Rectangle 6"/>
          <p:cNvSpPr/>
          <p:nvPr/>
        </p:nvSpPr>
        <p:spPr>
          <a:xfrm>
            <a:off x="4233240" y="8985240"/>
            <a:ext cx="226368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Stephen McCann, Blackberry</a:t>
            </a:r>
            <a:endParaRPr b="0" lang="en-US" sz="1200" spc="-1" strike="noStrike">
              <a:solidFill>
                <a:srgbClr val="000000"/>
              </a:solidFill>
              <a:latin typeface="Times New Roman"/>
            </a:endParaRPr>
          </a:p>
        </p:txBody>
      </p:sp>
      <p:sp>
        <p:nvSpPr>
          <p:cNvPr id="7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ＭＳ Ｐゴシック"/>
              </a:rPr>
              <a:t>Page </a:t>
            </a:r>
            <a:fld id="{EAB06077-9AF2-40C2-A9F2-9250C1AE701C}"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BA21-8ED5-43AE-932D-3B2B64F57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635C-9C5C-456E-BD0B-08E27BDA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0F773-8166-45FF-8A12-B9AFCE420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70032-6249-458A-9EE6-F6745A119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965AF-A1E4-4EEB-9A0F-C934AE66F7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1D988-5AD5-48FD-BF92-087DDA6C2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CD807E-3061-4B61-9140-DE12C5B38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2E930-3F9C-43D3-8E4B-D7955FB163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B76FA-096A-4628-BC9F-2138191827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4A9D1B-701E-4AC5-A673-CA5716DA6F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97D9C0-EE34-4F8F-8003-62F0B0794B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F046F0-5DFE-42F1-A17C-E2F348195A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CC47A-6046-4868-A4B7-0A553DE38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8AA9FB-4057-49DF-AA3D-AB31B99C81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0D2B15-DE11-4A2D-B041-1CD31E4FDC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DC4E9B-5572-4BFF-9959-D0DF0EBE83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984904-DECF-4010-A41D-3817E45F49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97ED21-76AB-4412-BC0D-225AEE1D7D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36803D-5BB0-4BC3-9700-272E00EA2F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8E7734-D5B9-4ABF-B4F5-E9F01A433F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ED38EE-7172-4BBA-9F1C-D98C7C9D30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200A79-4264-46F8-B767-8CABC11677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C10227-CC34-4F09-9614-66E27559AC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6DC4B-2F14-4800-BD1B-455F0F7A3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E72FEA-66F3-4853-B78E-CC8E0C1C28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348398-6275-4C80-9CB9-1597786122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FDED48-0340-4944-B7C2-DB16E9E361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4603BF-D98B-4875-8B25-99942B6BE0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CDF511-F9D1-404D-881E-7F2218A881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9C06CA-C068-4D60-9DEA-6CF94D488D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BB2C6F-DC7E-40E5-907B-B3846961BA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BFE4EF-D476-4A4D-A88E-0B1919D3C0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7BD846-F238-4678-BAB9-0C3B71BC55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AD0AFB-382F-4004-A0C8-6C6F7BA02B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2B89B-1872-49DC-AA6E-933466A3E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8D0B34-81CA-4E8F-8C79-C1816CF024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06E37C-A05C-482D-8D81-84FA8B5E33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2B4E82-3FB9-4602-8182-73042A8841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F1AE73-B50D-489E-9BA1-096A777B5D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E3BE0B-7A82-4A77-9CCB-3A0BD00640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B277E2-17B2-4B64-B6C6-B3C52B8849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763F74-E9FC-444D-964A-B7CB2347FA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4E1B89-3B08-4BDE-85B4-4D06A833E8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24B7A5-3F89-4635-9262-D107C055F1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34B920-87AA-45AF-B913-9A865199DC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91B63-64B4-44A2-B09F-743618092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90131E-5CE9-4819-AB60-C799B721F5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4C7A3-F0D6-4165-96B5-1FE6668681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475212-7310-4DF9-8371-3362568BBE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6E6F9B-35B2-49F6-A50A-35BBE8359C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20039B-D1AB-4715-89AA-C6D8EDAE16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A1D72-D948-4AAA-BF14-F99723C10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97374-53B8-49CA-930D-9CC52A8BE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D6CB3-7EB8-4823-B461-13B8CFFB8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DC0CF-EB50-4FF0-B537-758CEE317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C0A1C-6C9F-43CB-8024-2C74F1246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FE50-48F0-4BD2-8740-B16123D4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45B72-BC5C-4622-AAFF-322B7280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1650-E344-4508-8C57-452D52C7B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86078-05FA-4425-A9E3-2DA4AD04C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0DE7D-CAE9-44F3-8C25-A1D2331D8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86FB1-5C5F-4D9E-B2F8-47C431352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C0B85E-CF6A-4128-9E57-9686DFEA72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2CFDB-50A8-46AD-A9CD-FFD14080E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2FE5C-59B7-4F57-AA91-FB77A2848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CCDB4-77EE-49AB-B3AF-5EBA940B9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2B866-D4D6-439E-88AC-D26CD40C6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F502-CF42-40DB-9126-C115E1AF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3CCDC-E8D0-424A-9A5F-C6ED32CE6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1FB20-E522-4609-825D-179B59898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6A177-6334-4E49-9DF1-04E7D1F68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94C8F-07B6-4AFC-894F-1594E82A0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7182C-FE0C-4CBC-B182-DDFC767CB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45611-B075-4B05-ADD7-E5C3A71DE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CF39E-08A3-47EC-8F6E-9164BED6A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D9132-D70F-4518-B6A4-1FF88C0F4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67577-DE82-4142-B005-2E0ECCEBF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05566-ABCF-4FA1-A92C-DE7E08EEC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9EC83-1D5C-4859-9399-B0F710E6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96FA4-77B0-4A80-850F-09EDDB300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AC9C4-EF54-45A6-80B5-664E0BA6A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F227D-3DCE-4B6A-A9FF-154D74567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30865-785F-4C29-BD3E-B69375191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BAD0D-2579-4AB1-88E6-C0F4548BD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07EC5-B4DD-4DF3-B8CF-C04CF8ABD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8015F-AA1E-4825-8FA2-10D7DD9AB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6679B0-0C64-415E-B38F-9FCF9A4CFE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60A5F-D538-43A5-A2A6-3F3A78D64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87FFDA-48FB-4DA6-B0FB-2794BDF044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0F94B-6A1D-420A-B7AF-7E54F623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817C2-EA84-4F0C-9844-F4A3543EF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C9792-B7BF-498A-AA4C-183E360D5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9E7D4-4FF2-42CF-AE26-642676A4F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1A391-A433-4D30-8803-D8C866812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A4321-2D7F-44B0-9802-BEF86D4B9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03398-02BD-4618-92DD-C6064C488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853F2-E3E2-4823-B2A8-CD84BDD72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1AFA5-4241-4B2E-8766-B934C7873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B5504-60E6-47D7-93BF-BAB43F22E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115A75-C4B6-4B65-9057-79E54D9D2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520B-2539-4772-B26D-B07D85F5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A10D2-D49C-477D-A10A-F6F2D715F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FB068E-6016-47F5-8341-3DF428CB9F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AA68C-1F7C-494A-8563-9C2B394B5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E64D9-CC28-4115-A137-DAE806165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E86915-D27F-411F-A903-2F74C1AC7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DE27A-E5CD-42F8-825F-3C2E7E035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D9114-9999-4A0C-8174-11E3769EA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79D1ED-5B39-40C4-BDC3-55CB28586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C08FA-E9F4-4805-B24F-8C1C1885F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D04F7-2B3B-47AD-9838-9CD33D7F1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469D-7433-4A18-BE9B-C41F37BD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752EB-D5DE-4817-977D-DF8239E65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2C9303-2C2F-4DE4-89D3-40FECF3930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2033E3-7724-407A-AA31-953621EE8A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4E34B6-3473-49E1-A215-BBA048363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1B100-C414-458A-9CE3-700F9C72C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1FC301-93D1-4558-9ADC-9CB332A30B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3EDDD-B642-4848-942C-6A5602FFE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99F6C-E23E-45FD-9C54-0DD4B320B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2AA95-08CB-40A2-A123-BA32D2D37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75C48-908C-427F-B6AC-437F6D266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BACD1-D9ED-4010-B03C-E9F9FBD1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F0D92-C1EB-46AF-9ABD-164CE637D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DAFD6-4505-423A-B752-F4A8351E8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ED339-66A2-4643-9175-602200BE9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007CE-C8C0-42B5-8796-34804988C6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A563DC-8941-4212-9CE1-2183123826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8A4B1C-43F0-4C23-BF0A-912C03B2E3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920A98-B614-4022-A9DF-DAC5B2488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400B33-112C-4604-9880-D518878265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577ED-15CC-4BDD-B188-CF6FE2F5A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C3B96-C7CD-4CF1-B90B-78198DF6C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78CA-1779-45A7-A406-5139FF30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E53EB-28AF-43C5-88AD-DB90D08BE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1DD0A-C374-4C55-97C4-4DC118C0C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C8A59-7B54-421F-8C53-F7973790D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C81AD-B984-44A3-AA51-51AB9F43D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010C2-D14D-44C0-91B7-C53958E01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E25A3A-E09F-4DA4-8BBC-E1527CBF60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32D72E-9CE9-4E16-9A83-A862055F6C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ADD2EE-CF80-4AC9-8371-678AD04AB3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7D97D-AAD1-4E4E-9A17-18CA1AB190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C9839-5FA2-4B6A-B0C2-66773F0295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Marvell Semiconductor)</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0DF2B0-C133-45DD-A5E0-327BCD5490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62FFED-7753-4765-A26F-DB3C4CEAF1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624F17-FDBD-4A79-B2FD-65C070126D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613BC75-633B-45E8-89C1-9EA8B40149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32A470C-BADA-4A7F-985A-759363AACB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00445E7-5557-4616-96BE-B283F9193B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444438D-259A-462E-B60E-17EF2087D4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88AA3B6-B186-4204-B239-40CD626676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EAAAA5C-32A6-46DB-98CD-9CC5308F08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595DBB0-A9A5-42C9-9764-3E21F905AF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172E3E0-2DAC-4E6E-BBE7-E30432B003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77144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4/01313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5541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ma Aboul-Magd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F62E983-16A7-4696-83BF-C5E66DD167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mentor.ieee.org/802.11/dcn/14/11-14-1284-00-ng60-september-2014-athens-meeting-minutes.docx"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index.html" TargetMode="External"/><Relationship Id="rId2" Type="http://schemas.openxmlformats.org/officeDocument/2006/relationships/hyperlink" Target="http://standards.ieee.org/develop/policies/opman/index.html" TargetMode="External"/><Relationship Id="rId3" Type="http://schemas.openxmlformats.org/officeDocument/2006/relationships/hyperlink" Target="http://standards.ieee.org/board/pat/pat-material.html" TargetMode="External"/><Relationship Id="rId4" Type="http://schemas.openxmlformats.org/officeDocument/2006/relationships/hyperlink" Target="mailto:patcom@ieee.org" TargetMode="External"/><Relationship Id="rId5" Type="http://schemas.openxmlformats.org/officeDocument/2006/relationships/hyperlink" Target="http://standards.ieee.org/board/pat/index.html" TargetMode="External"/><Relationship Id="rId6" Type="http://schemas.openxmlformats.org/officeDocument/2006/relationships/hyperlink" Target="http://standards.ieee.org/board/pat/pat-sildeset.ppt" TargetMode="External"/><Relationship Id="rId7" Type="http://schemas.openxmlformats.org/officeDocument/2006/relationships/slideLayout" Target="../slideLayouts/slideLayout2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5A2E3D-9BB3-4972-B3FE-C36EC08C6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November 2014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9-30</a:t>
            </a:r>
            <a:endParaRPr b="1" lang="en-US" sz="2000" spc="-1" strike="noStrike">
              <a:solidFill>
                <a:srgbClr val="000000"/>
              </a:solidFill>
              <a:latin typeface="Times New Roman"/>
            </a:endParaRPr>
          </a:p>
        </p:txBody>
      </p:sp>
      <p:graphicFrame>
        <p:nvGraphicFramePr>
          <p:cNvPr id="555" name="Object 11"/>
          <p:cNvGraphicFramePr/>
          <p:nvPr/>
        </p:nvGraphicFramePr>
        <p:xfrm>
          <a:off x="674640" y="2666880"/>
          <a:ext cx="7817040" cy="939960"/>
        </p:xfrm>
        <a:graphic>
          <a:graphicData uri="http://schemas.openxmlformats.org/presentationml/2006/ole">
            <p:oleObj progId="Word.Document.12" r:id="rId1" spid="">
              <p:embed/>
              <p:pic>
                <p:nvPicPr>
                  <p:cNvPr id="556" name="Object 11" descr=""/>
                  <p:cNvPicPr/>
                  <p:nvPr/>
                </p:nvPicPr>
                <p:blipFill>
                  <a:blip r:embed="rId2"/>
                  <a:stretch/>
                </p:blipFill>
                <p:spPr>
                  <a:xfrm>
                    <a:off x="674640" y="2666880"/>
                    <a:ext cx="7817040" cy="93996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103AAA-C61D-43B9-84BA-6306ADCAA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1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speak up now or</a:t>
            </a:r>
            <a:endParaRPr b="1"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the chair of this group with the identity of the holder(s) of any and all such claims as soon as possible or</a:t>
            </a:r>
            <a:endParaRPr b="1"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an LOA to be submitted</a:t>
            </a:r>
            <a:endParaRPr b="1" lang="en-US" sz="1600" spc="-1" strike="noStrike">
              <a:solidFill>
                <a:srgbClr val="000000"/>
              </a:solidFill>
              <a:latin typeface="Times New Roman"/>
            </a:endParaRPr>
          </a:p>
        </p:txBody>
      </p:sp>
      <p:sp>
        <p:nvSpPr>
          <p:cNvPr id="6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0" lang="en-US" sz="3200" spc="-1" strike="noStrike">
              <a:solidFill>
                <a:srgbClr val="000000"/>
              </a:solidFill>
              <a:latin typeface="Times New Roman"/>
            </a:endParaRPr>
          </a:p>
        </p:txBody>
      </p:sp>
      <p:sp>
        <p:nvSpPr>
          <p:cNvPr id="60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76FD4D0E-AF94-44D6-9128-2610A7611B86}"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4"/>
          <p:cNvSpPr/>
          <p:nvPr/>
        </p:nvSpPr>
        <p:spPr>
          <a:xfrm>
            <a:off x="685800" y="1484280"/>
            <a:ext cx="7848720" cy="4749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gn="just">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interpretation, validity, or essentiality of patents/patent claims. </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specific license rates, terms, or conditions.</a:t>
            </a:r>
            <a:endParaRPr b="0" lang="en-US" sz="1600" spc="-1" strike="noStrike">
              <a:solidFill>
                <a:srgbClr val="000000"/>
              </a:solidFill>
              <a:latin typeface="Times New Roman"/>
            </a:endParaRPr>
          </a:p>
          <a:p>
            <a:pPr lvl="1" marL="743040" indent="-285840" algn="just">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Relative costs, including licensing costs of essential patent claims, of different technical approaches November be discussed in standards development meetings. </a:t>
            </a:r>
            <a:endParaRPr b="0" lang="en-US" sz="1400" spc="-1" strike="noStrike">
              <a:solidFill>
                <a:srgbClr val="000000"/>
              </a:solidFill>
              <a:latin typeface="Times New Roman"/>
            </a:endParaRPr>
          </a:p>
          <a:p>
            <a:pPr lvl="2" marL="1200240" indent="-285840" algn="just">
              <a:lnSpc>
                <a:spcPct val="100000"/>
              </a:lnSpc>
              <a:spcBef>
                <a:spcPts val="300"/>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S PGothic"/>
              </a:rPr>
              <a:t>Technical considerations remain primary focus</a:t>
            </a:r>
            <a:endParaRPr b="0" lang="en-US" sz="14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discuss the status or substance of ongoing or threatened litigation.</a:t>
            </a:r>
            <a:endParaRPr b="0" lang="en-US" sz="1600" spc="-1" strike="noStrike">
              <a:solidFill>
                <a:srgbClr val="000000"/>
              </a:solidFill>
              <a:latin typeface="Times New Roman"/>
            </a:endParaRPr>
          </a:p>
          <a:p>
            <a:pPr marL="230040" indent="-230040" algn="just">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n</a:t>
            </a:r>
            <a:r>
              <a:rPr b="1" lang="en-US" sz="1600" spc="-1" strike="noStrike">
                <a:solidFill>
                  <a:srgbClr val="000000"/>
                </a:solidFill>
                <a:latin typeface="Arial"/>
              </a:rPr>
              <a:t>’</a:t>
            </a:r>
            <a:r>
              <a:rPr b="1" lang="en-US" sz="1600" spc="-1" strike="noStrike">
                <a:solidFill>
                  <a:srgbClr val="000000"/>
                </a:solidFill>
                <a:latin typeface="Times New Roman"/>
              </a:rPr>
              <a:t>t be silent if inappropriate topics are discussed </a:t>
            </a:r>
            <a:r>
              <a:rPr b="1" lang="en-US" sz="1600" spc="-1" strike="noStrike">
                <a:solidFill>
                  <a:srgbClr val="000000"/>
                </a:solidFill>
                <a:latin typeface="Arial"/>
              </a:rPr>
              <a:t>…</a:t>
            </a:r>
            <a:r>
              <a:rPr b="1" lang="en-US" sz="1600" spc="-1" strike="noStrike">
                <a:solidFill>
                  <a:srgbClr val="000000"/>
                </a:solidFill>
                <a:latin typeface="Times New Roman"/>
              </a:rPr>
              <a:t>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0" i="1" lang="en-US" sz="1000" spc="-1" strike="noStrike">
                <a:solidFill>
                  <a:srgbClr val="000000"/>
                </a:solidFill>
                <a:latin typeface="Times New Roman"/>
              </a:rPr>
              <a:t>IEEE-SA Standards Board Operations Manual</a:t>
            </a:r>
            <a:r>
              <a:rPr b="0" lang="en-US" sz="1000" spc="-1" strike="noStrike">
                <a:solidFill>
                  <a:srgbClr val="000000"/>
                </a:solidFill>
                <a:latin typeface="Times New Roman"/>
              </a:rPr>
              <a:t>, clause 5.3.10 and </a:t>
            </a:r>
            <a:r>
              <a:rPr b="0" lang="en-GB" sz="1000" spc="-1" strike="noStrike">
                <a:solidFill>
                  <a:srgbClr val="000000"/>
                </a:solidFill>
                <a:latin typeface="Times New Roman"/>
              </a:rPr>
              <a:t>“Promoting Competition and Innovation: What You Need to Know about the IEEE Standards Association's Antitrust and Competition Policy”</a:t>
            </a:r>
            <a:r>
              <a:rPr b="0" lang="en-US" sz="1000" spc="-1" strike="noStrike">
                <a:solidFill>
                  <a:srgbClr val="000000"/>
                </a:solidFill>
                <a:latin typeface="Times New Roman"/>
              </a:rPr>
              <a:t> for more details.</a:t>
            </a:r>
            <a:endParaRPr b="0" lang="en-US" sz="10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s for IEEE WG Meetings</a:t>
            </a:r>
            <a:endParaRPr b="0" lang="en-US" sz="3200" spc="-1" strike="noStrike">
              <a:solidFill>
                <a:srgbClr val="000000"/>
              </a:solidFill>
              <a:latin typeface="Times New Roman"/>
            </a:endParaRPr>
          </a:p>
        </p:txBody>
      </p:sp>
      <p:sp>
        <p:nvSpPr>
          <p:cNvPr id="60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0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9A106C92-AD0E-45A9-A580-CD89E2875541}"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10" name="PlaceHolder 1"/>
          <p:cNvSpPr>
            <a:spLocks noGrp="1"/>
          </p:cNvSpPr>
          <p:nvPr>
            <p:ph/>
          </p:nvPr>
        </p:nvSpPr>
        <p:spPr>
          <a:xfrm>
            <a:off x="685800" y="1600200"/>
            <a:ext cx="7772400" cy="36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Disclosure of Affiliation </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tandards.ieee.org/faqs/affiliationFAQ.html</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s to IEEE Antitrust Guidelines</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tandards.ieee.org/resources/antitrust-guidelines.pdf</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Code of Ethics</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3"/>
              </a:rPr>
              <a:t>http://www.ieee.org/web/membership/ethics/code_ethics.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k to IEEE Patent Policy</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4"/>
              </a:rPr>
              <a:t>http://standards.ieee.org/board/pat/pat-slideset.ppt</a:t>
            </a:r>
            <a:endParaRPr b="0" lang="en-US" sz="2000" spc="-1" strike="noStrike">
              <a:solidFill>
                <a:srgbClr val="000000"/>
              </a:solidFill>
              <a:latin typeface="Times New Roman"/>
            </a:endParaRPr>
          </a:p>
        </p:txBody>
      </p:sp>
      <p:sp>
        <p:nvSpPr>
          <p:cNvPr id="61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s – URLs</a:t>
            </a:r>
            <a:endParaRPr b="0" lang="en-US" sz="3200" spc="-1" strike="noStrike">
              <a:solidFill>
                <a:srgbClr val="000000"/>
              </a:solidFill>
              <a:latin typeface="Times New Roman"/>
            </a:endParaRPr>
          </a:p>
        </p:txBody>
      </p:sp>
      <p:sp>
        <p:nvSpPr>
          <p:cNvPr id="61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1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B15E2F-BC12-485B-BB20-1124816D4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61117-3E7F-4D11-8E9B-0A981633D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NG60 S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endParaRPr b="0" lang="en-US" sz="3200" spc="-1" strike="noStrike">
              <a:solidFill>
                <a:srgbClr val="000000"/>
              </a:solidFill>
              <a:latin typeface="Times New Roman"/>
            </a:endParaRPr>
          </a:p>
        </p:txBody>
      </p:sp>
      <p:sp>
        <p:nvSpPr>
          <p:cNvPr id="61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1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B72F01-51B9-4172-9024-22ED28D51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Submission</a:t>
            </a:r>
            <a:endParaRPr b="0" lang="en-US" sz="3200" spc="-1" strike="noStrike">
              <a:solidFill>
                <a:srgbClr val="000000"/>
              </a:solidFill>
              <a:latin typeface="Times New Roman"/>
            </a:endParaRPr>
          </a:p>
        </p:txBody>
      </p:sp>
      <p:graphicFrame>
        <p:nvGraphicFramePr>
          <p:cNvPr id="622" name=""/>
          <p:cNvGraphicFramePr/>
          <p:nvPr/>
        </p:nvGraphicFramePr>
        <p:xfrm>
          <a:off x="685800" y="1752480"/>
          <a:ext cx="7772400" cy="4449960"/>
        </p:xfrm>
        <a:graphic>
          <a:graphicData uri="http://schemas.openxmlformats.org/drawingml/2006/table">
            <a:tbl>
              <a:tblPr/>
              <a:tblGrid>
                <a:gridCol w="2286000"/>
                <a:gridCol w="2895480"/>
                <a:gridCol w="2590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ocument 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esent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lo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2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F46CD4-266B-4096-A193-3EBC7B115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p:nvPr>
        </p:nvSpPr>
        <p:spPr>
          <a:xfrm>
            <a:off x="685800" y="1599840"/>
            <a:ext cx="4114800" cy="42670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5800" indent="-32580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8:00am – 10:00am</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for submiss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from September 2014 Meeting</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da setting</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Prior Meeting Minute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Group Timeline and Deliverable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lvl="1" marL="705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325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 8:00am – 10:00am</a:t>
            </a:r>
            <a:endParaRPr b="1" lang="en-US" sz="18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05600" indent="-271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ss</a:t>
            </a:r>
            <a:endParaRPr b="0" lang="en-US" sz="14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27" name="PlaceHolder 2"/>
          <p:cNvSpPr>
            <a:spLocks noGrp="1"/>
          </p:cNvSpPr>
          <p:nvPr>
            <p:ph/>
          </p:nvPr>
        </p:nvSpPr>
        <p:spPr>
          <a:xfrm>
            <a:off x="4419720" y="1752480"/>
            <a:ext cx="4038480" cy="411480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rsday, 4:00pm – 6:00pm</a:t>
            </a: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January 2015</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ion: Study Group Extension</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conference Schedul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29"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BB7F82-F5E4-4E35-9E1D-37BAE9877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rom September 2014 Meeting</a:t>
            </a:r>
            <a:endParaRPr b="0" lang="en-US" sz="3200" spc="-1" strike="noStrike">
              <a:solidFill>
                <a:srgbClr val="000000"/>
              </a:solidFill>
              <a:latin typeface="Times New Roman"/>
            </a:endParaRPr>
          </a:p>
        </p:txBody>
      </p:sp>
      <p:sp>
        <p:nvSpPr>
          <p:cNvPr id="63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has agreed to a leadership structure and completed the elections of a SG chair and a secretary</a:t>
            </a:r>
            <a:endParaRPr b="0" lang="en-US" sz="2400" spc="-1" strike="noStrike">
              <a:solidFill>
                <a:srgbClr val="000000"/>
              </a:solidFill>
              <a:latin typeface="Times New Roman"/>
            </a:endParaRPr>
          </a:p>
          <a:p>
            <a:pPr marL="343080" indent="-343080" algn="just">
              <a:lnSpc>
                <a:spcPct val="90000"/>
              </a:lnSpc>
              <a:spcBef>
                <a:spcPts val="1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submissions were covered during the meeting covering areas related to:</a:t>
            </a:r>
            <a:endParaRPr b="0" lang="en-US" sz="24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Use case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hannel model</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raft PAR and CSD proposal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does not approve issuing a press release to announce its creat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ADDFA7-8D32-49A7-AFAB-E89C09617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Timeline and Deliverable</a:t>
            </a:r>
            <a:endParaRPr b="0" lang="en-US" sz="3200" spc="-1" strike="noStrike">
              <a:solidFill>
                <a:srgbClr val="000000"/>
              </a:solidFill>
              <a:latin typeface="Times New Roman"/>
            </a:endParaRPr>
          </a:p>
        </p:txBody>
      </p:sp>
      <p:sp>
        <p:nvSpPr>
          <p:cNvPr id="63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3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timeline is reviewed and no question raised:</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eptember 2014 through January 2015 (inclusive): develop PAR and CS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January 2015: submit PAR and CSD for Working Group approv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4135D6-3F5E-4964-86D9-DAC49A76A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5: Prior Meeting Minutes</a:t>
            </a:r>
            <a:endParaRPr b="0" lang="en-US" sz="3200" spc="-1" strike="noStrike">
              <a:solidFill>
                <a:srgbClr val="000000"/>
              </a:solidFill>
              <a:latin typeface="Times New Roman"/>
            </a:endParaRPr>
          </a:p>
        </p:txBody>
      </p:sp>
      <p:sp>
        <p:nvSpPr>
          <p:cNvPr id="6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NG60 Study Group minutes of meetings from September 2014:</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ea typeface="MS PGothic"/>
                <a:hlinkClick r:id="rId1"/>
              </a:rPr>
              <a:t>https://mentor.ieee.org/802.11/dcn/14/11-14-1284-00-ng60-september-2014-athens-meeting-minutes.docx</a:t>
            </a:r>
            <a:r>
              <a:rPr b="0" lang="en-US" sz="2000" spc="-1" strike="noStrike" u="sng">
                <a:solidFill>
                  <a:srgbClr val="000000"/>
                </a:solidFill>
                <a:uFillTx/>
                <a:latin typeface="Times New Roman"/>
                <a:ea typeface="MS PGothic"/>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F6238F-397E-47A3-A1C4-2A0D3E050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8:00am – 10:00a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4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ED366C-6610-4413-BE52-A113ACD92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NG60 Study Group agenda for the November 2014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6447DA-0769-46E6-A827-1278EC90A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52"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5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5DEF72-8890-43AD-918A-595A2D3D6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4:00pm – 6:00p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5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59D16E-57D1-4B17-B46C-BD4FB4AB5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for Meeting Slot #3</a:t>
            </a:r>
            <a:endParaRPr b="0" lang="en-US" sz="3200" spc="-1" strike="noStrike">
              <a:solidFill>
                <a:srgbClr val="000000"/>
              </a:solidFill>
              <a:latin typeface="Times New Roman"/>
            </a:endParaRPr>
          </a:p>
        </p:txBody>
      </p:sp>
      <p:sp>
        <p:nvSpPr>
          <p:cNvPr id="66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Extension Mo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for January 2015</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conference Schedul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6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387AFA-9E24-4C73-A37C-BA8799E05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 Study Group Extension</a:t>
            </a:r>
            <a:endParaRPr b="0" lang="en-US" sz="3200" spc="-1" strike="noStrike">
              <a:solidFill>
                <a:srgbClr val="000000"/>
              </a:solidFill>
              <a:latin typeface="Times New Roman"/>
            </a:endParaRPr>
          </a:p>
        </p:txBody>
      </p:sp>
      <p:sp>
        <p:nvSpPr>
          <p:cNvPr id="66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LMSC to extend the IEEE 802.11 NG60 Study Group.</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6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B1F762-B917-4CD9-8123-918FC0A98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 for January 2015</a:t>
            </a:r>
            <a:endParaRPr b="0" lang="en-US" sz="3200" spc="-1" strike="noStrike">
              <a:solidFill>
                <a:srgbClr val="000000"/>
              </a:solidFill>
              <a:latin typeface="Times New Roman"/>
            </a:endParaRPr>
          </a:p>
        </p:txBody>
      </p:sp>
      <p:sp>
        <p:nvSpPr>
          <p:cNvPr id="671"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ize PAR and CSD for Working Group Approval</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440960-70D9-47BB-8113-E86100C82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Schedule</a:t>
            </a:r>
            <a:endParaRPr b="0" lang="en-US" sz="3200" spc="-1" strike="noStrike">
              <a:solidFill>
                <a:srgbClr val="000000"/>
              </a:solidFill>
              <a:latin typeface="Times New Roman"/>
            </a:endParaRPr>
          </a:p>
        </p:txBody>
      </p:sp>
      <p:sp>
        <p:nvSpPr>
          <p:cNvPr id="676"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BD</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67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C1A03C-AC62-42CA-9283-C1CDC94C0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60 SG Schedule in a Glance</a:t>
            </a:r>
            <a:endParaRPr b="0" lang="en-US" sz="3200" spc="-1" strike="noStrike">
              <a:solidFill>
                <a:srgbClr val="000000"/>
              </a:solidFill>
              <a:latin typeface="Times New Roman"/>
            </a:endParaRPr>
          </a:p>
        </p:txBody>
      </p:sp>
      <p:graphicFrame>
        <p:nvGraphicFramePr>
          <p:cNvPr id="565" name=""/>
          <p:cNvGraphicFramePr/>
          <p:nvPr/>
        </p:nvGraphicFramePr>
        <p:xfrm>
          <a:off x="685800" y="1828800"/>
          <a:ext cx="7620120" cy="2225520"/>
        </p:xfrm>
        <a:graphic>
          <a:graphicData uri="http://schemas.openxmlformats.org/drawingml/2006/table">
            <a:tbl>
              <a:tblPr/>
              <a:tblGrid>
                <a:gridCol w="1270080"/>
                <a:gridCol w="1270080"/>
                <a:gridCol w="1269720"/>
                <a:gridCol w="1270080"/>
                <a:gridCol w="1270080"/>
                <a:gridCol w="12700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6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66"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8BE82C-0779-4A58-8E3E-70BD91719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5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minutes from September 2014 sess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 SG timeline and deliver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Study Group extension mo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teleconference tim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34E2EE-99FC-43B7-A4F2-E1A8CC477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8:00am – 10:00am</a:t>
            </a:r>
            <a:endParaRPr b="0" lang="en-US" sz="36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4B1EA5-FD3B-4A8B-AA21-BCF1CF1A0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57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for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Settin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from September 2014</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rior Meeting Minut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Timeline and Deliverab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08E5C2-88C3-44B0-8E74-BC044F2CC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58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D75F3AC9-59D9-4490-8BBC-97B368327EFC}"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88"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Rectangle 4"/>
          <p:cNvSpPr/>
          <p:nvPr/>
        </p:nvSpPr>
        <p:spPr>
          <a:xfrm>
            <a:off x="609480" y="1577880"/>
            <a:ext cx="7925040" cy="5127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lgn="just">
              <a:lnSpc>
                <a:spcPct val="10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Personal awareness” means that the participant “is personally aware that the holder November have a potential Essential Patent Claim,” even if the participant is not personally aware of the specific patents or</a:t>
            </a:r>
            <a:r>
              <a:rPr b="0" lang="en-US" sz="1400" spc="-1" strike="noStrike">
                <a:solidFill>
                  <a:srgbClr val="ff3300"/>
                </a:solidFill>
                <a:latin typeface="Times New Roman"/>
                <a:ea typeface="MS PGothic"/>
              </a:rPr>
              <a:t> </a:t>
            </a:r>
            <a:r>
              <a:rPr b="0" lang="en-US" sz="1400" spc="-1" strike="noStrike">
                <a:solidFill>
                  <a:srgbClr val="000000"/>
                </a:solidFill>
                <a:latin typeface="Times New Roman"/>
                <a:ea typeface="MS PGothic"/>
              </a:rPr>
              <a:t>patent claims</a:t>
            </a:r>
            <a:endParaRPr b="0" lang="en-US" sz="14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30360" indent="-285840" algn="just">
              <a:lnSpc>
                <a:spcPct val="10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ove does not apply if the patent</a:t>
            </a:r>
            <a:r>
              <a:rPr b="0" lang="en-US" sz="1600" spc="-1" strike="noStrike">
                <a:solidFill>
                  <a:srgbClr val="ff3300"/>
                </a:solidFill>
                <a:latin typeface="Times New Roman"/>
                <a:ea typeface="MS PGothic"/>
              </a:rPr>
              <a:t> </a:t>
            </a:r>
            <a:r>
              <a:rPr b="0" lang="en-US" sz="1600" spc="-1" strike="noStrike">
                <a:solidFill>
                  <a:srgbClr val="000000"/>
                </a:solidFill>
                <a:latin typeface="Times New Roman"/>
                <a:ea typeface="MS PGothic"/>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2" marL="1143000" indent="-228600" algn="just">
              <a:lnSpc>
                <a:spcPct val="10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S PGothic"/>
              </a:rPr>
              <a:t>Quoted text excerpted from IEEE-SA Standards Board Bylaws subclause 6.2</a:t>
            </a:r>
            <a:endParaRPr b="0" lang="en-US" sz="1400" spc="-1" strike="noStrike">
              <a:solidFill>
                <a:srgbClr val="000000"/>
              </a:solidFill>
              <a:latin typeface="Times New Roman"/>
            </a:endParaRPr>
          </a:p>
          <a:p>
            <a:pPr marL="230040" indent="-23004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5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Patents and Duty to Inform</a:t>
            </a:r>
            <a:endParaRPr b="0" lang="en-US" sz="3200" spc="-1" strike="noStrike">
              <a:solidFill>
                <a:srgbClr val="000000"/>
              </a:solidFill>
              <a:latin typeface="Times New Roman"/>
            </a:endParaRPr>
          </a:p>
        </p:txBody>
      </p:sp>
      <p:sp>
        <p:nvSpPr>
          <p:cNvPr id="591"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Slide </a:t>
            </a:r>
            <a:fld id="{46A6A5F5-E61D-4C05-933B-5B2922BBB445}"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94" name="PlaceHolder 1"/>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participants should be familiar with their obligations under the IEEE-SA Policies &amp; Procedures for standards development.</a:t>
            </a:r>
            <a:endParaRPr b="1" lang="en-US" sz="1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ent Policy is stated in these sources:</a:t>
            </a:r>
            <a:endParaRPr b="1"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SA Standards Boards Bylaws</a:t>
            </a:r>
            <a:r>
              <a:rPr b="0" lang="en-US" sz="1600" spc="-1" strike="noStrike" u="sng">
                <a:solidFill>
                  <a:srgbClr val="0066ff"/>
                </a:solidFill>
                <a:uFillTx/>
                <a:latin typeface="Times New Roman"/>
                <a:hlinkClick r:id="rId1"/>
              </a:rPr>
              <a:t>http://standards.ieee.org/develop/policies/bylaws/index.html</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SA Standards Board Operations Manual</a:t>
            </a:r>
            <a:endParaRPr b="0" lang="en-US" sz="16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develop/policies/opman/index.html</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Material about the patent policy is available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pat-material.html</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you have questions, contact the IEEE-SA Standards Board Patent Committee Administrator at </a:t>
            </a:r>
            <a:r>
              <a:rPr b="1" lang="en-US" sz="1800" spc="-1" strike="noStrike" u="sng">
                <a:solidFill>
                  <a:srgbClr val="0066ff"/>
                </a:solidFill>
                <a:uFillTx/>
                <a:latin typeface="Times New Roman"/>
                <a:ea typeface="Times New Roman"/>
                <a:hlinkClick r:id="rId4"/>
              </a:rPr>
              <a:t>patcom@ieee.org</a:t>
            </a:r>
            <a:r>
              <a:rPr b="1" lang="en-US" sz="1800" spc="-1" strike="noStrike">
                <a:solidFill>
                  <a:srgbClr val="000000"/>
                </a:solidFill>
                <a:latin typeface="Times New Roman"/>
                <a:ea typeface="Times New Roman"/>
              </a:rPr>
              <a:t> or visit </a:t>
            </a:r>
            <a:r>
              <a:rPr b="1" lang="en-US" sz="1800" spc="-1" strike="noStrike" u="sng">
                <a:solidFill>
                  <a:srgbClr val="0066ff"/>
                </a:solidFill>
                <a:uFillTx/>
                <a:latin typeface="Times New Roman"/>
                <a:ea typeface="Times New Roman"/>
                <a:hlinkClick r:id="rId5"/>
              </a:rPr>
              <a:t>http://standards.ieee.org/board/pat/index.html</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s slide set is available at </a:t>
            </a:r>
            <a:r>
              <a:rPr b="1" lang="en-US" sz="1800" spc="-1" strike="noStrike" u="sng">
                <a:solidFill>
                  <a:srgbClr val="0066ff"/>
                </a:solidFill>
                <a:uFillTx/>
                <a:latin typeface="Times New Roman"/>
                <a:ea typeface="Times New Roman"/>
                <a:hlinkClick r:id="rId6"/>
              </a:rPr>
              <a:t>http://standards.ieee.org/board/pat/pat-sildeset.ppt</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Links</a:t>
            </a:r>
            <a:endParaRPr b="0" lang="en-US" sz="3200" spc="-1" strike="noStrike">
              <a:solidFill>
                <a:srgbClr val="000000"/>
              </a:solidFill>
              <a:latin typeface="Times New Roman"/>
            </a:endParaRPr>
          </a:p>
        </p:txBody>
      </p:sp>
      <p:sp>
        <p:nvSpPr>
          <p:cNvPr id="596" name="Date Placeholder 3"/>
          <p:cNvSpPr/>
          <p:nvPr/>
        </p:nvSpPr>
        <p:spPr>
          <a:xfrm>
            <a:off x="7077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
  <dc:language>en-US</dc:language>
  <cp:lastModifiedBy>Edward</cp:lastModifiedBy>
  <cp:lastPrinted>1998-02-10T13:28:06Z</cp:lastPrinted>
  <dcterms:modified xsi:type="dcterms:W3CDTF">2014-09-28T03:25:29Z</dcterms:modified>
  <cp:revision>1286</cp:revision>
  <dc:subject/>
  <dc:title>NG60 SG November 2014 Meeting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ies>
</file>