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05F00B9-4561-4676-B606-E7D9DFE64E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8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8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6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DD6621-C56C-4944-BE5F-86DC965DA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1031r5</a:t>
            </a:r>
            <a:endParaRPr b="0" lang="en-US" sz="1400" spc="-1" strike="noStrike">
              <a:solidFill>
                <a:srgbClr val="000000"/>
              </a:solidFill>
              <a:latin typeface="Times New Roman"/>
            </a:endParaRPr>
          </a:p>
        </p:txBody>
      </p:sp>
      <p:sp>
        <p:nvSpPr>
          <p:cNvPr id="728"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729" name="Rectangle 6"/>
          <p:cNvSpPr/>
          <p:nvPr/>
        </p:nvSpPr>
        <p:spPr>
          <a:xfrm>
            <a:off x="4233960" y="898524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730" name="Rectangle 7"/>
          <p:cNvSpPr/>
          <p:nvPr/>
        </p:nvSpPr>
        <p:spPr>
          <a:xfrm>
            <a:off x="30420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F0B199-7294-4046-B89D-38E86AF26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34"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35"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C80DB526-7E1C-4F97-9C49-144F785D7FF0}"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7680" y="696960"/>
            <a:ext cx="4640400" cy="3479760"/>
          </a:xfrm>
          <a:prstGeom prst="rect">
            <a:avLst/>
          </a:prstGeom>
          <a:ln w="0">
            <a:noFill/>
          </a:ln>
        </p:spPr>
      </p:sp>
      <p:sp>
        <p:nvSpPr>
          <p:cNvPr id="73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40"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41"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F1C36565-7998-40B5-A663-C74E9C00A0FD}"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6240" y="695160"/>
            <a:ext cx="4643280" cy="3481560"/>
          </a:xfrm>
          <a:prstGeom prst="rect">
            <a:avLst/>
          </a:prstGeom>
          <a:ln w="0">
            <a:noFill/>
          </a:ln>
        </p:spPr>
      </p:sp>
      <p:sp>
        <p:nvSpPr>
          <p:cNvPr id="744"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746"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747"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Dorothy Stanley, Aruba Networks</a:t>
            </a:r>
            <a:endParaRPr b="0" lang="en-US" sz="1200" spc="-1" strike="noStrike">
              <a:solidFill>
                <a:srgbClr val="000000"/>
              </a:solidFill>
              <a:latin typeface="Times New Roman"/>
            </a:endParaRPr>
          </a:p>
        </p:txBody>
      </p:sp>
      <p:sp>
        <p:nvSpPr>
          <p:cNvPr id="7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7DC431-5B32-41E5-AFCA-59CF938F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5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5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7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389F52-02C3-44A5-AEE0-99861E916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54160" y="701640"/>
            <a:ext cx="4626000" cy="3468600"/>
          </a:xfrm>
          <a:prstGeom prst="rect">
            <a:avLst/>
          </a:prstGeom>
          <a:ln w="0">
            <a:noFill/>
          </a:ln>
        </p:spPr>
      </p:sp>
      <p:sp>
        <p:nvSpPr>
          <p:cNvPr id="7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3F7B40-26C2-48AA-8E62-77DE44BAD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6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5D3A7D-45CD-4377-86FA-F44984B31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6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9EEF20-1AEA-4157-A591-3E0652566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54160" y="701640"/>
            <a:ext cx="4626000" cy="3468600"/>
          </a:xfrm>
          <a:prstGeom prst="rect">
            <a:avLst/>
          </a:prstGeom>
          <a:ln w="0">
            <a:noFill/>
          </a:ln>
        </p:spPr>
      </p:sp>
      <p:sp>
        <p:nvSpPr>
          <p:cNvPr id="7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686"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687"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Dorothy Stanley, Aruba Networks</a:t>
            </a:r>
            <a:endParaRPr b="0" lang="en-US" sz="1200" spc="-1" strike="noStrike">
              <a:solidFill>
                <a:srgbClr val="000000"/>
              </a:solidFill>
              <a:latin typeface="Times New Roman"/>
            </a:endParaRPr>
          </a:p>
        </p:txBody>
      </p:sp>
      <p:sp>
        <p:nvSpPr>
          <p:cNvPr id="68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56F9AD-DA25-49F3-860B-7481ADD3E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7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9B5907-B8B6-47AE-8B9D-3CEDA54D0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2"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83"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EEBEAF-56CA-43A8-BAD9-A55705146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8"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89"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6922A1-7BD6-42A6-A869-CEF0AC3E9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9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9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64846-7A2B-4170-8462-38FD49599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9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9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682AB6-B00A-423A-B577-BD821316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9"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00"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01"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72E36D-FD80-4E8A-88DE-5636FCE9D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0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0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EB0556-8C08-43FB-8E5A-E58D4C79B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1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1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D11361-99DD-443A-A8DA-77D883EC3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16"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17"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1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30374964-616D-49F0-AE95-33C57F87E398}"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7680" y="696960"/>
            <a:ext cx="4640400" cy="3479760"/>
          </a:xfrm>
          <a:prstGeom prst="rect">
            <a:avLst/>
          </a:prstGeom>
          <a:ln w="0">
            <a:noFill/>
          </a:ln>
        </p:spPr>
      </p:sp>
      <p:sp>
        <p:nvSpPr>
          <p:cNvPr id="72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22"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23"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8CEC8FA0-BE66-4F41-914A-0871BA6C9DD0}"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54FD-D0F4-4650-AE05-3B56388F6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FF173-0910-4FFD-9820-2B50AFFD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7BBC6-E730-4475-B1D4-1253B028C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035472-D95F-47D7-A817-EBEA9CACF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E04FB-7869-4829-86EE-4EC972571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214DC-17D4-442E-867F-80AF801AB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F42EE-41B5-492D-8F65-BEB3C1109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1F9F7-682E-486A-8DA6-729A2E977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1B6C4-58F5-4C15-93B2-7297B591C9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4DAF91-BC50-4A98-9FFF-D13210BC9F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42B05A-CAFC-4003-B62B-83B68F65DA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3797AE-5189-4EE7-9975-E69E3A7D87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36BB5-137E-4567-9B96-D5E677E9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287C7E-DA9D-4FA5-A230-C6E8C3643E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0647B4-DA3B-4EFA-BCB8-55883BB793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E5B088-9945-4FDE-B3D6-8C3D8D2457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875053-E41B-446E-855D-F748EE3726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CBD4F9-60A8-480D-819D-3AD225EE08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8AADB8-9965-47AA-BF01-C3D77E0E4E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A5D384-A844-479C-BEF1-44027EFF3B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7E0A13-B31D-40AC-BFD5-7C794BB7C0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372CD1-09A7-412C-9171-6C052BDD26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EEEC39-5A9F-4591-BB11-D743EF8C45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2A282-4DC9-413B-8AB2-0BA1ABB9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3DEE2A-A90C-4F0F-ADE0-3988E85429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76018E-D529-4DAE-9151-0938359DF2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55D879-BC7A-453A-BBF3-9001B1DBB7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A77062-E337-4DB3-A29D-0403AAFD04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065304-DC3C-4107-99CE-989263132D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94A736-0DAB-4465-B741-C88806FE9B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E3376-4B29-4079-B049-1423CA8153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65B6EB-AEBE-4DCE-BC6F-A2BC24B9D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089F5-C99A-4BC7-B3CD-F916DEDE4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EFA7B2-889E-4FFB-B622-C62332D1AD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3C597-27EE-4E74-8889-B86E9C99A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E9D834-05A7-42F4-A9F8-9B14B41EAF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F3E706-17BE-4723-9D0F-C51362E100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232A99-12C6-4F1F-ACFA-423271E4A4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66C316-1FEB-4835-8118-F320461985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7FB593-BB1F-4957-9EFE-2EECD13A02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F93961-BCE7-49A6-8196-A671A08221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FFB209-CEB4-4CC1-8DFA-93B3C01524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597523-EF31-4DD7-B430-9426278EAF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D8AEC7-0B03-4C0B-BE28-4AAACF4A18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57004C-5102-463E-83C9-751EB60551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11E8A-8BDF-450F-8BBF-78C0E601F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1178D1-D681-454F-8FF3-41CE71F89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1926FA-7EF8-4252-9EE9-88BF4949C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B435F7-FC1A-4760-85B9-348626EEAA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F41F45-ECBB-461F-B74A-3707EED27D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58775A-78C1-4A64-91EB-85D9D5235F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A06E1-8A17-4F20-9654-8280AE2D1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A9A46-49CB-4913-9053-6B942BA54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47964-6202-4A56-AAC0-2AB84F00A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A82ED-1F46-426F-B1EF-893F8621D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294F-A611-41A9-95F3-5FEAE662E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2D5D-A0C7-4B1A-B85C-3AE411D6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B789-643B-4235-A735-44C1B9AE6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FF210-2955-44D0-8095-1A4C1CE7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9A35B-3060-41F0-BDBA-1F4CD7189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C38F3-1376-44D3-8EB6-74DA61D84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F8185-4B53-4622-AB10-AA858DF87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A4374-CA96-4237-8B70-A11ADAA8E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B6ECF-68F5-4429-ACB8-25EED73A2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32549-A14A-49BC-B950-B1A4A11A7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FBCBE-F180-493E-A33C-3812D68F6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04166-AC27-4C9B-AB80-0265505CE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65024-94A5-4AA3-BEFD-298492B2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DA3AD-8959-4543-A0B1-8CD52EF171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3B225-E08A-41C4-B9F8-FCB5BD2B3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0BFEB-4740-4E1A-B740-369B13CDD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84EA8-C2D7-4A05-83B7-7717A4B2E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99C88-61ED-4B48-8C4C-FC83F7A02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65F285-1936-4EFE-9582-FB19E3E35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3D92C-ED32-449F-88A2-29DEC9AA71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9C967-C395-434C-BD4D-B80287253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B35B0-E411-4525-81DE-75AA7A0E0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C50FC-E640-4A8B-817C-32298684A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96E8-4CA5-462E-94E9-DDDBE747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3F616-98F3-4B5C-81D8-6D366223B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149E8-1521-4BD1-AA19-99B9EE39C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0D12C-4D74-4465-9EDE-511051521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334AB-5A52-4721-8511-8CC065BB1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13025-BAA2-4B6E-83BB-EBA209D8E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8B82D-5969-4D5E-9DFC-D675A1264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68585-C824-4DC5-93A4-25C6BE8B6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F870F9-4ED7-4C41-809E-5E0E3C447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863EE4-EF91-4C28-863E-001C01AAF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C611E0-BFBB-46F5-B52B-5DD1D6E63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A503F-22D7-4C77-A763-EC1910711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AE697-20CA-444B-AB45-667CC16FA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A14ED-67EF-407F-A417-ACC4BC9A6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39B20-89AE-416E-88B8-B366D1890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8BAA4-1346-4A25-9521-42542C4A79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84B94-03FB-448A-80D6-699262683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FDA13-FD30-4E17-9C07-E6F7A7758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08CB7-3295-491A-B9B7-61B68EAD0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26745-F39D-46D8-A093-6740A9C3E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F773C-41ED-4F44-A1D7-24913D1FF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787E75-8F8E-4D2A-A93B-D3BD6708CB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8160-9A6B-46BA-8810-9652426B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3DB21D-40A1-45E9-B68A-81E2645C48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883D0-630F-467D-87EC-285839CD84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D4A9A-BAC6-48B7-A193-47BE2BEA7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9A3D1-B29F-4227-A5D9-25E8CFDE3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870AA-7F85-4297-AD48-B864E0CB1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77021-8393-4499-9D49-FA67A15B7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95961-6090-4084-8260-5247A8009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79CC5-060B-4B32-AB17-54FE59F0F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CF63B-4E34-4330-A5E5-AD7087FA4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5E480-3193-477F-9866-E5907DB71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EA1A-5B3E-4C5F-B4A8-B1DD9114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B8A5E7-6E79-4A9D-8784-4106CDE12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DA38A-7123-4166-9FC1-B68CD2057E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3476CC-F05B-4EF6-9D24-98A90F9D9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13D9A5-2447-4AE5-866A-36A2FBF8AB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D1794-6C92-4FFB-BC90-326C57EB7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D79C12-B167-410D-BB0D-84F49578B4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EAFE94-72E6-469C-B52F-F3712F8905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53351-B8F4-4021-8FE9-4E918D0EF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117AC-CB6B-47B0-8264-17BC997E2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934A7-D795-4B3A-98DA-A7E07DE16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4955-80C1-41FE-B408-C4FB2AC0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58B2B-0067-4449-AE3A-498829F60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7D0292-2C19-4CA8-AA05-938A9C052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2D891E-D197-4A81-94FD-1E767C362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0E432C-6172-44D9-A98D-E22FEA1476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32A6CF-F680-4F17-8985-DDE5876431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C5E5C-BA32-46E6-90B6-58B382F46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8DFC46-B4E7-4755-B344-E3A23FBED5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DDADF-7A83-4B31-8591-43BA2E3B3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C9465-EE92-4A27-A0C7-EB5D72D06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D0B266-BC73-412B-B5C0-AE43B0118A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8C9B-D90B-4B8F-841F-7524BFD8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E6FBB-E28A-4874-927A-09141C4E2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D58D3-849C-4CF7-AD8C-D0180CF9E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91156-780F-4628-845D-7AADD0C4F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F98D1-FF67-4E19-9F54-2C000ED63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CADB8-24B7-4020-9EFD-2DE179BEF2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F14228-36FF-4CDB-822B-461BA9CDBB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B70AC3-73FB-43C8-8CBA-DEAFF0CD71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28CDF-61DC-45AE-963A-B9BE108F79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936F15-94F1-4C91-9F01-11698BDDBB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F97A7-460E-4729-A15B-08DDB16709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Marvell Semiconductor)</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EAB986-D0C6-4EB1-86CA-00735E1ACC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01FB1A-2F26-40F0-A641-6C348EF95A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6532E6-BA3A-4C89-9FBE-E7D865F15D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1859B6-5BAA-4208-98B5-34A48BBED6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4B5A28-5139-4C37-96BC-0EB8D9A058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DB2F39-3103-4459-B994-CC44801D26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DE00C8-DCF6-4B9D-A7DC-61E6F60D1F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55B2D22-9C05-44DE-9E9A-76BD621168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BA4A92-D651-4314-B525-A213F55FF5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A35A1F-24C4-4CAF-AB5F-6C85674FE8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6E118E-EFD3-4F44-AD2C-2AC2AEA5BE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BFECF2-52A1-4979-BA63-5FDAD20B66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4/11-14-1284-00-ng60-september-2014-athen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hyperlink" Target="mailto:patcom@ieee.org" TargetMode="External"/><Relationship Id="rId5" Type="http://schemas.openxmlformats.org/officeDocument/2006/relationships/hyperlink" Target="http://standards.ieee.org/board/pat/index.html" TargetMode="External"/><Relationship Id="rId6" Type="http://schemas.openxmlformats.org/officeDocument/2006/relationships/hyperlink" Target="http://standards.ieee.org/board/pat/pat-sildeset.ppt" TargetMode="External"/><Relationship Id="rId7" Type="http://schemas.openxmlformats.org/officeDocument/2006/relationships/slideLayout" Target="../slideLayouts/slideLayout2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868D5D-F108-411E-A49C-40141938B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November 2014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9-30</a:t>
            </a:r>
            <a:endParaRPr b="1" lang="en-US" sz="2000" spc="-1" strike="noStrike">
              <a:solidFill>
                <a:srgbClr val="000000"/>
              </a:solidFill>
              <a:latin typeface="Times New Roman"/>
            </a:endParaRPr>
          </a:p>
        </p:txBody>
      </p:sp>
      <p:graphicFrame>
        <p:nvGraphicFramePr>
          <p:cNvPr id="555" name="Object 11"/>
          <p:cNvGraphicFramePr/>
          <p:nvPr/>
        </p:nvGraphicFramePr>
        <p:xfrm>
          <a:off x="674640" y="2666880"/>
          <a:ext cx="7817040" cy="939960"/>
        </p:xfrm>
        <a:graphic>
          <a:graphicData uri="http://schemas.openxmlformats.org/presentationml/2006/ole">
            <p:oleObj progId="Word.Document.12" r:id="rId1" spid="">
              <p:embed/>
              <p:pic>
                <p:nvPicPr>
                  <p:cNvPr id="556" name="Object 11" descr=""/>
                  <p:cNvPicPr/>
                  <p:nvPr/>
                </p:nvPicPr>
                <p:blipFill>
                  <a:blip r:embed="rId2"/>
                  <a:stretch/>
                </p:blipFill>
                <p:spPr>
                  <a:xfrm>
                    <a:off x="674640" y="2666880"/>
                    <a:ext cx="7817040" cy="93996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C09F5C-5F9B-412E-9F0E-02949AC29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1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1"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1"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1" lang="en-US" sz="1600" spc="-1" strike="noStrike">
              <a:solidFill>
                <a:srgbClr val="000000"/>
              </a:solidFill>
              <a:latin typeface="Times New Roman"/>
            </a:endParaRPr>
          </a:p>
        </p:txBody>
      </p:sp>
      <p:sp>
        <p:nvSpPr>
          <p:cNvPr id="6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60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996AD86F-F470-46BD-8DF8-81749449E332}"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4"/>
          <p:cNvSpPr/>
          <p:nvPr/>
        </p:nvSpPr>
        <p:spPr>
          <a:xfrm>
            <a:off x="685800" y="1484280"/>
            <a:ext cx="7848720" cy="4749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gn="just">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1" marL="743040" indent="-285840" algn="just">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2" marL="1200240" indent="-285840" algn="just">
              <a:lnSpc>
                <a:spcPct val="100000"/>
              </a:lnSpc>
              <a:spcBef>
                <a:spcPts val="300"/>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S PGothic"/>
              </a:rPr>
              <a:t>Technical considerations remain primary focus</a:t>
            </a:r>
            <a:endParaRPr b="0" lang="en-US" sz="14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s for IEEE WG Meetings</a:t>
            </a:r>
            <a:endParaRPr b="0" lang="en-US" sz="3200" spc="-1" strike="noStrike">
              <a:solidFill>
                <a:srgbClr val="000000"/>
              </a:solidFill>
              <a:latin typeface="Times New Roman"/>
            </a:endParaRPr>
          </a:p>
        </p:txBody>
      </p:sp>
      <p:sp>
        <p:nvSpPr>
          <p:cNvPr id="60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519D2B64-B691-48B6-9B6C-A99EBFEF8B48}"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0" name="PlaceHolder 1"/>
          <p:cNvSpPr>
            <a:spLocks noGrp="1"/>
          </p:cNvSpPr>
          <p:nvPr>
            <p:ph/>
          </p:nvPr>
        </p:nvSpPr>
        <p:spPr>
          <a:xfrm>
            <a:off x="685800" y="1600200"/>
            <a:ext cx="7772400" cy="36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Disclosure of Affiliation </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tandards.ieee.org/faqs/affiliationFAQ.html</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s to IEEE Antitrust Guidelines</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tandards.ieee.org/resources/antitrust-guidelines.pdf</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Code of Ethics</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www.ieee.org/web/membership/ethics/code_ethic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Patent Policy</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tandards.ieee.org/board/pat/pat-slideset.ppt</a:t>
            </a:r>
            <a:endParaRPr b="0" lang="en-US" sz="2000" spc="-1" strike="noStrike">
              <a:solidFill>
                <a:srgbClr val="000000"/>
              </a:solidFill>
              <a:latin typeface="Times New Roman"/>
            </a:endParaRPr>
          </a:p>
        </p:txBody>
      </p:sp>
      <p:sp>
        <p:nvSpPr>
          <p:cNvPr id="6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s – URLs</a:t>
            </a:r>
            <a:endParaRPr b="0" lang="en-US" sz="3200" spc="-1" strike="noStrike">
              <a:solidFill>
                <a:srgbClr val="000000"/>
              </a:solidFill>
              <a:latin typeface="Times New Roman"/>
            </a:endParaRPr>
          </a:p>
        </p:txBody>
      </p:sp>
      <p:sp>
        <p:nvSpPr>
          <p:cNvPr id="61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84DCB7-DCD4-41DF-A074-50F98C593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88AA64-AFF5-4D24-B411-F5B2743A9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NG60 S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1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B2AD3F-35BE-4222-9C87-D82F4EB18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Submission</a:t>
            </a:r>
            <a:endParaRPr b="0" lang="en-US" sz="3200" spc="-1" strike="noStrike">
              <a:solidFill>
                <a:srgbClr val="000000"/>
              </a:solidFill>
              <a:latin typeface="Times New Roman"/>
            </a:endParaRPr>
          </a:p>
        </p:txBody>
      </p:sp>
      <p:graphicFrame>
        <p:nvGraphicFramePr>
          <p:cNvPr id="622" name=""/>
          <p:cNvGraphicFramePr/>
          <p:nvPr/>
        </p:nvGraphicFramePr>
        <p:xfrm>
          <a:off x="685800" y="1752480"/>
          <a:ext cx="7772400" cy="4449960"/>
        </p:xfrm>
        <a:graphic>
          <a:graphicData uri="http://schemas.openxmlformats.org/drawingml/2006/table">
            <a:tbl>
              <a:tblPr/>
              <a:tblGrid>
                <a:gridCol w="2286000"/>
                <a:gridCol w="2895480"/>
                <a:gridCol w="2590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ocument 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esent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lo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ED40BD-AE44-4152-B786-672F158A9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p:nvPr>
        </p:nvSpPr>
        <p:spPr>
          <a:xfrm>
            <a:off x="685800" y="1599840"/>
            <a:ext cx="4114800" cy="42670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8:00am – 10:00am</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from September 2014 Meeting</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Timeline and Deliverable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 8:00am – 10:00am</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7" name="PlaceHolder 2"/>
          <p:cNvSpPr>
            <a:spLocks noGrp="1"/>
          </p:cNvSpPr>
          <p:nvPr>
            <p:ph/>
          </p:nvPr>
        </p:nvSpPr>
        <p:spPr>
          <a:xfrm>
            <a:off x="4419720" y="1752480"/>
            <a:ext cx="4038480" cy="411480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4:00pm – 6:00pm</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January 2015</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Study Group Extension</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29"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56FFA3-B26E-489F-BCF6-1D51C746A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4 Meeting</a:t>
            </a:r>
            <a:endParaRPr b="0" lang="en-US" sz="3200" spc="-1" strike="noStrike">
              <a:solidFill>
                <a:srgbClr val="000000"/>
              </a:solidFill>
              <a:latin typeface="Times New Roman"/>
            </a:endParaRPr>
          </a:p>
        </p:txBody>
      </p:sp>
      <p:sp>
        <p:nvSpPr>
          <p:cNvPr id="63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has agreed to a leadership structure and completed the elections of a SG chair and a secretary</a:t>
            </a:r>
            <a:endParaRPr b="0" lang="en-US" sz="2400" spc="-1" strike="noStrike">
              <a:solidFill>
                <a:srgbClr val="000000"/>
              </a:solidFill>
              <a:latin typeface="Times New Roman"/>
            </a:endParaRPr>
          </a:p>
          <a:p>
            <a:pPr marL="343080" indent="-343080" algn="just">
              <a:lnSpc>
                <a:spcPct val="90000"/>
              </a:lnSpc>
              <a:spcBef>
                <a:spcPts val="1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submissions were covered during the meeting covering areas related to:</a:t>
            </a:r>
            <a:endParaRPr b="0" lang="en-US" sz="24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Use case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raft PAR and CSD proposal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does not approve issuing a press release to announce its cre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8D40A-0DE0-4858-8836-92C956607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Timeline and Deliverable</a:t>
            </a:r>
            <a:endParaRPr b="0" lang="en-US" sz="3200" spc="-1" strike="noStrike">
              <a:solidFill>
                <a:srgbClr val="000000"/>
              </a:solidFill>
              <a:latin typeface="Times New Roman"/>
            </a:endParaRPr>
          </a:p>
        </p:txBody>
      </p:sp>
      <p:sp>
        <p:nvSpPr>
          <p:cNvPr id="63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timeline is reviewed and no question raised:</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eptember 2014 through January 2015 (inclusive): develop PAR and CS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January 2015: submit PAR and CSD for Working Group approv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27F58D-208C-4576-BFD7-2DC2C25B1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 Prior Meeting Minutes</a:t>
            </a:r>
            <a:endParaRPr b="0" lang="en-US" sz="3200" spc="-1" strike="noStrike">
              <a:solidFill>
                <a:srgbClr val="000000"/>
              </a:solidFill>
              <a:latin typeface="Times New Roman"/>
            </a:endParaRPr>
          </a:p>
        </p:txBody>
      </p:sp>
      <p:sp>
        <p:nvSpPr>
          <p:cNvPr id="6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NG60 Study Group minutes of meetings from September 2014:</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ea typeface="MS PGothic"/>
                <a:hlinkClick r:id="rId1"/>
              </a:rPr>
              <a:t>https://mentor.ieee.org/802.11/dcn/14/11-14-1284-00-ng60-september-2014-athens-meeting-minutes.docx</a:t>
            </a:r>
            <a:r>
              <a:rPr b="0" lang="en-US" sz="2000" spc="-1" strike="noStrike" u="sng">
                <a:solidFill>
                  <a:srgbClr val="000000"/>
                </a:solidFill>
                <a:uFillTx/>
                <a:latin typeface="Times New Roman"/>
                <a:ea typeface="MS PGothic"/>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5918F8-05DC-48D2-90F7-79F3C15B5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58F514-CBE8-4710-ADDB-66352AE52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NG60 Study Group agenda for the November 2014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63C100-14B1-4265-8DC2-3A95BD28A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5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4A9CD8-D5DB-427A-B331-06A3845F3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6ED024-CFBA-464A-8A43-B845EEBC1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eeting Slot #3</a:t>
            </a:r>
            <a:endParaRPr b="0" lang="en-US" sz="3200" spc="-1" strike="noStrike">
              <a:solidFill>
                <a:srgbClr val="000000"/>
              </a:solidFill>
              <a:latin typeface="Times New Roman"/>
            </a:endParaRPr>
          </a:p>
        </p:txBody>
      </p:sp>
      <p:sp>
        <p:nvSpPr>
          <p:cNvPr id="66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Extension Mo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anuary 2015</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558E3-6E81-468E-93C5-04502EB4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 Study Group Extension</a:t>
            </a:r>
            <a:endParaRPr b="0" lang="en-US" sz="3200" spc="-1" strike="noStrike">
              <a:solidFill>
                <a:srgbClr val="000000"/>
              </a:solidFill>
              <a:latin typeface="Times New Roman"/>
            </a:endParaRPr>
          </a:p>
        </p:txBody>
      </p:sp>
      <p:sp>
        <p:nvSpPr>
          <p:cNvPr id="6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NG60 Study Group.</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6029B2-F7D0-4428-90DD-E1BFD7087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5</a:t>
            </a:r>
            <a:endParaRPr b="0" lang="en-US" sz="3200" spc="-1" strike="noStrike">
              <a:solidFill>
                <a:srgbClr val="000000"/>
              </a:solidFill>
              <a:latin typeface="Times New Roman"/>
            </a:endParaRPr>
          </a:p>
        </p:txBody>
      </p:sp>
      <p:sp>
        <p:nvSpPr>
          <p:cNvPr id="6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ize PAR and CSD for Working Group Approval</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339BF5-591A-4D39-844C-C2F5A657D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67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C50666-198F-44EE-A31D-748202C31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Schedule in a Glance</a:t>
            </a:r>
            <a:endParaRPr b="0" lang="en-US" sz="3200" spc="-1" strike="noStrike">
              <a:solidFill>
                <a:srgbClr val="000000"/>
              </a:solidFill>
              <a:latin typeface="Times New Roman"/>
            </a:endParaRPr>
          </a:p>
        </p:txBody>
      </p:sp>
      <p:graphicFrame>
        <p:nvGraphicFramePr>
          <p:cNvPr id="565" name=""/>
          <p:cNvGraphicFramePr/>
          <p:nvPr/>
        </p:nvGraphicFramePr>
        <p:xfrm>
          <a:off x="685800" y="1828800"/>
          <a:ext cx="7620120" cy="2225520"/>
        </p:xfrm>
        <a:graphic>
          <a:graphicData uri="http://schemas.openxmlformats.org/drawingml/2006/table">
            <a:tbl>
              <a:tblPr/>
              <a:tblGrid>
                <a:gridCol w="1270080"/>
                <a:gridCol w="1270080"/>
                <a:gridCol w="1269720"/>
                <a:gridCol w="1270080"/>
                <a:gridCol w="1270080"/>
                <a:gridCol w="12700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66"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934C05-26FF-42FD-8B9F-77DD068F4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5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minutes from September 2014 sess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 SG timeline and deliver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Study Group extension mo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teleconference tim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94AFC-1A8A-4DAE-8BD7-E0C733994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34B2B3-3EE6-4C77-9543-F05DE256F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57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September 201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Timeline and Deliverab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9F0597-5B6A-4E9F-9EC5-BAE41207E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58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B5117BBD-7D2A-4DB0-B221-3624FE1A304D}"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8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Rectangle 4"/>
          <p:cNvSpPr/>
          <p:nvPr/>
        </p:nvSpPr>
        <p:spPr>
          <a:xfrm>
            <a:off x="609480" y="1577880"/>
            <a:ext cx="7925040" cy="5127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gn="just">
              <a:lnSpc>
                <a:spcPct val="10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Personal awareness” means that the participant “is personally aware that the holder November have a potential Essential Patent Claim,” even if the participant is not personally aware of the specific patents or</a:t>
            </a:r>
            <a:r>
              <a:rPr b="0" lang="en-US" sz="1400" spc="-1" strike="noStrike">
                <a:solidFill>
                  <a:srgbClr val="ff3300"/>
                </a:solidFill>
                <a:latin typeface="Times New Roman"/>
                <a:ea typeface="MS PGothic"/>
              </a:rPr>
              <a:t> </a:t>
            </a:r>
            <a:r>
              <a:rPr b="0"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ove does not apply if the patent</a:t>
            </a:r>
            <a:r>
              <a:rPr b="0" lang="en-US" sz="1600" spc="-1" strike="noStrike">
                <a:solidFill>
                  <a:srgbClr val="ff3300"/>
                </a:solidFill>
                <a:latin typeface="Times New Roman"/>
                <a:ea typeface="MS PGothic"/>
              </a:rPr>
              <a:t> </a:t>
            </a:r>
            <a:r>
              <a:rPr b="0"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2" marL="1143000" indent="-228600" algn="just">
              <a:lnSpc>
                <a:spcPct val="10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S PGothic"/>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9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C42BA016-3822-47BF-840A-6C313A914315}"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94" name="PlaceHolder 1"/>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participants should be familiar with their obligations under the IEEE-SA Policies &amp; Procedures for standards development.</a:t>
            </a:r>
            <a:endParaRPr b="1" lang="en-US" sz="1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ent Policy is stated in these sources:</a:t>
            </a:r>
            <a:endParaRPr b="1"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SA Standards Boards Bylaws</a:t>
            </a:r>
            <a:r>
              <a:rPr b="0" lang="en-US" sz="1600" spc="-1" strike="noStrike" u="sng">
                <a:solidFill>
                  <a:srgbClr val="0066ff"/>
                </a:solidFill>
                <a:uFillTx/>
                <a:latin typeface="Times New Roman"/>
                <a:hlinkClick r:id="rId1"/>
              </a:rPr>
              <a:t>http://standards.ieee.org/develop/policies/bylaws/index.html</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develop/policies/opman/index.html</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aterial about the patent policy is available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pat-material.html</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you have questions, contact the IEEE-SA Standards Board Patent Committee Administrator at </a:t>
            </a:r>
            <a:r>
              <a:rPr b="1" lang="en-US" sz="1800" spc="-1" strike="noStrike" u="sng">
                <a:solidFill>
                  <a:srgbClr val="0066ff"/>
                </a:solidFill>
                <a:uFillTx/>
                <a:latin typeface="Times New Roman"/>
                <a:ea typeface="Times New Roman"/>
                <a:hlinkClick r:id="rId4"/>
              </a:rPr>
              <a:t>patcom@ieee.org</a:t>
            </a:r>
            <a:r>
              <a:rPr b="1" lang="en-US" sz="1800" spc="-1" strike="noStrike">
                <a:solidFill>
                  <a:srgbClr val="000000"/>
                </a:solidFill>
                <a:latin typeface="Times New Roman"/>
                <a:ea typeface="Times New Roman"/>
              </a:rPr>
              <a:t> or visit </a:t>
            </a:r>
            <a:r>
              <a:rPr b="1" lang="en-US" sz="1800" spc="-1" strike="noStrike" u="sng">
                <a:solidFill>
                  <a:srgbClr val="0066ff"/>
                </a:solidFill>
                <a:uFillTx/>
                <a:latin typeface="Times New Roman"/>
                <a:ea typeface="Times New Roman"/>
                <a:hlinkClick r:id="rId5"/>
              </a:rPr>
              <a:t>http://standards.ieee.org/board/pat/index.html</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s slide set is available at </a:t>
            </a:r>
            <a:r>
              <a:rPr b="1" lang="en-US" sz="1800" spc="-1" strike="noStrike" u="sng">
                <a:solidFill>
                  <a:srgbClr val="0066ff"/>
                </a:solidFill>
                <a:uFillTx/>
                <a:latin typeface="Times New Roman"/>
                <a:ea typeface="Times New Roman"/>
                <a:hlinkClick r:id="rId6"/>
              </a:rPr>
              <a:t>http://standards.ieee.org/board/pat/pat-sildeset.ppt</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96"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
  <dc:language>en-US</dc:language>
  <cp:lastModifiedBy>Edward</cp:lastModifiedBy>
  <cp:lastPrinted>1998-02-10T13:28:06Z</cp:lastPrinted>
  <dcterms:modified xsi:type="dcterms:W3CDTF">2014-09-28T03:25:29Z</dcterms:modified>
  <cp:revision>1286</cp:revision>
  <dc:subject/>
  <dc:title>NG60 SG November 2014 Meeting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ies>
</file>