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IEEE 802.11-11/0051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12400" y="701280"/>
            <a:ext cx="463572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5287680" y="9000720"/>
            <a:ext cx="925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5D699B9-896A-4A61-A048-C28A77DFB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639720" y="297000"/>
            <a:ext cx="55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05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836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F727428-0B67-44C3-8A86-838A99187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5377-DD50-4C8F-BEB0-39D9F527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1615-124B-463B-BCA8-571233EA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9B3A-22C1-41A1-8728-B8DA82F6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C273-4D06-4500-8458-A253F007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6018-2941-4396-B4CC-85F545F0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0272-A5DD-447F-A79F-2104341F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159E-84D7-408D-9534-0DB22749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E970-9FF0-4495-938A-EC760DF9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3B0A-B981-4D74-821A-8F96F99C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5F2E-28C9-41B2-BDC6-CC65DD66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7449-74C6-483C-9354-B59738BB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D299-3BBC-4747-9684-FC284F23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E0EF-AF94-4A87-B9BC-8933EF4C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9C12-9F89-4576-BF82-09BD9405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B8EA-6809-4AAD-8814-EB03CF22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AC9B-3506-4FCB-84E4-36382B82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BD09-8494-4338-AA6E-3AA05CED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B0143-34E7-42B0-8984-80EEE7C3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674AA-6AC9-4216-8100-318B3F20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9A4D0-9210-4A30-A762-D88772C3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ED2FC-7D0C-4C32-B30B-7882791B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99FBB-46FE-4167-9FF6-D2F01855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39F5-CE6C-4164-96E6-AA9FF5D9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4AF94-404D-4EF3-AA46-71BDC60C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91BA5-90BA-4751-B5FD-9EB64B1B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D82D2-9F4E-4611-AF3D-F02A28B8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70DFA-5410-4AE5-B0C3-19C4F60E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B6D5A-79E7-459E-BEE9-AB5BF9C7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65AAD-573F-45C3-936A-38AF3C694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84596-FF1D-46D6-AF07-76039A8C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FB80-1599-4444-AB2A-F985E61C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FE97-F9AE-4BA3-8384-68C66FCD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AD2D-5E89-48E6-9C19-F4CBB515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52B2-F8C9-433A-8C8A-456388A2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7562-7BEF-4EB4-9B50-356FEACD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C1B3-E32E-43A1-9AC2-E5E7000A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60120"/>
            <a:ext cx="9302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CE2A3F2-646B-4019-986B-506F1AD18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4/0905r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868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D808-5105-4317-8735-B9FA7F8ABC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4/0905r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868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685800" y="609480"/>
            <a:ext cx="785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955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34797E7-25CB-4646-8F8A-DAE835D43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70740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D2955C3-6BB8-4AAF-8139-1A67C7F6A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aison statement from Wi-Fi Alliance on Non-OFDM Use Cas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4-07-1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11"/>
          <p:cNvGraphicFramePr/>
          <p:nvPr/>
        </p:nvGraphicFramePr>
        <p:xfrm>
          <a:off x="523800" y="2276640"/>
          <a:ext cx="7772400" cy="260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276640"/>
                    <a:ext cx="777240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liaison statement was received from Ian Sherlock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ir of the Wi-Fi Alliance™,  in response to a liaison request from 802.11 (11-14/182r2) sent on 2014-02-1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ached on the following page is the liaison.  As the liaison is copyright by the Wi-Fi Alliance,  a copyright permission letter is also attach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meets the IEEE-SA requirements and enables the response to be posted on the 802.11 document ser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Date Placeholder 3"/>
          <p:cNvSpPr/>
          <p:nvPr/>
        </p:nvSpPr>
        <p:spPr>
          <a:xfrm>
            <a:off x="70740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BFCC5AB-3461-41AB-A920-7FDBD1FF9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14440" y="685440"/>
            <a:ext cx="4343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iaison lett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51920" y="5638680"/>
            <a:ext cx="899172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aterial  reprinted with permission from Wi-Fi Alliance,  ©  2014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(double click on images above to open document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70740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16DD7F6-1D0C-4625-8671-A80A29701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6"/>
          <p:cNvGraphicFramePr/>
          <p:nvPr/>
        </p:nvGraphicFramePr>
        <p:xfrm>
          <a:off x="289080" y="2790720"/>
          <a:ext cx="2727000" cy="18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" y="2790720"/>
                    <a:ext cx="272700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7"/>
          <p:cNvGraphicFramePr/>
          <p:nvPr/>
        </p:nvGraphicFramePr>
        <p:xfrm>
          <a:off x="3886200" y="1916280"/>
          <a:ext cx="4572000" cy="304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1916280"/>
                    <a:ext cx="45720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Box 8"/>
          <p:cNvSpPr/>
          <p:nvPr/>
        </p:nvSpPr>
        <p:spPr>
          <a:xfrm>
            <a:off x="299880" y="209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pyright Permi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Adrian Stephens</dc:creator>
  <dc:description/>
  <dc:language>en-US</dc:language>
  <cp:lastModifiedBy>Stephens, Adrian P</cp:lastModifiedBy>
  <cp:lastPrinted>1998-02-10T13:28:06Z</cp:lastPrinted>
  <dcterms:modified xsi:type="dcterms:W3CDTF">2014-07-15T14:40:49Z</dcterms:modified>
  <cp:revision>1476</cp:revision>
  <dc:subject/>
  <dc:title>802.11 Vice Chair's Report 2012</dc:title>
</cp:coreProperties>
</file>