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FC44C8-F2CD-4F8C-A485-E7DBBB78B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FABC67-D3B4-474D-9895-DAC409B48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C0A-561D-4F13-A051-AED005D8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F67-1DCF-40D1-A3FE-D9E81A8C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DD6-55AB-4E4B-8BB3-FDF96CD3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689-C1FD-4733-9311-CD943EE1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F30F-294F-44F9-B4E7-FD5AD0E5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318F-73A0-4426-8600-C2BA9F7B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E18A-7AE1-4EDE-961B-76E043B7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D318-F1A3-4DC8-AAD7-607A0891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DE16-BDCA-47E0-89DA-3696B639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D2B6-0A11-4833-A735-83D150B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0D96-B367-4F33-8BB2-C917018C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6A2-4E9A-4B79-99B2-7B49B697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50B0-7C5A-47F0-8280-7C1D1292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1C78-555E-4CD8-8D3A-51E55834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F06E-A6F3-46E1-AF0D-CF451F4A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3043-8754-4EF0-AF8C-DAB0D230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F042-3B56-4853-8CA7-909B7649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F176-5DB8-44C2-A093-AA38F685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04E8-4EAC-4AAF-A098-FFC37B09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12F8-6999-4BA7-9879-27C78DCB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2793-4E0B-4EC7-8056-B4233DD8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A283-33E1-46B0-B938-AA57A5F5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CF1-FD8B-4F86-9ACA-0A545EDB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F9552-91EB-4B47-B228-BE6A8AF5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177D-4D83-45A8-9060-91AD0FA2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8FCE0-B1E1-4D82-89A7-6D2147D5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6F0B-42AA-42DE-924A-CB4638F5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2B4C-A4D1-43B8-B51C-8C98AFD4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EDFB-5FCC-4AF9-840E-2D9173DA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37B9F-E438-45FB-92D2-3CF87740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FD1-B437-4467-9A75-DC86A71D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75A-7D8F-4F13-8788-612B8373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CC5-CC70-4F61-BB71-E0DF943B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A3F-4F70-4A64-B256-6B8B23E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617-B2B2-48C5-B100-346D3313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F3B-E79E-42F5-A2B7-28FE8487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070099-CD55-4CDF-83BB-C5C0D133E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090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F7E1-19B7-428E-96B0-B3A557DE3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090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55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04E28A8-2C13-46F7-8D09-0EDB4979D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7074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663569-F1B4-40F9-A494-9B854AD57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aison statement from Wi-Fi Alliance on Non-OFDM Use Ca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7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iaison statement was received from Ian Sherlock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ir of the Wi-Fi Alliance™,  in response to a liaison request from 802.11 (11-14/182r2) sent on 2014-02-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hed on the following page is the liaison.  As the liaison is copyright by the Wi-Fi Alliance,  a copyright permission letter is also atta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ets the IEEE-SA requirements and enables the response to be posted on the 802.11 documen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7074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38158B-1506-4D20-A8F2-2227999C0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14440" y="68544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1920" y="5638680"/>
            <a:ext cx="8991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terial  reprinted with permission from Wi-Fi Alliance,  ©  201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double click on images above to open document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7074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52359A-BED9-4A53-9E5D-DBC6AD317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6"/>
          <p:cNvGraphicFramePr/>
          <p:nvPr/>
        </p:nvGraphicFramePr>
        <p:xfrm>
          <a:off x="289080" y="2790720"/>
          <a:ext cx="272700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2790720"/>
                    <a:ext cx="272700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7"/>
          <p:cNvGraphicFramePr/>
          <p:nvPr/>
        </p:nvGraphicFramePr>
        <p:xfrm>
          <a:off x="3886200" y="1916280"/>
          <a:ext cx="4572000" cy="30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916280"/>
                    <a:ext cx="4572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Box 8"/>
          <p:cNvSpPr/>
          <p:nvPr/>
        </p:nvSpPr>
        <p:spPr>
          <a:xfrm>
            <a:off x="299880" y="209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pyright Permi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Stephens, Adrian P</cp:lastModifiedBy>
  <cp:lastPrinted>1998-02-10T13:28:06Z</cp:lastPrinted>
  <dcterms:modified xsi:type="dcterms:W3CDTF">2014-07-15T14:40:49Z</dcterms:modified>
  <cp:revision>1476</cp:revision>
  <dc:subject/>
  <dc:title>802.11 Vice Chair's Report 2012</dc:title>
</cp:coreProperties>
</file>