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.: IEEE 802.11-11/0051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64584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12400" y="701280"/>
            <a:ext cx="4635720" cy="34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5287680" y="9000720"/>
            <a:ext cx="925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E915A7F-2082-4072-873D-C2BEEB4CB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639720" y="297000"/>
            <a:ext cx="557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051r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836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451400" y="9001080"/>
            <a:ext cx="259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EF8B21A-158C-4441-B179-D590A7AE9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DEB3-F043-41FF-9188-06E28FDF8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E8B2-74D0-4FF4-981C-EA39C485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8389-ADCD-43FD-A65C-7E6F8483E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B236-3F64-43F6-9421-9C1908B3F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0BD2-2776-49F2-A19B-3C2ABFCB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A12B-2183-4254-8558-CD5C5A77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69E5-59FC-43BC-A027-1343CFFF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43AFA-FDDD-43BA-9187-FAAB4E87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CA33-D31E-4BDF-BE73-4E68EFF0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6757-C76F-46E3-A03E-63841344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FEA6-F862-4401-97A7-7AC4EF89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E9A4-32D4-4486-91BF-CFA1D416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EA0A-3354-4615-AD17-BAB40138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41D3-D944-4F0C-92B0-E12B79D8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9E8B7-4086-44FE-90C8-9973A200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939C7-3623-4226-9FE9-0CD94349F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B027-D63E-49C3-BD44-15F6D84B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5241C-6267-4348-AAA6-B950574B7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35F9A-2E5E-4271-A167-B997FFDF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E97BB-F953-4F2A-ABE0-87FE1935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78BFD-CF09-4262-AC4F-EC91E0D9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64216-991F-4D5E-B5AE-7D2E5095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6B4C-10DE-4A9F-BB8E-6F9B355F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C1F76-3530-45CB-8C62-4D8F23A2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17674-7147-4C11-AD4A-D1404B05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F186E-8661-4C1E-8F52-A4C5DF6C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4EA2B-2CD0-4A6F-B32B-F599579B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13FA0-7212-4287-96F2-EF0876DE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3345B-4CE2-4EED-BC1F-B4882EFA4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AEFF0-AB2D-40EA-BF5B-EA57C1B74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5D99-E7D4-4259-BFB0-B04A0577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C447-0553-477C-9FDA-45186419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BB66-1FCF-44ED-B60B-317DB4C8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4297-806D-485A-BF0A-7AA6E4E4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F300-9809-48EE-A77D-4CC328D8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54FE-8B12-4E50-B57A-06763D5A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60120"/>
            <a:ext cx="93024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3FB68FF-306B-4CD8-BB81-7FE95302A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4/0516r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8680" y="6475320"/>
            <a:ext cx="41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ay 20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8FA0-1A8A-46FF-A5B2-36FC86F724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516996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4/0516r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88680" y="6475320"/>
            <a:ext cx="415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traight Connector 11"/>
          <p:cNvSpPr/>
          <p:nvPr/>
        </p:nvSpPr>
        <p:spPr>
          <a:xfrm>
            <a:off x="685800" y="609480"/>
            <a:ext cx="785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96600" y="60120"/>
            <a:ext cx="9558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7F446E2-4C02-478B-BA53-CC8FF5277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69444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F98F5B7-FD9E-40D6-90A7-656B1A5A74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y 2014 802.11 Sess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ward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4-05-1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Object 11"/>
          <p:cNvGraphicFramePr/>
          <p:nvPr/>
        </p:nvGraphicFramePr>
        <p:xfrm>
          <a:off x="523800" y="2276640"/>
          <a:ext cx="7772400" cy="260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2276640"/>
                    <a:ext cx="777240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Ga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EEE Std 802.11ac-2013 was published on 18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December 2013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hair Osama Aboul-Mag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Date Placeholder 3"/>
          <p:cNvSpPr/>
          <p:nvPr/>
        </p:nvSpPr>
        <p:spPr>
          <a:xfrm>
            <a:off x="69444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867649C-3717-44C2-9E92-853DB5395F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69444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F2E601C-FB9E-44D3-87A4-651F995DA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96960" y="623880"/>
          <a:ext cx="7846920" cy="5932440"/>
        </p:xfrm>
        <a:graphic>
          <a:graphicData uri="http://schemas.openxmlformats.org/drawingml/2006/table">
            <a:tbl>
              <a:tblPr/>
              <a:tblGrid>
                <a:gridCol w="3924360"/>
                <a:gridCol w="39225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s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ole / Reas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ce Kraem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G Chai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n Rosdah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G Vice Chai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rian Stephe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G Vice Chai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sama Aboul-Magd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 Chai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bert Stace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nical Edito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nzo Wentink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 Vice Chai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onsuk Ki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 Vice Chai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 Xue Ya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 Secretar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ko Erce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 Ad-hoc chai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ho Cheo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 Ad-hoc chai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ja Banerje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Y Ad-hoc chai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an Zhu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 Ad-hoc chai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e Seung Le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 Ad-hoc chai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thew Fisch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 Ad-hoc chai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dad Perahia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existence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-hoc chai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69444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DBB4DB7-B54E-42D3-B36D-095AC1D0F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762120"/>
          <a:ext cx="8086680" cy="5562360"/>
        </p:xfrm>
        <a:graphic>
          <a:graphicData uri="http://schemas.openxmlformats.org/drawingml/2006/table">
            <a:tbl>
              <a:tblPr/>
              <a:tblGrid>
                <a:gridCol w="2133720"/>
                <a:gridCol w="59529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s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ole / Reas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usuke Asa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existence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-hoc chai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han Ki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existence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-hoc chai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bert Stace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 Ad-hoc chai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eer Verman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 Ad-hoc chai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an Har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 Ad-hoc chai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mone Merli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gnificant Technical Contribution to the MA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ng Liu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gnificant Technical Contribution to the MA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elle Go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gnificant Technical Contribution to the MA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ngyuan Zha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gnificant Technical Contribution to the PH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eg Brei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gnificant Technical Contribution to channel mode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sushi Takatori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existence Ad-hoc former chai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chard van Ne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gnificant Technical Contribution to the PH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rt van Zels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gnificant Technical Contribution to the PH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de Veg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gnificant Technical Contribution to the PH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69444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0F7C240-8144-4310-ADAA-3FF4D45A4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96960" y="762120"/>
          <a:ext cx="7846920" cy="4719600"/>
        </p:xfrm>
        <a:graphic>
          <a:graphicData uri="http://schemas.openxmlformats.org/drawingml/2006/table">
            <a:tbl>
              <a:tblPr/>
              <a:tblGrid>
                <a:gridCol w="2732040"/>
                <a:gridCol w="51148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s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ole / Reas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manth Sampath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gnificant Technical Contribution to the PH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ewon Le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gnificant Technical Contribution to the PH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lsoo Soh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gnificant Technical Contribution to the MA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ngho Seok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gnificant Technical Contribution to the MA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hya Pate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gnificant Technical Contribution to TXOP power sav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 Harki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gnificant Technical Contribution to securit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ward Au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gnificant Technical Contribution to the MA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har Jind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gnificant Technical Contribution to the PH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gurd Schelstrae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gnificant Technical Contribution to the PH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za Hedaya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gnificant Technical Contribution to the MA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ao-Chun Wa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gnificant Technical Contribution to the MAC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Gaf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EEE Std 802.11ac-2013 was published on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February 2014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hair Richard Kenned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Date Placeholder 3"/>
          <p:cNvSpPr/>
          <p:nvPr/>
        </p:nvSpPr>
        <p:spPr>
          <a:xfrm>
            <a:off x="69444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7569998-11F8-4FD4-B11B-9E08E9323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69444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BB3E883-D615-4A15-BB45-E40174048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96960" y="762120"/>
          <a:ext cx="7846920" cy="5562360"/>
        </p:xfrm>
        <a:graphic>
          <a:graphicData uri="http://schemas.openxmlformats.org/drawingml/2006/table">
            <a:tbl>
              <a:tblPr/>
              <a:tblGrid>
                <a:gridCol w="2503440"/>
                <a:gridCol w="53434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s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ole / Reas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ce Kraeme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G Chai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n Rosdah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G Vice Chai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rian Stephe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G Vice Chai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chard Kennedy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 Chai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Ecclesin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nical Edito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Ecclesin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 Vice Chai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hou La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G Vice Chai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hou La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gnificant Technical Contribution to White Space Map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ngho Seok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gnificant Technical Contribution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ookbong Le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gnificant Technical Contribution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gguk Li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gnificant Technical Contribu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unsun Ki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gnificant Technical Contribu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e-Hyung Son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gnificant Technical Contribu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 Su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gnificant Technical Contribu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69444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BDF0C27-F1E0-497F-B520-DB8AEE7DF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96960" y="762120"/>
          <a:ext cx="7846920" cy="3673440"/>
        </p:xfrm>
        <a:graphic>
          <a:graphicData uri="http://schemas.openxmlformats.org/drawingml/2006/table">
            <a:tbl>
              <a:tblPr/>
              <a:tblGrid>
                <a:gridCol w="2808360"/>
                <a:gridCol w="503856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s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ole / Reas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dam Kafle (absent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gnificant Technical Contribu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640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ko Erceg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gnificant Technical Contribution to adaptation of the 11ac PHY for TV band oper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n Pora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gnificant Technical Contribution to adaptation of the 11ac PHY for TV band oper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vfik Yucek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gnificant Technical Contribution to adaptation of the 11ac PHY for TV band oper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ns Tingleff (absent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gnificant Technical Contribution to adaptation of the 11ac PHY for TV band oper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82" name="Date Placeholder 3"/>
          <p:cNvSpPr/>
          <p:nvPr/>
        </p:nvSpPr>
        <p:spPr>
          <a:xfrm>
            <a:off x="694440" y="334800"/>
            <a:ext cx="960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y 201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A9D6A9B-E5A7-4819-84AB-0FF4C34F9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Adrian Stephens</dc:creator>
  <dc:description/>
  <dc:language>en-US</dc:language>
  <cp:lastModifiedBy>Stephens, Adrian P</cp:lastModifiedBy>
  <cp:lastPrinted>1998-02-10T13:28:06Z</cp:lastPrinted>
  <dcterms:modified xsi:type="dcterms:W3CDTF">2014-05-11T00:36:11Z</dcterms:modified>
  <cp:revision>1400</cp:revision>
  <dc:subject/>
  <dc:title>802.11 Vice Chair's Report 2012</dc:title>
</cp:coreProperties>
</file>