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E62F4D-D6F7-4039-B836-E82D7D814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8930A31-4E2F-4E2A-AE00-A329728686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14560" y="703440"/>
            <a:ext cx="4630680" cy="347328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1F47383-F705-4910-B773-84FC202773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1"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A88051F-BB7D-4F93-937D-7F78B38543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7"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8"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9"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45837F63-D7A3-44E6-AAFD-60463FEEE12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14560" y="703440"/>
            <a:ext cx="4630680" cy="347328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5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4"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F111EC5-F7CF-425C-82F2-449434A610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7"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8"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9"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EAED19B-3ABD-4A8E-96F0-595D7C958AF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14560" y="703440"/>
            <a:ext cx="4630680" cy="347328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C5B1F95-3E25-4249-9E92-36C85FAA58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14560" y="703440"/>
            <a:ext cx="4630680" cy="347328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FB18860-937F-40D2-87AB-E7CF5D9F98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14560" y="703440"/>
            <a:ext cx="4630680" cy="347328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D15B732-D161-4AC3-A55F-7CB3458781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14560" y="703440"/>
            <a:ext cx="4630680" cy="347328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5220EBD-CA66-4DBF-A955-8E9E7D61F4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14560" y="703440"/>
            <a:ext cx="4630680" cy="347328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9F5EA30-759F-473F-A0F7-A5136A157E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14560" y="703440"/>
            <a:ext cx="4630680" cy="3473280"/>
          </a:xfrm>
          <a:prstGeom prst="rect">
            <a:avLst/>
          </a:prstGeom>
          <a:ln w="0">
            <a:noFill/>
          </a:ln>
        </p:spPr>
      </p:sp>
      <p:sp>
        <p:nvSpPr>
          <p:cNvPr id="2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D1BDBE4-5BA8-41AA-AF06-633D3C48EA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14560" y="703440"/>
            <a:ext cx="4630680" cy="347328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22B3DDA-ADB4-4B78-BBCE-83D2C8FFB1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14560" y="703440"/>
            <a:ext cx="4630680" cy="347328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8344747-E850-4C7E-899B-B6051E2C191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14560" y="703440"/>
            <a:ext cx="4630680" cy="347328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F23EEFF-5D9A-4722-8D11-E204D9A32C7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1F62285-8A1A-431C-8770-C17AE6882E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14560" y="703440"/>
            <a:ext cx="4630680" cy="3473280"/>
          </a:xfrm>
          <a:prstGeom prst="rect">
            <a:avLst/>
          </a:prstGeom>
          <a:ln w="0">
            <a:noFill/>
          </a:ln>
        </p:spPr>
      </p:sp>
      <p:sp>
        <p:nvSpPr>
          <p:cNvPr id="1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DFA091F-8F16-4D64-A19A-37FC79A421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ABD7B14C-8F97-4BC2-95F4-ED4CB95DEA3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14560" y="703440"/>
            <a:ext cx="4630680" cy="3473280"/>
          </a:xfrm>
          <a:prstGeom prst="rect">
            <a:avLst/>
          </a:prstGeom>
          <a:ln w="0">
            <a:noFill/>
          </a:ln>
        </p:spPr>
      </p:sp>
      <p:sp>
        <p:nvSpPr>
          <p:cNvPr id="2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E324AFD-63F7-4D95-9A30-5EF1A1142D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CBAA1F0-5A09-4773-922F-1B4109A0959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14560" y="703440"/>
            <a:ext cx="4630680" cy="3473280"/>
          </a:xfrm>
          <a:prstGeom prst="rect">
            <a:avLst/>
          </a:prstGeom>
          <a:ln w="0">
            <a:noFill/>
          </a:ln>
        </p:spPr>
      </p:sp>
      <p:sp>
        <p:nvSpPr>
          <p:cNvPr id="2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1"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2"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3"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CD5F62B-E759-4BEA-B69E-76D007BAA2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4"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5"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6"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7"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DC29A63-3633-49A9-A238-925F3605FC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04840" y="696960"/>
            <a:ext cx="4649760" cy="348768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0A1A065-38DC-4CEB-8478-C051290EDFF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5"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174B2-4D00-4CA2-B00A-4938B70F3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29EF4-F2CC-4377-8BE8-ED5D0612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23449-1CDD-46A1-B5AD-FA5A9FBB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95029-ACDA-4BF8-8FBB-E7EE1E776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C7EA-3613-434E-83AF-834E4925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D4338-037D-457C-8984-9006C566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8B4F0-0C72-4F0B-B0A7-75290F79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93E6-B18D-46FD-B900-368D22EE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82ABE-9794-4FD5-B705-A1947A01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140B-0159-4E88-B938-CD59D377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3BC3-C01A-41A7-815F-8749F8490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5EE6-9930-45BA-B548-7F3127F84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F85F9E-7104-4351-A4C9-14353745C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8-000m-revmc-mac-comments.xls" TargetMode="External"/><Relationship Id="rId2" Type="http://schemas.openxmlformats.org/officeDocument/2006/relationships/hyperlink" Target="https://mentor.ieee.org/802.11/dcn/13/11-13-1160-09-000m-lb199-gen-adho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tandards.ieee.org/board/aud/LMSC.pdf" TargetMode="External"/><Relationship Id="rId8" Type="http://schemas.openxmlformats.org/officeDocument/2006/relationships/hyperlink" Target="http://grouper.ieee.org/groups/802/PNP/approved/IEEE_802_OM_v13.pdf" TargetMode="External"/><Relationship Id="rId9" Type="http://schemas.openxmlformats.org/officeDocument/2006/relationships/hyperlink" Target="http://grouper.ieee.org/groups/802/PNP/approved/IEEE_802_WG_PandP_v15.pdf" TargetMode="External"/><Relationship Id="rId10" Type="http://schemas.openxmlformats.org/officeDocument/2006/relationships/hyperlink" Target="https://mentor.ieee.org/802.11/dcn/13/11-13-0001-03-0000-802-11-operations-manual.docx"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316-00-000m-revmc-minutes-for-march-2014-beijing.docx" TargetMode="External"/><Relationship Id="rId2" Type="http://schemas.openxmlformats.org/officeDocument/2006/relationships/hyperlink" Target="https://mentor.ieee.org/802.11/dcn/14/11-14-0492-00-000m-tgmc-telecon-minutes-april-may-2014.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478C99-255F-4BDC-8676-B6429A9D7C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5-05</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E0CF30F-5F05-42BB-82C2-BF44ED481E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A0974B6-A1A9-4137-80B8-6EC6DC1E4E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C0F30820-671B-40EE-884C-33F11B06BA4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ABF94D9-D36E-40B8-8EA8-933CDFC2D2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2BAE587-842A-46BD-9317-701162CA1A0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411AF0A-9204-4ABD-8A4E-E75A9056C2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8-000m-revmc-mac-comments.xls</a:t>
            </a:r>
            <a:r>
              <a:rPr b="0" lang="en-US" sz="1800" spc="-1" strike="noStrike">
                <a:solidFill>
                  <a:srgbClr val="000000"/>
                </a:solidFill>
                <a:latin typeface="Times New Roman"/>
              </a:rPr>
              <a:t>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9-000m-lb199-gen-adhoc-comments.xls</a:t>
            </a:r>
            <a:r>
              <a:rPr b="0" lang="en-US" sz="1800" spc="-1" strike="noStrike">
                <a:solidFill>
                  <a:srgbClr val="000000"/>
                </a:solidFill>
                <a:latin typeface="Times New Roman"/>
              </a:rPr>
              <a:t> Tab  “Gen Motion Telecon April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233-30-000m-revmc-wg-ballot-comments.xls Tab “Editor Motion May 2014”</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A5BF0CB-8864-4728-B341-404E3C24FD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Officer Election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call for nominations</a:t>
            </a:r>
            <a:endParaRPr b="0"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 call for nominations</a:t>
            </a:r>
            <a:endParaRPr b="0"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ees to date:</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 Dorothy Stanley (Aruba Networks)</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 Chair: Mark Hamilton (Spectralink)</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 Chair/Secretary: Jon Rosdahl (CS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or motion by unanimous consen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4351EA9-EBEC-4305-BF29-A7709FA8E4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A6F0BEF-92F2-497B-8B0C-B8612F6C68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FC41B18-8D2B-4C81-BA5A-2EFF31C2F7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9485767-2A25-4537-A0B0-AF50C4317F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CB931CD-D91E-4184-9869-0AE006F7DD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EBCB18D-8D32-486B-9005-C03E1C8A41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11-14-207 </a:t>
            </a:r>
            <a:endParaRPr b="0" lang="en-US" sz="1600" spc="-1" strike="noStrike">
              <a:solidFill>
                <a:srgbClr val="000000"/>
              </a:solidFill>
              <a:latin typeface="Times New Roman"/>
            </a:endParaRPr>
          </a:p>
        </p:txBody>
      </p:sp>
      <p:sp>
        <p:nvSpPr>
          <p:cNvPr id="74" name="Rectangle 35"/>
          <p:cNvSpPr/>
          <p:nvPr/>
        </p:nvSpPr>
        <p:spPr>
          <a:xfrm>
            <a:off x="324000" y="520056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11ad Carlos 11-14-549, Eldad </a:t>
            </a:r>
            <a:endParaRPr b="0" lang="en-US" sz="1600" spc="-1" strike="noStrike">
              <a:solidFill>
                <a:srgbClr val="000000"/>
              </a:solidFill>
              <a:latin typeface="Times New Roman"/>
            </a:endParaRPr>
          </a:p>
        </p:txBody>
      </p:sp>
      <p:sp>
        <p:nvSpPr>
          <p:cNvPr id="75" name="Rectangle 36"/>
          <p:cNvSpPr/>
          <p:nvPr/>
        </p:nvSpPr>
        <p:spPr>
          <a:xfrm>
            <a:off x="4714920" y="4457880"/>
            <a:ext cx="4200480" cy="1257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73392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971880"/>
            <a:ext cx="4238640" cy="11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Officer elec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505080" indent="-194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Location: Gabor (11-14-541), Carlos A. (11-14-525)</a:t>
            </a:r>
            <a:endParaRPr b="0" lang="en-US" sz="1600" spc="-1" strike="noStrike">
              <a:solidFill>
                <a:srgbClr val="000000"/>
              </a:solidFill>
              <a:latin typeface="Times New Roman"/>
            </a:endParaRPr>
          </a:p>
        </p:txBody>
      </p:sp>
      <p:sp>
        <p:nvSpPr>
          <p:cNvPr id="79" name="Rectangle 1"/>
          <p:cNvSpPr/>
          <p:nvPr/>
        </p:nvSpPr>
        <p:spPr>
          <a:xfrm>
            <a:off x="401760" y="3106800"/>
            <a:ext cx="4238640" cy="8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CID 2458 11-14-533r1, CID 2434 11-13-1115, CID 2462</a:t>
            </a:r>
            <a:endParaRPr b="0" lang="en-US" sz="1600" spc="-1" strike="noStrike">
              <a:solidFill>
                <a:srgbClr val="000000"/>
              </a:solidFill>
              <a:latin typeface="Times New Roman"/>
            </a:endParaRPr>
          </a:p>
        </p:txBody>
      </p:sp>
      <p:sp>
        <p:nvSpPr>
          <p:cNvPr id="80" name="Rectangle 35"/>
          <p:cNvSpPr/>
          <p:nvPr/>
        </p:nvSpPr>
        <p:spPr>
          <a:xfrm>
            <a:off x="4724280" y="2438280"/>
            <a:ext cx="4200480" cy="60984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GPP Liaison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A2CF85A-C043-490F-A2B3-33D15587C9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C39669C-69F6-402C-83DF-8BEE4C7FFC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4"/>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5"/>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6"/>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7"/>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8"/>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9"/>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0"/>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443BB87-FC4A-4705-80AB-2A6FBF6DB5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65B2F0C-19F1-40E6-84D3-7208BF6F980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FD283F2-83C6-4E64-98A0-3A9ED249B2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AF87B53-1EC6-4F0B-9C8D-891D59F1200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a:t>
            </a:r>
            <a:r>
              <a:rPr b="0" lang="en-US" sz="2000" spc="-1" strike="noStrike" u="sng">
                <a:solidFill>
                  <a:srgbClr val="0066ff"/>
                </a:solidFill>
                <a:uFillTx/>
                <a:latin typeface="Times New Roman"/>
                <a:hlinkClick r:id="rId1"/>
              </a:rPr>
              <a:t>https://mentor.ieee.org/802.11/dcn/14/11-14-0316-00-000m-revmc-minutes-for-march-2014-beijing.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a:t>
            </a:r>
            <a:r>
              <a:rPr b="0" lang="en-US" sz="2000" spc="-1" strike="noStrike" u="sng">
                <a:solidFill>
                  <a:srgbClr val="0066ff"/>
                </a:solidFill>
                <a:uFillTx/>
                <a:latin typeface="Times New Roman"/>
                <a:hlinkClick r:id="rId2"/>
              </a:rPr>
              <a:t>https://mentor.ieee.org/802.11/dcn/14/11-14-0492-00-000m-tgmc-telecon-minutes-april-may-2014.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43436ED-16FD-4161-81A6-EB5CD60E1F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1939A2C-5F81-4E25-BFA1-719F7DD449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95F153B-64AF-459F-AA5C-90898BBA67D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5-05T18:42:22Z</dcterms:modified>
  <cp:revision>1604</cp:revision>
  <dc:subject/>
  <dc:title>TGm Agenda</dc:title>
</cp:coreProperties>
</file>