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EA2C9B-E684-4006-AF63-D0B11C70B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6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73F2A7A-184B-40D2-9B84-508A14F10E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14560" y="703440"/>
            <a:ext cx="4630680" cy="347328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17D5168-01EA-440D-9076-1AE94556B8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9665F51-FFCA-4A09-8589-E8470C5035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6854CA65-A45C-4CC3-8787-AB5A3E6439F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4560" y="703440"/>
            <a:ext cx="4630680" cy="347328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4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9"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35A17E5-446B-4BAC-A33D-D2F8163825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0A799E52-EEBE-4BC0-96A6-5CC662B21C3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14560" y="703440"/>
            <a:ext cx="4630680" cy="347328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1F8FF53-DEB5-464A-8857-754D1F0FE6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14560" y="703440"/>
            <a:ext cx="4630680" cy="347328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090F933-A56E-4928-A85A-B245B6340C9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14560" y="703440"/>
            <a:ext cx="4630680" cy="347328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C6CCE85-2CA5-4DA6-8A41-DCE1390CC6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14560" y="703440"/>
            <a:ext cx="4630680" cy="347328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87165CF-AE4E-4E96-BFB5-2B2B4D060DF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14560" y="703440"/>
            <a:ext cx="4630680" cy="347328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2129884-6C11-41D3-AD98-ED929C7502F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14560" y="703440"/>
            <a:ext cx="4630680" cy="347328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70287AE-9B89-405B-8997-76DCC3A866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14560" y="703440"/>
            <a:ext cx="4630680" cy="347328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7AD4324-7D18-467C-9380-A9ECBDFA84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14560" y="703440"/>
            <a:ext cx="4630680" cy="347328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7B25ECB-0E30-49A3-A42B-F4AB4AEABF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9F0ADEE-12CE-499D-AFB5-901A28C4AE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14560" y="703440"/>
            <a:ext cx="4630680" cy="347328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DE8ADD5-EF51-479B-8EE9-3128743E66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D24B5A1A-5331-4081-88F9-A0DD2B11F53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4560" y="703440"/>
            <a:ext cx="4630680" cy="347328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0744DCB-FA71-4A8D-BC04-B704A6130E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7E0FE6DC-AB7E-439D-AD22-59935EADCF6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14560" y="703440"/>
            <a:ext cx="4630680" cy="347328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6"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7"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8"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C32D11F-23A7-4421-897C-4722478088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9"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0"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1"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2"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E90A87B-3A20-4E1B-A7EF-DDE52D1F52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04840" y="696960"/>
            <a:ext cx="4649760" cy="348768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EBC4944-4C51-443F-86DB-5848F84F4C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BB5A4-45ED-49EC-AA65-E002128DA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712B4-10A9-44D3-830C-90C3CE41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D0D63-0807-4069-B4DC-C5E8CC829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7E053-1823-4C94-9C23-84B1D03A2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333C-B624-4FDF-8414-E2F1A6B5E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7026-B426-481E-B08F-515633733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64A49-4157-435A-9E75-B23CBA184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3D78F-F86B-4A7D-8ACF-11FBF9E1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5B946-4433-4B3C-8732-0BCB8FC2D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C57A-CBD5-4277-93CA-FBCA56A01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A26A-79D7-4BE2-9E52-3D29E0264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BBBB-43D1-467C-A4A8-D9BBC770B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10C583-A741-41A6-BDE4-0B8ECC3DE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hyperlink" Target="https://mentor.ieee.org/802.11/dcn/13/11-13-0361-26-000m-revmc-ma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pat-slideset.ppt"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loa.pdf" TargetMode="External"/><Relationship Id="rId5" Type="http://schemas.openxmlformats.org/officeDocument/2006/relationships/hyperlink" Target="http://standards.ieee.org/faqs/affiliationFAQ.html" TargetMode="External"/><Relationship Id="rId6" Type="http://schemas.openxmlformats.org/officeDocument/2006/relationships/hyperlink" Target="http://standards.ieee.org/resources/antitrust-guidelines.pdf" TargetMode="External"/><Relationship Id="rId7" Type="http://schemas.openxmlformats.org/officeDocument/2006/relationships/hyperlink" Target="http://www.ieee.org/portal/cms_docs/about/CoE_poster.pdf" TargetMode="External"/><Relationship Id="rId8" Type="http://schemas.openxmlformats.org/officeDocument/2006/relationships/hyperlink" Target="http://standards.ieee.org/board/aud/LMSC.pdf" TargetMode="External"/><Relationship Id="rId9" Type="http://schemas.openxmlformats.org/officeDocument/2006/relationships/hyperlink" Target="http://grouper.ieee.org/groups/802/PNP/approved/IEEE_802_OM_v13.pdf" TargetMode="External"/><Relationship Id="rId10" Type="http://schemas.openxmlformats.org/officeDocument/2006/relationships/hyperlink" Target="http://grouper.ieee.org/groups/802/PNP/approved/IEEE_802_WG_PandP_v15.pdf" TargetMode="External"/><Relationship Id="rId11" Type="http://schemas.openxmlformats.org/officeDocument/2006/relationships/hyperlink" Target="https://mentor.ieee.org/802.11/dcn/13/11-13-0001-03-0000-802-11-operations-manual.docx" TargetMode="External"/><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9EF6423-3E19-4335-91B6-AEDECFAFEE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4-01</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FE6AA4F-BB6F-4FDB-A100-D70D8A97667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A52B5DC-2D09-4972-9F25-F908DB8FED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58C10B8-E999-4A27-A1B1-F320EFCF254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2105940-064D-46C5-8255-B3D541B41F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E27A5F5-CC97-4820-9864-F3DC4F27EAC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9F6AAD8-C4CF-4AA0-9086-82D74FF484B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361-26-000m-revmc-mac-comments.xls</a:t>
            </a:r>
            <a:r>
              <a:rPr b="0" lang="en-US" sz="1800" spc="-1" strike="noStrike">
                <a:solidFill>
                  <a:srgbClr val="000000"/>
                </a:solidFill>
                <a:latin typeface="Times New Roman"/>
              </a:rPr>
              <a:t>  Tab “Motion MAC-W”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8-000m-lb199-gen-adhoc-comments.xls Tabs  “Gen Motion Telecon April ”,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7041DD0-9968-4BD6-A746-17A5F03602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E3A352A-E826-4B0B-934C-89B2D03D91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8BA3C98-5FBC-4C5B-987A-7EAD88A836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EDD4CBE-36B4-4386-BDA3-DB5DC3E69C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F6BCA0B-3CEE-49BD-870B-5AB6652040C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EAE2665-B893-44A6-B483-BE32955C43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4" name="Rectangle 35"/>
          <p:cNvSpPr/>
          <p:nvPr/>
        </p:nvSpPr>
        <p:spPr>
          <a:xfrm>
            <a:off x="324000" y="499104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5" name="Rectangle 36"/>
          <p:cNvSpPr/>
          <p:nvPr/>
        </p:nvSpPr>
        <p:spPr>
          <a:xfrm>
            <a:off x="4714920" y="4243320"/>
            <a:ext cx="4200480" cy="1257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2900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862440"/>
            <a:ext cx="4238640" cy="90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9" name="Rectangle 1"/>
          <p:cNvSpPr/>
          <p:nvPr/>
        </p:nvSpPr>
        <p:spPr>
          <a:xfrm>
            <a:off x="401760" y="3106800"/>
            <a:ext cx="4238640" cy="60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80" name="Rectangle 35"/>
          <p:cNvSpPr/>
          <p:nvPr/>
        </p:nvSpPr>
        <p:spPr>
          <a:xfrm>
            <a:off x="4724280" y="2274840"/>
            <a:ext cx="4200480" cy="60948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609120" indent="-234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2E5B605-D7F1-48BD-BB26-359BC5136F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87F3968-EA8C-4F3F-B45C-A5AED7E848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a:t>
            </a:r>
            <a:r>
              <a:rPr b="0" lang="en-US" sz="1600" spc="-1" strike="noStrike" u="sng">
                <a:solidFill>
                  <a:srgbClr val="0066ff"/>
                </a:solidFill>
                <a:uFillTx/>
                <a:latin typeface="Times New Roman"/>
                <a:hlinkClick r:id="rId2"/>
              </a:rPr>
              <a:t>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4"/>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5"/>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6"/>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7"/>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8"/>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9"/>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10"/>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1"/>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5C9D98E-9C43-4C1C-8306-BC900A8433A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A00DD0E4-C19F-46AC-94DF-BE0F64D4A0C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27370B4-94AF-4940-8789-1AEED053C0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ECC25352-FC65-4AC4-A5B1-BDFCFB039D6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11-14-03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TB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0AD0142-9C28-4AF1-9A27-D7032B7C04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363D537-A7AC-40D3-AA69-19EEA622798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13920B2-EDF2-4925-B7D4-39C0D15039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4-01T18:48:05Z</dcterms:modified>
  <cp:revision>1592</cp:revision>
  <dc:subject/>
  <dc:title>TGm Agenda</dc:title>
</cp:coreProperties>
</file>