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5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5425581-1E5C-457C-995E-5C9CBD5BE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2ADDCF-FF71-499C-B12D-F5C7E0641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E24E9F5-581B-4D46-9B25-AAC306A50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379320" y="898524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D4589D-6363-40E9-8B6B-74F542A3F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2/067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54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a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3870720" y="8985240"/>
            <a:ext cx="239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nt Chaplin, Chair (Sams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30427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3752076-5492-4B66-A605-6AAA0B0E16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CFC-7F01-477B-A572-99359FC3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C75-5873-4AB8-9C03-EDB79892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077A3-2B53-4614-834D-E65790A3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C715A-BD1F-4166-A1F5-2E00DFEB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C536C-86D2-4E79-B102-E7E8EECC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535F8-5370-4BE5-94E2-80E8DF02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C9841-2B25-4636-9467-B992C797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65C44-7C8F-4A05-825A-11680CDC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3CFE2-0D3E-455C-8AD6-A79A9AF6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AC3B7-C431-4B2E-B297-75090A48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48473-21F8-4D06-BEB6-8FF5934F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D0A99-349C-4ECD-9492-638D13A9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C8D-67DF-4A84-B40A-EE2D5F29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951BC-84ED-4881-921A-024B6CF7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B8306-B946-416D-B942-824E5DCE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EA323-8A3C-4FC0-B846-523A753B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D4326-03C8-456F-BB9A-C28A44B3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9D703-40F1-461E-8A01-54AA374B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91EBB-8982-498E-BD62-E392E82D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898D6-56D1-4077-8D75-D5572434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A6A09-35FA-4080-9F7D-96C8BB1B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8654D-F104-4D05-87E0-49518D4B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B0B7B-F341-4AEB-BB27-75EF5D0B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019-B279-433D-BBFD-EB87648A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5143A-3D80-44B1-A7CF-D5E3352E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4DC98-87E7-4F53-8666-FE7538AB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00447-D93E-4735-AF0B-987CA559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022D7-98B3-4F21-8684-EC9C195C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A8210-F52D-4641-97D6-6DF9C9E9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9FA34-AFC1-46CD-84B2-172EDD87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D466A-CE17-43CA-AB1D-2D0EE2B9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2B716-F5A5-4584-A530-0B247CB5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E2E9A-4996-4E1A-B69D-1651CA95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7A189-2BDA-4133-8C79-FA0CF648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DAF1-98CA-4913-B998-3CDEA9EE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80928-9EB2-4692-BFC0-FB20BAEB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9BC6F-D9C8-4F89-AB7C-FD61AAA3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3E3B6-3FB0-48CF-97F5-27DA051E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1B3E-123E-4226-9961-BD1CA88C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1EAB-BA85-4649-9B54-C35C324A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4D99-C321-437D-BF79-0E843EBD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AF24-BF8D-4286-8196-E014BA23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1838-0AA2-4955-BE59-5D46DB0B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D440-94C6-4AD2-BDB0-917FE34B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A93-E6A9-46F2-8498-389F8E88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5BAC-70E2-4071-B583-41AFC8EC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1B0F-4905-4579-8416-7E2D93D4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8F6C-33C2-48DC-9AFE-1A21BDE0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475F-16AC-4EC5-A3E4-47D0ADB4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749B-6AAC-4AEA-B210-71C32E4A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5ECEA-BF2A-443E-9073-B3FCC65B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2D82-DBA0-41AE-A8A7-EB1BF1FC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05D6-D931-4819-8E8A-724BF023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E38E-70FA-45FD-B88B-03CFD031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2D0C1-1ED2-4070-B46D-D1CD9944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D8C-AA69-495D-AFBB-86808133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3776-D278-4B66-A90A-61397062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10593-210A-4DC8-A9EA-05584EC7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C1A41-D475-4AB3-B026-B137F845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873EB-AC10-4203-B261-C1F4B2E2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E1D0-33EE-44B3-B250-E893FC30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A87E6-B29E-4691-B593-9F671617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EB566-0558-42B5-8708-887A6098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C406B-0CB0-46B7-A6D6-6A08A971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F5C1A-8257-46CE-BE45-7109A6DB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3CBB0-336B-46E2-B9F2-A23EC89A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329-CE21-44D8-B023-4D02F11B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09DC6-0470-4375-8DE6-3B60981F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86C8-FA51-4565-BA0F-BA95CB55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E409A-288C-4D6C-969B-369FF1B4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882E7-EF3A-44B9-A039-6E0D0C6F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CB7E1-FA37-4472-8334-CF9B5E6B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6FCD9-7468-4642-9749-6CFEBD73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D8D87-5EB0-49B2-8AB3-C0420732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F4F97-DFD0-404A-8A25-615157A9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8D4EA-213C-4596-AD40-58FE3E26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C3F8F-6650-4CE8-BC57-DAC5E759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F47-E985-4700-8B38-54FE518D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27C59-8868-43E6-ADFF-D72C56E7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03592-3ADC-4169-A12E-6454D89D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0BA91-0581-4A2E-AA61-B742DFF8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CBDCD-30AC-4F34-AEC6-5A1E654C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E8222-4F3F-4492-817A-40ECAAF6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043CD-A337-45AF-8325-F54E5B6E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FADB9-8DA5-4F68-A47A-68B0364B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B90BD-1E58-46F9-B58B-C8CAD6A2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F9002-C5A5-4F7D-A9EC-D475F6A3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DA236-4844-4BC3-A65D-3176373D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742-20F6-4328-8ED2-BEFEA867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53E36-D169-4828-B536-0A087D14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1B0D4-4857-4376-AFA6-68C3DB8B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CAD69-7DA8-462D-B5AE-3A8490A0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36271-BAB7-46F3-92DF-0683FEBF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0C600-E689-406B-A87C-5502EAD5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18ED7-C8E9-4E73-BA83-71EBF7A5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1A8D2-05CD-4D69-A05D-E5403FC6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5FCB7-5881-447D-91F8-29639F7C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9CF29-F299-4364-9E54-FF3032D4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33561-A3DB-4B91-8C4B-2F292491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5F6-6F80-4E5D-BBEB-6F6B67DC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0C303-5787-46AB-A6B1-5301D3A9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2ADA3-3149-49AF-A83C-436CBDCA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224C7-BA84-410E-9701-C5812B3E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4F9AE-ECC5-4F18-9204-CCD06383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AB8E8-D910-409B-AEA4-4002CB8F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C4819-B332-46B4-AD66-94F9AC8B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8D775-8E7A-4EA6-B3DA-E8ECDE90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D69DA-228E-4E8B-938E-9216905D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48D8D-BB21-4984-A56F-A1938A3A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9EE2C-6A31-4E46-9EBB-F0458A9A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C5F-499D-4DAD-859E-40F3B253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D3920-5F97-4C33-8461-83BD056D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5603C-02AA-4C7F-B7CE-BB6F2332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CD7E0-F482-4039-9247-3F0AE844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D2E6C-7CCC-446B-B2D0-87CE11BD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23C09-A241-4EB0-AB35-56678740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BF808-8986-4E24-BAB2-CD9D9C68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6D7EB-8B2E-4F01-B2A4-82C3AF1F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CFEFD-C27E-4F3E-86FD-AAC6E470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9A6C7-1A0A-4FB6-A1F2-DD1F255B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2E4C6-05EF-4F73-8571-F4129902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D80-6B88-4118-B961-BA75287F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2147F-EE43-462E-A689-B363BF01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BBF28-0BEC-41B9-B6D4-FD61232D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15A05-74EB-4263-A1EE-51544F7D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97681-1EE5-49BF-84DF-6B5BB91C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93C84-2AED-4F26-875C-C7D561DE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5494F-E729-40E0-90B0-FD62105C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8B29A-69FF-4577-BA86-E899199D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0DC56-12E2-4D32-A9CC-59AB42A3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38F13-2FF5-487A-8FF8-967D1B57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A6169-6208-485F-89ED-CA6CD229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138B796-AD31-430F-918D-9A5051A32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6BF99C0-E8F8-4E87-976F-80A280F5E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A97F732-006A-4ACD-8194-BB245FA9F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37C9-63A5-4DD6-880B-DCA9591AE5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1B17BD3-5307-4095-A1BE-6A7C8D77B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762A4F1-2599-4C0E-B319-456049F5A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DB632B5-7B62-42B7-8053-F66C4912F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14558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57606A1-8573-4024-9999-8C3401B8A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CF97102-F317-4CAF-B4E3-A04404908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03E458-F113-4828-9799-400192BE2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8F8EA4C-D371-4880-8855-C21BF0352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htsa.gov/About+NHTSA/Press+Releases/2014/USDOT+to+Move+Forward+with+Vehicle-to-Vehicle+Communication+Technology+for+Light+Vehicles" TargetMode="External"/><Relationship Id="rId2" Type="http://schemas.openxmlformats.org/officeDocument/2006/relationships/hyperlink" Target="https://mentor.ieee.org/802.11/dcn/14/11-14-0225-00-0reg-use-cases-for-dsrc-coexistence.ppt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ransition.fcc.gov/Daily_Releases/Daily_Business/2013/db0220/FCC-13-22A1.pdf" TargetMode="External"/><Relationship Id="rId2" Type="http://schemas.openxmlformats.org/officeDocument/2006/relationships/hyperlink" Target="https://mentor.ieee.org/802.11/dcn/13/11-13-0444-01-0reg-fcc-13-49-comment.docx" TargetMode="External"/><Relationship Id="rId3" Type="http://schemas.openxmlformats.org/officeDocument/2006/relationships/hyperlink" Target="https://mentor.ieee.org/802.11/dcn/13/11-13-0661-00-0reg-fcc-13-49-reply-comment-framework.doc" TargetMode="External"/><Relationship Id="rId4" Type="http://schemas.openxmlformats.org/officeDocument/2006/relationships/hyperlink" Target="https://mentor.ieee.org/802.11/dcn/13/11-13-0679-00-0reg-fcc-13-49-comment-survey.docx" TargetMode="External"/><Relationship Id="rId5" Type="http://schemas.openxmlformats.org/officeDocument/2006/relationships/hyperlink" Target="https://mentor.ieee.org/802.18/dcn/13/18-13-0087-04-0000-draft-reply-comments-of-ieee-802-re-5-ghz-nprm-fcc-et-13-49.docx" TargetMode="External"/><Relationship Id="rId6" Type="http://schemas.openxmlformats.org/officeDocument/2006/relationships/hyperlink" Target="https://mentor.ieee.org/802.18/dcn/14/18-14-0007-02-0000-dsrc-coexistence-tt-status-letter-to-oet.docx" TargetMode="External"/><Relationship Id="rId7" Type="http://schemas.openxmlformats.org/officeDocument/2006/relationships/hyperlink" Target="http://secs.oakland.edu/~gpcorser/vanet-kenny-DSRC.pdf" TargetMode="Externa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552-00-0wng-802-11p-dsrc-and-802-11ac-coexistence.ppt" TargetMode="External"/><Relationship Id="rId2" Type="http://schemas.openxmlformats.org/officeDocument/2006/relationships/hyperlink" Target="https://mentor.ieee.org/802.11/dcn/13/11-13-0541-01-0wng-dsrc-applications-tutorial.pptx" TargetMode="External"/><Relationship Id="rId3" Type="http://schemas.openxmlformats.org/officeDocument/2006/relationships/hyperlink" Target="https://mentor.ieee.org/802.11/dcn/13/11-13-0543-01-0wng-dsrc-support-information.pptx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faqs/affiliationFAQ.html" TargetMode="External"/><Relationship Id="rId2" Type="http://schemas.openxmlformats.org/officeDocument/2006/relationships/hyperlink" Target="http://standards.ieee.org/resources/antitrust-guidelines.pdf" TargetMode="External"/><Relationship Id="rId3" Type="http://schemas.openxmlformats.org/officeDocument/2006/relationships/hyperlink" Target="http://www.ieee.org/portal/cms_docs/about/CoE_poster.pdf" TargetMode="External"/><Relationship Id="rId4" Type="http://schemas.openxmlformats.org/officeDocument/2006/relationships/hyperlink" Target="https://mentor.ieee.org/802.11/public-file/07/11-07-0360-04-0000-802-11-policies-and-procedures.doc" TargetMode="External"/><Relationship Id="rId5" Type="http://schemas.openxmlformats.org/officeDocument/2006/relationships/hyperlink" Target="mailto:Jim.lansford@ieee.org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eee802.org/11/email/stds-802-11-reg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83817D5-093C-47EF-BB53-640799E98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802.11 Regulatory S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Coexistence Tiger Team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RAF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eleconference Plan and Agen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4-02-0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Object 11"/>
          <p:cNvGraphicFramePr/>
          <p:nvPr/>
        </p:nvGraphicFramePr>
        <p:xfrm>
          <a:off x="511200" y="3075120"/>
          <a:ext cx="8169120" cy="28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75120"/>
                    <a:ext cx="81691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12"/>
          <p:cNvSpPr/>
          <p:nvPr/>
        </p:nvSpPr>
        <p:spPr>
          <a:xfrm>
            <a:off x="533520" y="2666880"/>
            <a:ext cx="144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new busines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42516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Department of Transportation Announces Decision to Move Forward with Vehicle-to-Vehicle Communication Technology for Light Vehic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42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www.nhtsa.gov/About+NHTSA/Press+Releases/2014/USDOT+to+Move+Forward+with+Vehicle-to-Vehicle+Communication+Technology+for+Light+Vehic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42516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n Use cases for DSRC Coexistence analysis and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 https://mentor.ieee.org/802.11/dcn/14/11-14-0225-00-0reg-use-cases-for-dsrc-coexistence.pp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itation for future presenta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42516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CA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42516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RC field t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42516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42516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imity of public access points to heavily traveled high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D0FBC2-02EF-4E63-BB67-9140AE1FE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6"/>
          <p:cNvSpPr/>
          <p:nvPr/>
        </p:nvSpPr>
        <p:spPr>
          <a:xfrm>
            <a:off x="999000" y="60148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NPRM 13-22 (changes to 5GHz band rules, including proposed UNII-4 band)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transition.fcc.gov/Daily_Releases/Daily_Business/2013/db0220/FCC-13-22A1.p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17040" indent="-3081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444-01-0reg-fcc-13-49-comment.doc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Reply Comment framework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661-00-0reg-fcc-13-49-reply-comment-framework.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Comments surve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dcn/13/11-13-0679-00-0reg-fcc-13-49-comment-survey.doc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Reply Commen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s://mentor.ieee.org/802.18/dcn/13/18-13-0087-04-0000-draft-reply-comments-of-ieee-802-re-5-ghz-nprm-fcc-et-13-49.doc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tter to FCC OET from IEEE 802 regarding DSRC Coexistence Tiger Team activi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s://mentor.ieee.org/802.18/dcn/14/18-14-0007-02-0000-dsrc-coexistence-tt-status-letter-to-oet.doc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SRC Summ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://secs.oakland.edu/~gpcorser/vanet-kenny-DSRC.pd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F138129-E855-4C23-9E2A-7AF3BD4F3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 (2/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11 submissions on DSRC (since 802.11p was ratifie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552-00-0wng-802-11p-dsrc-and-802-11ac-coexistence.pp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41-01-0wng-dsrc-applications-tutorial.ppt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543-01-0wng-dsrc-support-information.ppt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0994-00-0reg-proposal-for-u-nii-4-devices.doc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276-00-0reg-proposal-for-sharing-in-unii-4-band.pp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309-00-0reg-harmful-interference-to-dsrc-systems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360-00-0reg-dsrc-per-versus-rss-profiles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449-02-0reg-proposal-for-dsrc-band-coexistence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C6813A2-11D3-4CA7-B7BB-7723365D9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is the plan for the February 7th, 2014 IEEE 802.11 (Regulatory Standing Committee) DSRC Coexistence Tiger Team telecon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Date Placeholder 6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19E9AAB-E29F-418B-8301-8B63249ED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rding secretary volunte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e ag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IEEE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al of minutes from F2F: 11-14/01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1 Matlab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2 FCC letter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Department of Transportation Announces Decision to Move Forward with Vehicle-to-Vehicle Communication Technology for Light Vehic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n Use cases for DSRC Coexistence analysis and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5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Date Placeholder 6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5BDB95B-9208-496D-AA32-383D4250C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ministrative I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d not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filiation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faqs/affiliationFAQ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i-Trust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resources/antitrust-guidelines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ic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www.ieee.org/portal/cms_docs/about/CoE_poster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1 Working Group Policies and Procedure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public-file/07/11-07-0360-04-0000-802-11-policies-and-procedures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r and Secret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r of this tiger team is Jim Lansford (C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ing for volunteers for a Recording Secre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ease send an email to the addresses below to have your attendance recor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Jim.lansford@ieee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5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Date Placeholder 6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A2EB54-938B-46CA-94CC-F1BAF1C5A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6468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Guidelines for IEEE WG Meeting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457200" y="1905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176"/>
              </a:spcBef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IEEE-SA standards meetings shall be conducted in compliance with all applicable laws, including antitrust and competition law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the interpretation, validity, or essentiality of patents/patent claim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specific license rates, terms, or cond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Relative costs, including licensing costs of essential patent claims, of different technical approaches may be discussed in standards development meeting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  <a:ea typeface="Arial"/>
              </a:rPr>
              <a:t>Technical considerations remain primary foc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or engage in the fixing of product prices, allocation of customers, or division of sales mark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the status or substance of ongoing or threatened litig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be silent if inappropriate topics are discussed … do formally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---------------------------------------------------------------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ee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IEEE-SA Standards Board Operations Manual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, clause 5.3.10 and </a:t>
            </a: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“Promoting Competition and Innovation: What You Need to Know about the IEEE Standards Association's Antitrust and Competition Policy”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for more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6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Date Placeholder 7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8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9F3B9D-DB36-41ED-9CEE-7C217FCA5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8D085DD-30A6-4363-B905-3047D26205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 Operating Rules – Tiger Te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body can vote, present, and make motion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is is a tiger team – it is an ad hoc meeting of the 802.11 Regulatory Standing Committee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y documents that are generated by this group that are intended for distribution outside of IEEE 802.11 (e.g., 802.18) must be approved with a 75% majority by the larger 802.11 Regulatory S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oting on documents must occur at an interim or plenary mee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ly 802.11 voters may vote on documents to be approved for forwarding to other IEEE 802 working grou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y submissions to this group must be posted to the IEEE document server (Mento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one can view IEEE 802.11 emails and download documents from Mentor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02.11 REG SC emails: </a:t>
            </a:r>
            <a:r>
              <a:rPr b="0" lang="en-US" sz="17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www.ieee802.org/11/email/stds-802-11-reg/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entor documents for download: </a:t>
            </a:r>
            <a:r>
              <a:rPr b="0" lang="en-US" sz="17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ocument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lect “REG SC” under groups to view only Regulatory Standing Committee docu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allocated 75MHz of spectrum in the 5.9GHz band (5850-5925MHz) for Dedicated Short Range Communications (DSRC) in October 199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FCC NPRM 13-22 (13-49), the FCC requested comments on a potential sharing of the DSRC band, to understand if a feasible sharing solution that protects DSRC users could be develop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RC would remain as a primary user of the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band would be designated U-NII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ac could be modified to operate in this new UNII-4 band if approved by the FC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did not specify the framework or etiquette by which band sharing would occ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BC33E7C-6ACC-4901-88F0-3BFEDFA26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 of th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document that describes and quantifies possible coexistence mechanisms between DSRC and extensions of the 802.11 base standard in the proposed UNII-4 band, if the FCC allows such band sharing in a future R&amp;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sible work ite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eview of ITS/DSRC field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eview of work to date on co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resentations on use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resentation of possible coexistence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Modeling/simulation of possible coexistence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Testing, field trials, and presentation of results from proposed prototype approach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 re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Includes outputs from all work i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One or more “snapshots” (summary of work to date) will be provided to FC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First snapshot in mid-Januar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207CB25-944C-4202-8E58-E5F98E933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335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pdate – anybody have sugg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by 802 EC and sent to Paul Nikolich for final printing, signature, and ma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55E6AC-1159-44DD-9183-84A0CBE5B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8:19Z</dcterms:created>
  <dc:creator>Jim Lansford</dc:creator>
  <dc:description/>
  <dc:language>en-US</dc:language>
  <cp:lastModifiedBy>jl22</cp:lastModifiedBy>
  <cp:lastPrinted>1998-02-10T13:28:06Z</cp:lastPrinted>
  <dcterms:modified xsi:type="dcterms:W3CDTF">2014-02-07T05:48:42Z</dcterms:modified>
  <cp:revision>1548</cp:revision>
  <dc:subject/>
  <dc:title>DSRC Tiger Team</dc:title>
</cp:coreProperties>
</file>