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5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78F325-C931-41FF-BA4D-9A928E423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A44F82-9483-4806-83FC-1E9280C6E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B5E871-C8F7-40D3-B4C7-5AAC47B64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379320" y="8985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3EA9F-4B25-45EF-856F-6ED5AF83E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06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54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870720" y="8985240"/>
            <a:ext cx="23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nt Chaplin, Chair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30427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F03B26-2EA3-40C6-BC9C-2E25899AFC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109-F556-4BFB-A675-C4D417DA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78B-E3B4-41C2-84E6-40824AF4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2088F-075F-4DBD-AAC3-8DDF7ADE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9E488-1D75-4858-909A-3C61BF33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28AFF-BB4D-4C6D-8599-DF0D2909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1D56C-D8E5-4A0C-A8CC-146D46EE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D58F6-3B7A-479C-A6A0-BDB22F6E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A7C04-B90E-4D07-B0C8-827C65DF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B2E7B-7300-4EB8-803A-544EA525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9D5BF-7BF5-443D-8698-06F5902C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17E98-226A-4F42-B1EC-EA3744CF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E73BD-5D86-4C7C-AA0F-19567B2C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8EE-4678-4916-A373-413FBE0C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1C04E-0AB1-4101-81F2-EDAE16F3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9A766-B31F-4321-B2FE-2F130699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61687-D098-4469-8385-0517B02A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17CD1-CBE8-40A4-99A7-5CEDD365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28835-748B-4F55-B219-9DA68C55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EDDBF-9B52-4530-833C-8A9C32A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84F2D-A509-4022-BCED-83CD9EA2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BD3D4-35B1-4FCA-9F59-0DB8F782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8DC47-BE56-4B38-9CF3-740FF0FF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CC260-4713-47B8-93A6-D97B860F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53C-8588-421A-A6A6-AEBBF41D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0882A-B1FB-448D-AE1B-C6CFEF6B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D09B8-8FD7-4167-9A69-A8181AF1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750F3-E338-46AD-8276-13D1CF57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0D8EA-DB34-4662-9DAD-B2E62679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39D22-8CF9-4BE9-84D6-9015097B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3AE35-5207-4BA4-8A97-422F7BBB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3CBA3-5C67-48EE-94A9-36154C81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9B08D-CC07-470C-A489-66749AC5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E8321-8000-44A3-82F8-4441B4E2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2EFC6-890C-495E-AD50-0F554D83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E84A-993D-4439-BF66-11255BED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93FE5-7BE5-4EC5-8698-DC8BF1BD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101D3-90FE-4236-A5D8-D31CBCF0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BCCDB-6403-41BF-9ABA-16459BEA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C6DE-5356-4869-9307-57D1C3A7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47BC-ABCE-4EF0-9F5F-3B02C746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B6B7-3649-44E6-B611-AE34771F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2D8F-F9BD-4E09-AC14-DFF03A13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E5E5-4F1D-40F9-95C6-370B20F7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16C8-0D61-47A2-84D0-E4E1087C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FED-A83C-48DD-A826-67D10E8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D395-8114-4FE1-94E7-80FDC05B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4502-9E14-4EFC-8395-A5D1BF80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C29D-067C-4C74-B5B7-0A0EBB5B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08D2-6E9B-4DB5-8D0F-9425E38B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51DB-9FC2-40B3-ADE6-B5576B54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5B09-F744-4DDB-ABAD-E7163B99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14A7-584E-465E-97D6-97C191F5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A79F-7D16-4A39-B30B-0C3909E5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D9A9-8481-4EB5-BA2C-10B8C206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049F-DFE1-4ABF-A04C-FC69720A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A04-8BE5-4FCD-8CD7-A41CA8FB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A2E2-E5B7-4DE1-B490-1957DCE5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E742-82C9-4D95-B0EC-6F201622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2341-6A47-4E01-9381-088CD73D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7C273-7665-418D-9B33-C264A20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9C74-1862-4C10-92EC-82E1E0D7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C39BD-E943-4FB2-84F6-D5ECD6B5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86A6-C710-4392-8FA3-41F9E1A4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9C18-A29C-4385-A4FA-356EABB1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3E68E-DAE3-4188-9626-D3428C3D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0D2E-93F5-439C-BADB-87F6A42D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DD9-B63D-4FC4-991B-75D80231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0893D-68D1-4FDF-BD44-95268820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4E67-1D58-4E66-BA65-B2A66505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3226-658D-432F-9DBD-B5B8D1A2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8808D-8180-402B-B162-52579DE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F875-1192-4DA4-8B2C-E3F6A1E9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A909-CDFA-4FD6-BF26-BC7D33D2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A9DA4-9BFA-494D-B9BB-586D78B1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7E10-0B92-45E3-ABDA-0755C23B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4F944-BDB3-4E2D-AE7E-0A048104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90B30-9FB9-4D8E-88D7-27A95461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EE7-FC2D-4804-8C4B-950378B4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6AFD2-A2ED-43A2-AD70-B15A2F27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60357-F92F-4A0B-9582-E840756B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A10B-5A8F-459D-9ACA-7DA4DD77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131DC-E09C-4DCC-804B-66451471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56FB-133E-4768-A620-E1144117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A7D06-850C-4F47-BB29-11FAFF63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6092-7FAC-4BD8-86E4-2528C878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4013B-5957-464B-A441-A1EB78C7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3F55D-BB4D-4B2F-B274-445A8FAC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C37F-E9A5-4981-A0EC-0F824A89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F8A-4DCA-455C-9620-11AEAACC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6EA62-36D9-4364-AF56-0025C6FC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BB7DC-9B0F-44A5-A950-AF8C4025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68392-F7A3-416E-91CB-61D653CF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A42B-EF39-40AB-B7A3-4E134E55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53476-8AC6-43FC-B401-CFE6255A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5BF23-D175-4F09-9D03-078C5F58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57E48-D018-4870-B083-6F8EE933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6E866-F851-4526-8764-85122C1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C1D62-8BB9-40D6-A5E5-BC0D2BCE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6702F-E082-4D2E-8F64-95393889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BB7-7208-4771-B7C4-2E73602F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E1F1D-A899-40B1-AAA9-01C2C66D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1E769-6E6C-4538-8E11-77B5E98F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F7DE-8D97-49B5-A804-F4DBB434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8844E-AC31-4EA5-8CE7-9E1FEF9C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5A9BF-B1D5-4DD5-9990-9684E242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2D27C-76B0-4743-9EAD-26485819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9C486-F500-4B98-96D1-2FD94AFB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1075C-9EC1-4A75-B30F-AF4BFDD0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74FB3-1B86-4721-84E8-C648B948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DA3A6-C3B3-482A-AED5-A8DCDBEE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D552-3B71-46B8-BCE5-572F9E92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0E20F-5295-447C-A285-8DE213C2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6BEF8-A07F-4D1B-9E45-49ABC4B9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DC5C8-0249-4C84-AE54-8EA872C4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950F7-C84C-43CF-A0A9-5031584B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99033-E8EA-4087-AFC0-27DFF324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FA355-B5CC-4B93-A444-967C3D0E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C36F9-2E99-4BF3-AD25-FD250074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69A8F-3CBC-491F-9424-CD82E530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43810-0B00-4CE7-9B04-0552EADD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98107-B605-4433-9870-D2424DBB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A90-2A98-4167-8F6C-E2E8E648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F895E-A5D0-48AF-9382-7560F8B5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39DEF-08A2-4C54-BF96-789703C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13F0D-E587-4016-8761-C490C703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474F4-E4D3-4590-AB58-6BEB487C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DEEBB-25CA-429C-8D0B-5521D6B3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D1E3F-BE82-4184-9C53-3D04D173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CCDAB-268E-4633-A249-351D5B32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D44B4-3CB3-4B35-B319-862D4061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0C307-F6D7-403B-8B98-5D09B91B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79FA2-E453-471A-9B7A-24F2A1CB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48CBF6-CDBC-4E5A-A498-C5F79E54E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760A61-7371-4FD9-9C4E-61745CF78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4AC293-F911-4946-8E89-65C11D496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11DE-DECE-44A7-B8C4-194023073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006A4F-65D2-4F68-BD5D-29819C6B4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6F4B19-E23C-4444-A6E3-4BA6A20A9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45C627-EF35-41FF-8F23-31D6D5369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14558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4785E0-3743-47C0-A100-8E01F24F5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F1C303-E5B8-4361-86F7-B5C149DA1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FE3D789-16C4-4A22-8F53-6FBC9DB2A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4/022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3FF677-4529-43DD-AEED-536171A25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htsa.gov/About+NHTSA/Press+Releases/2014/USDOT+to+Move+Forward+with+Vehicle-to-Vehicle+Communication+Technology+for+Light+Vehicles" TargetMode="External"/><Relationship Id="rId2" Type="http://schemas.openxmlformats.org/officeDocument/2006/relationships/hyperlink" Target="https://mentor.ieee.org/802.11/dcn/14/11-14-0225-00-0reg-use-cases-for-dsrc-coexistence.ppt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ansition.fcc.gov/Daily_Releases/Daily_Business/2013/db0220/FCC-13-22A1.pdf" TargetMode="External"/><Relationship Id="rId2" Type="http://schemas.openxmlformats.org/officeDocument/2006/relationships/hyperlink" Target="https://mentor.ieee.org/802.11/dcn/13/11-13-0444-01-0reg-fcc-13-49-comment.docx" TargetMode="External"/><Relationship Id="rId3" Type="http://schemas.openxmlformats.org/officeDocument/2006/relationships/hyperlink" Target="https://mentor.ieee.org/802.11/dcn/13/11-13-0661-00-0reg-fcc-13-49-reply-comment-framework.doc" TargetMode="External"/><Relationship Id="rId4" Type="http://schemas.openxmlformats.org/officeDocument/2006/relationships/hyperlink" Target="https://mentor.ieee.org/802.11/dcn/13/11-13-0679-00-0reg-fcc-13-49-comment-survey.docx" TargetMode="External"/><Relationship Id="rId5" Type="http://schemas.openxmlformats.org/officeDocument/2006/relationships/hyperlink" Target="https://mentor.ieee.org/802.18/dcn/13/18-13-0087-04-0000-draft-reply-comments-of-ieee-802-re-5-ghz-nprm-fcc-et-13-49.docx" TargetMode="External"/><Relationship Id="rId6" Type="http://schemas.openxmlformats.org/officeDocument/2006/relationships/hyperlink" Target="https://mentor.ieee.org/802.18/dcn/14/18-14-0007-02-0000-dsrc-coexistence-tt-status-letter-to-oet.docx" TargetMode="External"/><Relationship Id="rId7" Type="http://schemas.openxmlformats.org/officeDocument/2006/relationships/hyperlink" Target="http://secs.oakland.edu/~gpcorser/vanet-kenny-DSRC.pdf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552-00-0wng-802-11p-dsrc-and-802-11ac-coexistence.ppt" TargetMode="External"/><Relationship Id="rId2" Type="http://schemas.openxmlformats.org/officeDocument/2006/relationships/hyperlink" Target="https://mentor.ieee.org/802.11/dcn/13/11-13-0541-01-0wng-dsrc-applications-tutorial.pptx" TargetMode="External"/><Relationship Id="rId3" Type="http://schemas.openxmlformats.org/officeDocument/2006/relationships/hyperlink" Target="https://mentor.ieee.org/802.11/dcn/13/11-13-0543-01-0wng-dsrc-support-information.pptx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resources/antitrust-guidelines.pdf" TargetMode="External"/><Relationship Id="rId3" Type="http://schemas.openxmlformats.org/officeDocument/2006/relationships/hyperlink" Target="http://www.ieee.org/portal/cms_docs/about/CoE_poster.pdf" TargetMode="External"/><Relationship Id="rId4" Type="http://schemas.openxmlformats.org/officeDocument/2006/relationships/hyperlink" Target="https://mentor.ieee.org/802.11/public-file/07/11-07-0360-04-0000-802-11-policies-and-procedures.doc" TargetMode="External"/><Relationship Id="rId5" Type="http://schemas.openxmlformats.org/officeDocument/2006/relationships/hyperlink" Target="mailto:Jim.lansford@ieee.org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ee802.org/11/email/stds-802-11-reg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8E8491-AD99-4942-A24F-12E614C2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eleconference Plan and Agen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2-0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Object 11"/>
          <p:cNvGraphicFramePr/>
          <p:nvPr/>
        </p:nvGraphicFramePr>
        <p:xfrm>
          <a:off x="511200" y="3075120"/>
          <a:ext cx="816912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75120"/>
                    <a:ext cx="81691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new busine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Department of Transportation Announces Decision to Move Forward with Vehicle-to-Vehicle Communication Technology for Light Vehic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nhtsa.gov/About+NHTSA/Press+Releases/2014/USDOT+to+Move+Forward+with+Vehicle-to-Vehicle+Communication+Technology+for+Light+Vehic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n Use cases for DSRC Coexistence analysis and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 https://mentor.ieee.org/802.11/dcn/14/11-14-0225-00-0reg-use-cases-for-dsrc-coexistence.p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ation for future presenta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CA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RC field t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7040" indent="-4251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imity of public access points to heavily traveled high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FB7479-870A-4D46-86B1-07A012268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999000" y="60148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NPRM 13-22 (changes to 5GHz band rules, including proposed UNII-4 band)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transition.fcc.gov/Daily_Releases/Daily_Business/2013/db0220/FCC-13-22A1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040" indent="-3081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444-01-0reg-fcc-13-49-comment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 framework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661-00-0reg-fcc-13-49-reply-comment-framework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 surve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679-00-0reg-fcc-13-49-comment-survey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mentor.ieee.org/802.18/dcn/13/18-13-0087-04-0000-draft-reply-comments-of-ieee-802-re-5-ghz-nprm-fcc-et-13-49.doc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tter to FCC OET from IEEE 802 regarding DSRC Coexistence Tiger Team activi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s://mentor.ieee.org/802.18/dcn/14/18-14-0007-02-0000-dsrc-coexistence-tt-status-letter-to-oet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SRC Summ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://secs.oakland.edu/~gpcorser/vanet-kenny-DSRC.pd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63C1F0-1913-47B1-9375-7480866AD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 (2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 submissions on DSRC (since 802.11p was ratifi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552-00-0wng-802-11p-dsrc-and-802-11ac-coexistence.p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41-01-0wng-dsrc-applications-tutorial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543-01-0wng-dsrc-support-information.pp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994-00-0reg-proposal-for-u-nii-4-devices.doc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276-00-0reg-proposal-for-sharing-in-unii-4-band.pp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09-00-0reg-harmful-interference-to-dsrc-system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60-00-0reg-dsrc-per-versus-rss-profile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449-02-0reg-proposal-for-dsrc-band-coexistence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2AF3A5-65C8-4496-9FC2-1D0790AD1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is the plan for the February 7th, 2014 IEEE 802.11 (Regulatory Standing Committee) DSRC Coexistence Tiger Team telecon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Date Placeholder 6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713FF51-1651-44C6-A6E5-F27BC3D2D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rding secretary volunte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 ag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IEEE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al of minutes from F2F: 11-14/01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 Matlab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2 FCC letter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Department of Transportation Announces Decision to Move Forward with Vehicle-to-Vehicle Communication Technology for Light Vehic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24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n Use cases for DSRC Coexistence analysis and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Date Placeholder 6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7F129D0-0490-45DF-9EE1-79CCD9C1D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ministrative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d not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iliation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faqs/affiliationFAQ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resources/antitrust-guidelines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www.ieee.org/portal/cms_docs/about/CoE_post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Working Group Policies and Procedure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public-file/07/11-07-0360-04-0000-802-11-policies-and-procedures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and Secret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r of this tiger team is Jim Lansford (C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ing for volunteers for a Recording 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send an email to the addresses below to have your attendance recor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Jim.lansford@ieee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Date Placeholder 6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CCC8C0-32F6-466F-9C2C-05DB47A3D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468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Guidelines for IEEE WG Meet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457200" y="1905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176"/>
              </a:spcBef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IEEE-SA standards meetings shall be conducted in compliance with all applicable laws, including antitrust and competition law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interpretation, validity, or essentiality of patents/patent clai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specific license rates, terms, o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Relative costs, including licensing costs of essential patent claims, of different technical approaches may be discussed in standards development meeting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  <a:ea typeface="Arial"/>
              </a:rPr>
              <a:t>Technical considerations remain primar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or engage in the fixing of product prices, allocation of customers, or division of sales mar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status or substance of ongoing or threatened litig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be silent if inappropriate topics are discussed … do formally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---------------------------------------------------------------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e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IEEE-SA Standards Board Operations Manu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, clause 5.3.10 and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“Promoting Competition and Innovation: What You Need to Know about the IEEE Standards Association's Antitrust and Competition Policy”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for more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6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Date Placeholder 7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93F6A29-1D37-458F-B0AA-C8D03036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8AFB0B-E3D4-40AE-B8C7-E6E49553BE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Operating Rules –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body can vote, present, and make mo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is a tiger team – it is an ad hoc meeting of the 802.11 Regulatory Standing Committee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documents that are generated by this group that are intended for distribution outside of IEEE 802.11 (e.g., 802.18) must be approved with a 75% majority by the larger 802.11 Regulatory S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oting on documents must occur at an interim or plenary mee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802.11 voters may vote on documents to be approved for forwarding to other IEEE 802 working grou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submissions to this group must be posted to the IEEE document server (Mento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one can view IEEE 802.11 emails and download documents from Mento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02.11 REG SC emails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ieee802.org/11/email/stds-802-11-reg/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entor documents for download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lect “REG SC” under groups to view only Regulatory Standing Committee docu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allocated 75MHz of spectrum in the 5.9GHz band (5850-5925MHz) for Dedicated Short Range Communications (DSRC) in October 199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FCC NPRM 13-22 (13-49), the FCC requested comments on a potential sharing of the DSRC band, to understand if a feasible sharing solution that protects DSRC users could be develop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C would remain as a primary user of th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band would be designated U-NII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ac could be modified to operate in this new UNII-4 band if approved by the FC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did not specify the framework or etiquette by which band sharing would occ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D28FD5-4430-4B10-B304-FCE3D668B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 of th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document that describes and quantifies possible coexistence mechanisms between DSRC and extensions of the 802.11 base standard in the proposed UNII-4 band, if the FCC allows such band sharing in a future R&amp;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work it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ITS/DSRC field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work to date on 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s on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Modeling/simul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880" indent="-301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Testing, field trials, and presentation of results from proposed prototype approa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 re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Includes outputs from all work i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One or more “snapshots” (summary of work to date) will be provided to FC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First snapshot in mid-Janua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95815B0-3489-41CD-8BFF-9F32A647D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35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pdate – anybody have sugg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by 802 EC and sent to Paul Nikolich for final printing, signature, and ma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43E724E-B825-4959-80C6-EEC7EFE8C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Jim Lansford</dc:creator>
  <dc:description/>
  <dc:language>en-US</dc:language>
  <cp:lastModifiedBy>jl22</cp:lastModifiedBy>
  <cp:lastPrinted>1998-02-10T13:28:06Z</cp:lastPrinted>
  <dcterms:modified xsi:type="dcterms:W3CDTF">2014-02-07T05:48:42Z</dcterms:modified>
  <cp:revision>1548</cp:revision>
  <dc:subject/>
  <dc:title>DSRC Tiger Team</dc:title>
</cp:coreProperties>
</file>