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423B20-BBE4-4C6E-BF4E-905D5AD1D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4A0E4B6-E588-4A25-8E17-DFDD6FB664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14560" y="703440"/>
            <a:ext cx="4630680" cy="347328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484E4C8-6532-44F1-AF37-310C0B2531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9"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51BDAE6-373B-4F0C-9509-878F2283D1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519C71DD-4B9C-4C6A-8F55-44F7C3D4AD6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14560" y="703440"/>
            <a:ext cx="4630680" cy="347328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5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936AA98-7FDC-4181-850A-475510773B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A05838E6-AC1F-4B24-B795-A0746A97450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14560" y="703440"/>
            <a:ext cx="4630680" cy="347328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B1651C1-BCBD-446A-AB00-3FD0F553E8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6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6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6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910C6A2-1D44-4427-915A-B2833879401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14560" y="703440"/>
            <a:ext cx="4630680" cy="3473280"/>
          </a:xfrm>
          <a:prstGeom prst="rect">
            <a:avLst/>
          </a:prstGeom>
          <a:ln w="0">
            <a:noFill/>
          </a:ln>
        </p:spPr>
      </p:sp>
      <p:sp>
        <p:nvSpPr>
          <p:cNvPr id="2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BCAD5AE-B3BC-43A3-886B-7D584FE4CC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14560" y="703440"/>
            <a:ext cx="4630680" cy="3473280"/>
          </a:xfrm>
          <a:prstGeom prst="rect">
            <a:avLst/>
          </a:prstGeom>
          <a:ln w="0">
            <a:noFill/>
          </a:ln>
        </p:spPr>
      </p:sp>
      <p:sp>
        <p:nvSpPr>
          <p:cNvPr id="2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1C900DD-E3B8-484C-BCA2-40EA6B8150E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14560" y="703440"/>
            <a:ext cx="4630680" cy="3473280"/>
          </a:xfrm>
          <a:prstGeom prst="rect">
            <a:avLst/>
          </a:prstGeom>
          <a:ln w="0">
            <a:noFill/>
          </a:ln>
        </p:spPr>
      </p:sp>
      <p:sp>
        <p:nvSpPr>
          <p:cNvPr id="2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9F3836C-0F90-492D-9EC9-42202C34AF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14560" y="703440"/>
            <a:ext cx="4630680" cy="3473280"/>
          </a:xfrm>
          <a:prstGeom prst="rect">
            <a:avLst/>
          </a:prstGeom>
          <a:ln w="0">
            <a:noFill/>
          </a:ln>
        </p:spPr>
      </p:sp>
      <p:sp>
        <p:nvSpPr>
          <p:cNvPr id="2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51F4293-0889-4A4A-B158-F13F8C95DE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14560" y="703440"/>
            <a:ext cx="4630680" cy="347328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97DED59-40D7-4BCB-9361-453489D73D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14560" y="703440"/>
            <a:ext cx="4630680" cy="3473280"/>
          </a:xfrm>
          <a:prstGeom prst="rect">
            <a:avLst/>
          </a:prstGeom>
          <a:ln w="0">
            <a:noFill/>
          </a:ln>
        </p:spPr>
      </p:sp>
      <p:sp>
        <p:nvSpPr>
          <p:cNvPr id="2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B59DF7D-DDAE-47FA-AF00-7E46A765AED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14560" y="703440"/>
            <a:ext cx="4630680" cy="347328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EB6489F-CCD1-470E-B45A-43F9BEFCA7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14560" y="703440"/>
            <a:ext cx="4630680" cy="347328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8E79626-932D-4E1D-8659-215AA11A49C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7E8FA4C-04AA-4978-8148-2B3AF859C3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14560" y="703440"/>
            <a:ext cx="4630680" cy="3473280"/>
          </a:xfrm>
          <a:prstGeom prst="rect">
            <a:avLst/>
          </a:prstGeom>
          <a:ln w="0">
            <a:noFill/>
          </a:ln>
        </p:spPr>
      </p:sp>
      <p:sp>
        <p:nvSpPr>
          <p:cNvPr id="1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8FE6D61-7A49-4E05-87FE-D296A243FB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EF2DCE5-4851-48D9-A641-E7D9249E0C0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4560" y="703440"/>
            <a:ext cx="4630680" cy="347328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6C4DD84-F0AE-4B53-BA51-EBEFB6A272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0027FBA5-689C-402B-9683-87C97CF8E87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14560" y="703440"/>
            <a:ext cx="4630680" cy="347328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926E2F3-C504-4D56-A738-8DEFA87206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2" name="Rectangle 2"/>
          <p:cNvSpPr/>
          <p:nvPr/>
        </p:nvSpPr>
        <p:spPr>
          <a:xfrm>
            <a:off x="37155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3" name="Rectangle 3"/>
          <p:cNvSpPr/>
          <p:nvPr/>
        </p:nvSpPr>
        <p:spPr>
          <a:xfrm>
            <a:off x="10382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4" name="Rectangle 6"/>
          <p:cNvSpPr/>
          <p:nvPr/>
        </p:nvSpPr>
        <p:spPr>
          <a:xfrm>
            <a:off x="330012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374AB05-54FA-472D-842F-5D00296FE8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04840" y="696960"/>
            <a:ext cx="4649760" cy="348768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6D8F47F-0494-4200-853A-C174EEACCE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34B43-F132-4DEB-A7E3-2EA1493B9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EA17-7B2D-4984-883F-F355D8202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D12D9-1F3E-4384-8FFF-908C1EC4B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6E182-BE88-4F74-A9A0-5F1C809F4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BF66F-61EF-4D44-B0EA-D7B7D026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5434-248E-4B22-AEB3-57F3F80C6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74F1-D684-49D2-A824-20E81D92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4AE4-0394-4126-8311-F90A0B023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8AFB1-AB86-4A09-BA13-2CBC783F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13BA-C10D-49C6-A0B8-BFB59095E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1AC1-52DB-4C89-938E-538D56B0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5D0B-8155-4D0B-951F-AC680A34E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62CC6A-566C-46AC-A747-7B81359C5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222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3/11-13-1533-01-000m-clause-16-and-17-deprecation.docx" TargetMode="External"/><Relationship Id="rId2" Type="http://schemas.openxmlformats.org/officeDocument/2006/relationships/hyperlink" Target="https://mentor.ieee.org/802.11/dcn/13/11-13-0416-05-000m-cid-32-11b-is-poison.pptx" TargetMode="External"/><Relationship Id="rId3" Type="http://schemas.openxmlformats.org/officeDocument/2006/relationships/hyperlink" Target="https://mentor.ieee.org/802.11/dcn/14/11-14-0099-00-000m-renewing-2-4ghz-band.pptx"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hyperlink" Target="https://mentor.ieee.org/802.11/dcn/13/11-13-0361-26-000m-revmc-mac-comments.xls" TargetMode="External"/><Relationship Id="rId3" Type="http://schemas.openxmlformats.org/officeDocument/2006/relationships/hyperlink" Target="https://mentor.ieee.org/802.11/dcn/13/11-13-1160-08-000m-lb199-gen-adhoc-comments.xls" TargetMode="External"/><Relationship Id="rId4" Type="http://schemas.openxmlformats.org/officeDocument/2006/relationships/hyperlink" Target="https://mentor.ieee.org/802.11/dcn/13/11-13-0233-27-000m-revmc-wg-ballot-comments.xls" TargetMode="External"/><Relationship Id="rId5" Type="http://schemas.openxmlformats.org/officeDocument/2006/relationships/hyperlink" Target="https://mentor.ieee.org/802.11/dcn/13/11-13-0233-27-000m-revmc-wg-ballot-comments.xls"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13/11-13-0361-24-000m-revmc-mac-comments.xls"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mentor.ieee.org/802.11/public-file/07/11-07-0360-04-0000-802-11-policies-and-procedures.doc" TargetMode="External"/><Relationship Id="rId8" Type="http://schemas.openxmlformats.org/officeDocument/2006/relationships/hyperlink" Target="https://mentor.ieee.org/802-ec/dcn/09/ec-09-0007-02-00EC-draft-lmsc-wg-p-p.pdf" TargetMode="External"/><Relationship Id="rId9" Type="http://schemas.openxmlformats.org/officeDocument/2006/relationships/hyperlink" Target="https://mentor.ieee.org/802-ec/dcn/09/ec-09-0005-02-00EC-draft-revised-lmsc-p-p-for-wg-p-p-ballot.pdf" TargetMode="External"/><Relationship Id="rId10" Type="http://schemas.openxmlformats.org/officeDocument/2006/relationships/hyperlink" Target="https://mentor.ieee.org/802-ec/dcn/09/ec-09-0006-02-00EC-draft-revision-of-the-lmsc-om-for-wg-p-p.pdf"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129-00-000m-revmc-minutes-for-jan-2014-la.docx" TargetMode="External"/><Relationship Id="rId2" Type="http://schemas.openxmlformats.org/officeDocument/2006/relationships/hyperlink" Target="https://mentor.ieee.org/802.11/dcn/14/11-14-0226-03-000m-tgmc-feb-2014-telecon-minutes.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48CBE8D-9901-4F05-98E1-2E41FA0CB5E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rch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3-18</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A962762-63CE-4E66-8FBA-708F88FA7C2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0"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3"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4"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26"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5EF1102-15A8-4768-A293-FD05662068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926D08A-6F05-4BB8-9D03-AE35F9873A9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Info</a:t>
            </a:r>
            <a:br>
              <a:rPr sz="3200"/>
            </a:br>
            <a:endParaRPr b="1" lang="en-US" sz="32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mc ballot in March or May</a:t>
            </a:r>
            <a:endParaRPr b="1" lang="en-US" sz="24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35BE65D-A5AC-499F-9BB0-D52788F583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41B74663-9BBC-4C81-B73B-BE64C418067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recation CID documents (update with new docs, if any)</a:t>
            </a:r>
            <a:br>
              <a:rPr sz="3200"/>
            </a:b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1533-01-000m-clause-16-and-17-deprecation.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0416-05-000m-cid-32-11b-is-poison.ppt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ian/Andrew: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4/11-14-0099-00-000m-renewing-2-4ghz-band.pptx</a:t>
            </a: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25559AE-964A-4075-9715-FB5B044F74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6CE86F3F-75C3-438E-AD3F-20D51DF8A7F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a:t>
            </a:r>
            <a:br>
              <a:rPr sz="3200"/>
            </a:b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857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BC39026-CE53-41D2-9ACC-CA8C512CBC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8   – Telecons</a:t>
            </a: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84000"/>
          </a:bodyPr>
          <a:p>
            <a:pPr lvl="1"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576000" indent="-287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361-26-000m-revmc-mac-comments.xls</a:t>
            </a:r>
            <a:r>
              <a:rPr b="0" lang="en-US" sz="1800" spc="-1" strike="noStrike">
                <a:solidFill>
                  <a:srgbClr val="000000"/>
                </a:solidFill>
                <a:latin typeface="Times New Roman"/>
              </a:rPr>
              <a:t>  Tab “Motion MAC-U” </a:t>
            </a:r>
            <a:endParaRPr b="0" lang="en-US" sz="1800" spc="-1" strike="noStrike">
              <a:solidFill>
                <a:srgbClr val="000000"/>
              </a:solidFill>
              <a:latin typeface="Times New Roman"/>
            </a:endParaRPr>
          </a:p>
          <a:p>
            <a:pPr lvl="2" marL="576000" indent="-287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160-08-000m-lb199-gen-adhoc-comments.xls</a:t>
            </a:r>
            <a:r>
              <a:rPr b="0" lang="en-US" sz="1800" spc="-1" strike="noStrike">
                <a:solidFill>
                  <a:srgbClr val="000000"/>
                </a:solidFill>
                <a:latin typeface="Times New Roman"/>
              </a:rPr>
              <a:t> Tabs  “Gen Motion Telecon Feb ”, “Gen Motion Telecon Feb 28 ”, and “Gen Motion Telecon March 12 ”</a:t>
            </a:r>
            <a:endParaRPr b="0" lang="en-US" sz="1800" spc="-1" strike="noStrike">
              <a:solidFill>
                <a:srgbClr val="000000"/>
              </a:solidFill>
              <a:latin typeface="Times New Roman"/>
            </a:endParaRPr>
          </a:p>
          <a:p>
            <a:pPr lvl="2" marL="576000" indent="-287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4"/>
              </a:rPr>
              <a:t>https://</a:t>
            </a:r>
            <a:r>
              <a:rPr b="0" lang="en-US" sz="1800" spc="-1" strike="noStrike" u="sng">
                <a:solidFill>
                  <a:srgbClr val="0066ff"/>
                </a:solidFill>
                <a:uFillTx/>
                <a:latin typeface="Times New Roman"/>
                <a:hlinkClick r:id="rId5"/>
              </a:rPr>
              <a:t>mentor.ieee.org/802.11/dcn/13/11-13-0233-27-000m-revmc-wg-ballot-comments.xls</a:t>
            </a:r>
            <a:r>
              <a:rPr b="0" lang="en-US" sz="1800" spc="-1" strike="noStrike">
                <a:solidFill>
                  <a:srgbClr val="000000"/>
                </a:solidFill>
                <a:latin typeface="Times New Roman"/>
              </a:rPr>
              <a:t>  CIDs 2476, 2044</a:t>
            </a:r>
            <a:endParaRPr b="0" lang="en-US" sz="1800" spc="-1" strike="noStrike">
              <a:solidFill>
                <a:srgbClr val="000000"/>
              </a:solidFill>
              <a:latin typeface="Times New Roman"/>
            </a:endParaRPr>
          </a:p>
          <a:p>
            <a:pPr lvl="1"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Adrian Stephens</a:t>
            </a:r>
            <a:endParaRPr b="1"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Jon Rosdahl</a:t>
            </a:r>
            <a:endParaRPr b="1"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9-0-0 pass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9B852F8-15DC-48EF-8E60-00A038EF4B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Presentations &amp; Comments</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4-000m-revmc-mac-comments.xls</a:t>
            </a:r>
            <a:r>
              <a:rPr b="0" lang="en-US" sz="1800" spc="-1" strike="noStrike">
                <a:solidFill>
                  <a:srgbClr val="000000"/>
                </a:solidFill>
                <a:latin typeface="Times New Roman"/>
              </a:rPr>
              <a:t> Tab “Motion MAC-V”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4-000m-lb199-gen-adhoc-comments.xls Tab “Gen Motion  xx ”</a:t>
            </a:r>
            <a:endParaRPr b="0" lang="en-US" sz="1800" spc="-1" strike="noStrike">
              <a:solidFill>
                <a:srgbClr val="000000"/>
              </a:solidFill>
              <a:latin typeface="Times New Roman"/>
            </a:endParaRPr>
          </a:p>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00AF29D-1873-448B-A19B-E579CFA3EA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E686A7F-1E7E-4FE8-98F1-2492F7BB4A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May Meeting Planning</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4, 11, May 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594D2F8-D263-45CE-A5A6-9A29F52F20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002-12-0000-802-11-operations-manual.doc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1082-17-0000-revmc-pre-ballot-comments.xl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4-000m-revmc-wg-ballot-comments.xls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CD7E065-215C-449C-9003-B707566E84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rch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7F840F0-242E-4C75-85CB-DC787C57F4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99, 2110 (11-14-0268, 406) Carlos, 2436 (11-14-41r1), CID 2065, 11-14-57, 207, - Adrian</a:t>
            </a:r>
            <a:endParaRPr b="0" lang="en-US" sz="1600" spc="-1" strike="noStrike">
              <a:solidFill>
                <a:srgbClr val="000000"/>
              </a:solidFill>
              <a:latin typeface="Times New Roman"/>
            </a:endParaRPr>
          </a:p>
        </p:txBody>
      </p:sp>
      <p:sp>
        <p:nvSpPr>
          <p:cNvPr id="74" name="Rectangle 35"/>
          <p:cNvSpPr/>
          <p:nvPr/>
        </p:nvSpPr>
        <p:spPr>
          <a:xfrm>
            <a:off x="324000" y="4743360"/>
            <a:ext cx="4343400" cy="104796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 </a:t>
            </a:r>
            <a:endParaRPr b="0" lang="en-US" sz="1800" spc="-1" strike="noStrike">
              <a:solidFill>
                <a:srgbClr val="000000"/>
              </a:solidFill>
              <a:latin typeface="Times New Roman"/>
            </a:endParaRPr>
          </a:p>
          <a:p>
            <a:pPr lvl="1" marL="676080" indent="-2599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70 (11-14-311), Location (11-13-1509, 11-14-32, 160), CIDs 2468, 2490 – BHart, MHamilton comments</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Rectangle 36"/>
          <p:cNvSpPr/>
          <p:nvPr/>
        </p:nvSpPr>
        <p:spPr>
          <a:xfrm>
            <a:off x="4714920" y="4419720"/>
            <a:ext cx="4200480" cy="125712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May, AOB</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048120"/>
            <a:ext cx="3962520" cy="9144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1 </a:t>
            </a:r>
            <a:endParaRPr b="0" lang="en-US" sz="1800" spc="-1" strike="noStrike">
              <a:solidFill>
                <a:srgbClr val="000000"/>
              </a:solidFill>
              <a:latin typeface="Times New Roman"/>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atabase status</a:t>
            </a:r>
            <a:endParaRPr b="0" lang="en-US" sz="1600" spc="-1" strike="noStrike">
              <a:solidFill>
                <a:srgbClr val="000000"/>
              </a:solidFill>
              <a:latin typeface="Times New Roman"/>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09, 2413 (GSmith), CID 2425 (MRison), 11-14-275 </a:t>
            </a:r>
            <a:endParaRPr b="0" lang="en-US" sz="1600" spc="-1" strike="noStrike">
              <a:solidFill>
                <a:srgbClr val="000000"/>
              </a:solidFill>
              <a:latin typeface="Times New Roman"/>
            </a:endParaRPr>
          </a:p>
        </p:txBody>
      </p:sp>
      <p:sp>
        <p:nvSpPr>
          <p:cNvPr id="77" name="Rectangle 1"/>
          <p:cNvSpPr/>
          <p:nvPr/>
        </p:nvSpPr>
        <p:spPr>
          <a:xfrm>
            <a:off x="295200" y="3514680"/>
            <a:ext cx="4238640" cy="114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CID 2043 (Qi Wang), 11-14-344</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fontScale="37000"/>
          </a:bodyPr>
          <a:p>
            <a:pPr marL="126720" indent="-126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1-14-0367 – Privacy enhancements</a:t>
            </a:r>
            <a:endParaRPr b="0" lang="en-US" sz="16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1-14-207, 275, Adrian, MHamilton assigned comments</a:t>
            </a:r>
            <a:endParaRPr b="0" lang="en-US" sz="1600" spc="-1" strike="noStrike">
              <a:solidFill>
                <a:srgbClr val="000000"/>
              </a:solidFill>
              <a:latin typeface="Times New Roman"/>
            </a:endParaRPr>
          </a:p>
          <a:p>
            <a:pPr lvl="1" marL="274680" indent="-105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B0DD8B7-80C6-4EBE-ADB7-5C2E00A25D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Tuesday PM1</a:t>
            </a:r>
            <a:br>
              <a:rPr sz="3200"/>
            </a:br>
            <a:endParaRPr b="1" lang="en-US" sz="3200" spc="-1" strike="noStrike">
              <a:solidFill>
                <a:srgbClr val="000000"/>
              </a:solidFill>
              <a:latin typeface="Times New Roman"/>
            </a:endParaRPr>
          </a:p>
        </p:txBody>
      </p:sp>
      <p:sp>
        <p:nvSpPr>
          <p:cNvPr id="85"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6"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345CDE7-F8B2-4A7B-8EA2-F1CD4E9322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0" name="PlaceHolder 1"/>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3"/>
              </a:rPr>
              <a:t>http://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4"/>
              </a:rPr>
              <a:t>http://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5"/>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6"/>
              </a:rPr>
              <a:t>http://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7"/>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8"/>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u="sng">
                <a:solidFill>
                  <a:srgbClr val="0066ff"/>
                </a:solidFill>
                <a:uFillTx/>
                <a:latin typeface="Times New Roman"/>
                <a:hlinkClick r:id="rId9"/>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0"/>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97DF35A-E815-480D-95DE-F4B1615F6D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F1A582CE-C9D2-42F7-A9C8-5632C055BA8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1-09/0246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D28C65D-3E3F-4D51-9E3A-9A5C3B1571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2DACD86E-DC45-4FC6-979C-FA7DE768B92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4/11-14-0129-00-000m-revmc-minutes-for-jan-2014-la.docx</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4/11-14-0226-03-000m-tgmc-feb-2014-telecon-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CB53136-7FE5-448A-9C11-ACBDD8FF30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CA92F63-1E48-4FFE-ABB7-3E9F4C3A1B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08"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rPr>
              <a:t>Dec 2013 – March 2014 – 11ac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3.0 (includes 11ac) March 2014</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 2014 – April 2014 – 11af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4.0 (includes 11af) July 2014</a:t>
            </a:r>
            <a:endParaRPr b="0" lang="en-US" sz="16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5 – RevCom/SASB Approv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95A1506-3E90-466A-B7E0-97BACB2A4E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6"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3-18T10:37:42Z</dcterms:modified>
  <cp:revision>1546</cp:revision>
  <dc:subject/>
  <dc:title>TGm Agenda</dc:title>
</cp:coreProperties>
</file>