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F555FE-A45B-45F4-88E6-B2B65BD86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971902D-93EF-4A70-A71E-5AF0B63D24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14560" y="703440"/>
            <a:ext cx="4630680" cy="347328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A453A6E-7D7F-49F2-9C6B-E453E537CFD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9"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4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0E7C8C2-4A4C-478E-AD28-3B40714A4D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3F6F347F-DAF2-4C73-A752-EDCB0E590A8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14560" y="703440"/>
            <a:ext cx="4630680" cy="347328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5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3C7B87B-7EE9-48D0-9665-43ABE3659FF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1D6B1A40-1D21-4916-A09C-1C8AA3FEFEF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14560" y="703440"/>
            <a:ext cx="4630680" cy="347328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63A88EF-EB38-4702-8FDA-FDADC7FEB6B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6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6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6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876A7B3B-BA77-4104-91B9-39528858FEE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14560" y="703440"/>
            <a:ext cx="4630680" cy="3473280"/>
          </a:xfrm>
          <a:prstGeom prst="rect">
            <a:avLst/>
          </a:prstGeom>
          <a:ln w="0">
            <a:noFill/>
          </a:ln>
        </p:spPr>
      </p:sp>
      <p:sp>
        <p:nvSpPr>
          <p:cNvPr id="2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39F8B4E-6403-40DD-A793-C5F4D35D6D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14560" y="703440"/>
            <a:ext cx="4630680" cy="3473280"/>
          </a:xfrm>
          <a:prstGeom prst="rect">
            <a:avLst/>
          </a:prstGeom>
          <a:ln w="0">
            <a:noFill/>
          </a:ln>
        </p:spPr>
      </p:sp>
      <p:sp>
        <p:nvSpPr>
          <p:cNvPr id="27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691289F-D1FE-4415-B466-30852FF438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14560" y="703440"/>
            <a:ext cx="4630680" cy="3473280"/>
          </a:xfrm>
          <a:prstGeom prst="rect">
            <a:avLst/>
          </a:prstGeom>
          <a:ln w="0">
            <a:noFill/>
          </a:ln>
        </p:spPr>
      </p:sp>
      <p:sp>
        <p:nvSpPr>
          <p:cNvPr id="2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284A937-8F31-4F9A-AF82-8A776D8F3C3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14560" y="703440"/>
            <a:ext cx="4630680" cy="3473280"/>
          </a:xfrm>
          <a:prstGeom prst="rect">
            <a:avLst/>
          </a:prstGeom>
          <a:ln w="0">
            <a:noFill/>
          </a:ln>
        </p:spPr>
      </p:sp>
      <p:sp>
        <p:nvSpPr>
          <p:cNvPr id="28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78D848A-DD43-484F-A5BC-FD8E6A0966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14560" y="703440"/>
            <a:ext cx="4630680" cy="3473280"/>
          </a:xfrm>
          <a:prstGeom prst="rect">
            <a:avLst/>
          </a:prstGeom>
          <a:ln w="0">
            <a:noFill/>
          </a:ln>
        </p:spPr>
      </p:sp>
      <p:sp>
        <p:nvSpPr>
          <p:cNvPr id="29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9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FB8A677-B199-4C63-BA54-D604B842CE1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14560" y="703440"/>
            <a:ext cx="4630680" cy="3473280"/>
          </a:xfrm>
          <a:prstGeom prst="rect">
            <a:avLst/>
          </a:prstGeom>
          <a:ln w="0">
            <a:noFill/>
          </a:ln>
        </p:spPr>
      </p:sp>
      <p:sp>
        <p:nvSpPr>
          <p:cNvPr id="29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10941631-D1D3-4D0E-B072-473A789C7C9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14560" y="703440"/>
            <a:ext cx="4630680" cy="347328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7F7EAB9-C803-4BA3-8DC9-26FFB66CCB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14560" y="703440"/>
            <a:ext cx="4630680" cy="347328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0E5CC8A-373A-454B-85C0-B37234C449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1"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BF665E6-AA9D-4304-A97F-220D115BED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14560" y="703440"/>
            <a:ext cx="4630680" cy="3473280"/>
          </a:xfrm>
          <a:prstGeom prst="rect">
            <a:avLst/>
          </a:prstGeom>
          <a:ln w="0">
            <a:noFill/>
          </a:ln>
        </p:spPr>
      </p:sp>
      <p:sp>
        <p:nvSpPr>
          <p:cNvPr id="1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A9CD62D-0DE9-4325-B831-87FC8E50620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0B6FD7FB-2DBF-49A4-A342-4AC06B09ED2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14560" y="703440"/>
            <a:ext cx="4630680" cy="3473280"/>
          </a:xfrm>
          <a:prstGeom prst="rect">
            <a:avLst/>
          </a:prstGeom>
          <a:ln w="0">
            <a:noFill/>
          </a:ln>
        </p:spPr>
      </p:sp>
      <p:sp>
        <p:nvSpPr>
          <p:cNvPr id="2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7156264-BE0F-44A7-9DD3-F06231473C5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69271F4D-9838-4DD3-AD64-7B60A43EB6C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14560" y="703440"/>
            <a:ext cx="4630680" cy="3473280"/>
          </a:xfrm>
          <a:prstGeom prst="rect">
            <a:avLst/>
          </a:prstGeom>
          <a:ln w="0">
            <a:noFill/>
          </a:ln>
        </p:spPr>
      </p:sp>
      <p:sp>
        <p:nvSpPr>
          <p:cNvPr id="2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07F267F-FB21-4667-BED8-9F697216245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2" name="Rectangle 2"/>
          <p:cNvSpPr/>
          <p:nvPr/>
        </p:nvSpPr>
        <p:spPr>
          <a:xfrm>
            <a:off x="37155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3" name="Rectangle 3"/>
          <p:cNvSpPr/>
          <p:nvPr/>
        </p:nvSpPr>
        <p:spPr>
          <a:xfrm>
            <a:off x="10382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4" name="Rectangle 6"/>
          <p:cNvSpPr/>
          <p:nvPr/>
        </p:nvSpPr>
        <p:spPr>
          <a:xfrm>
            <a:off x="330012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6D71670-09D1-4518-A92E-F9AE8A8BF7A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04840" y="696960"/>
            <a:ext cx="4649760" cy="348768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89624F6-ADF6-4898-A8E7-326A5F2311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3"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A91F8-93EA-431F-A18A-BAC6BAF04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FDE9A-2FF9-4B85-B4BA-F9D341702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8EB78-CDBF-48AC-82A9-9C8BEB84B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53F5F-D64C-4669-AB31-E0DECFD18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4F246-757E-4FB0-A0DC-00D34BED3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AF9F1-4CF5-48F0-B83F-298026DE3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B3C26-67AB-4122-ACF6-AF132B3B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44884-8AF9-498C-BF67-C71D8A01F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5CD74-5083-4DEE-A83E-142017CAA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0B799-006B-4AD0-A82A-7196E5B4E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51FA6-7F4C-4FEF-A464-3798BC27B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3A4A-4AAB-4EB5-801B-C4A1EB6C2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99D9CD-AFB3-4842-BA89-B84F309D5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222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3/11-13-1533-01-000m-clause-16-and-17-deprecation.docx" TargetMode="External"/><Relationship Id="rId2" Type="http://schemas.openxmlformats.org/officeDocument/2006/relationships/hyperlink" Target="https://mentor.ieee.org/802.11/dcn/13/11-13-0416-05-000m-cid-32-11b-is-poison.pptx" TargetMode="External"/><Relationship Id="rId3" Type="http://schemas.openxmlformats.org/officeDocument/2006/relationships/hyperlink" Target="https://mentor.ieee.org/802.11/dcn/14/11-14-0099-00-000m-renewing-2-4ghz-band.pptx"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mentor.ieee.org/802.11/dcn/13/11-13-0361-25-000m-revmc-mac-comments.xls" TargetMode="External"/><Relationship Id="rId2" Type="http://schemas.openxmlformats.org/officeDocument/2006/relationships/hyperlink" Target="https://mentor.ieee.org/802.11/dcn/13/11-13-1160-08-000m-lb199-gen-adhoc-comments.xls"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mentor.ieee.org/802.11/dcn/13/11-13-0361-24-000m-revmc-mac-comments.xls"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loa.pdf" TargetMode="External"/><Relationship Id="rId4" Type="http://schemas.openxmlformats.org/officeDocument/2006/relationships/hyperlink" Target="http://standards.ieee.org/faqs/affiliationFAQ.html" TargetMode="External"/><Relationship Id="rId5" Type="http://schemas.openxmlformats.org/officeDocument/2006/relationships/hyperlink" Target="http://standards.ieee.org/resources/antitrust-guidelines.pdf" TargetMode="External"/><Relationship Id="rId6" Type="http://schemas.openxmlformats.org/officeDocument/2006/relationships/hyperlink" Target="http://www.ieee.org/portal/cms_docs/about/CoE_poster.pdf" TargetMode="External"/><Relationship Id="rId7" Type="http://schemas.openxmlformats.org/officeDocument/2006/relationships/hyperlink" Target="https://mentor.ieee.org/802.11/public-file/07/11-07-0360-04-0000-802-11-policies-and-procedures.doc" TargetMode="External"/><Relationship Id="rId8" Type="http://schemas.openxmlformats.org/officeDocument/2006/relationships/hyperlink" Target="https://mentor.ieee.org/802-ec/dcn/09/ec-09-0007-02-00EC-draft-lmsc-wg-p-p.pdf" TargetMode="External"/><Relationship Id="rId9" Type="http://schemas.openxmlformats.org/officeDocument/2006/relationships/hyperlink" Target="https://mentor.ieee.org/802-ec/dcn/09/ec-09-0005-02-00EC-draft-revised-lmsc-p-p-for-wg-p-p-ballot.pdf" TargetMode="External"/><Relationship Id="rId10" Type="http://schemas.openxmlformats.org/officeDocument/2006/relationships/hyperlink" Target="https://mentor.ieee.org/802-ec/dcn/09/ec-09-0006-02-00EC-draft-revision-of-the-lmsc-om-for-wg-p-p.pdf" TargetMode="External"/><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4/11-14-0129-00-000m-revmc-minutes-for-jan-2014-la.docx" TargetMode="External"/><Relationship Id="rId2" Type="http://schemas.openxmlformats.org/officeDocument/2006/relationships/hyperlink" Target="https://mentor.ieee.org/802.11/dcn/14/11-14-0226-03-000m-tgmc-feb-2014-telecon-minutes.docx"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F77D8C0-94C2-40E0-8493-157D9E3A13F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rch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3-16</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18"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CFC2F8B-8C23-475F-B689-776E141A9AE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0"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3"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4"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26"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7A6069F-C5AC-4050-924B-D31E751A1E7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CC692EAA-3E57-4254-8479-8E7F3BFB08C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Info</a:t>
            </a:r>
            <a:br>
              <a:rPr sz="3200"/>
            </a:br>
            <a:endParaRPr b="1" lang="en-US" sz="32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mc ballot in March or May</a:t>
            </a:r>
            <a:endParaRPr b="1" lang="en-US" sz="24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32"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30C7687-4A8E-4C55-A011-A6F79646E1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73CCB72A-28C3-434E-AD26-30321A9015E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precation CID documents (update with new docs, if any)</a:t>
            </a:r>
            <a:br>
              <a:rPr sz="3200"/>
            </a:br>
            <a:endParaRPr b="1" lang="en-US" sz="32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1533-01-000m-clause-16-and-17-deprecation.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0416-05-000m-cid-32-11b-is-poison.ppt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ian/Andrew: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4/11-14-0099-00-000m-renewing-2-4ghz-band.pptx</a:t>
            </a: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38"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245867B-EEC2-4B88-A0FB-579C0C4731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2CB11C99-EE7C-4C33-8398-B6E55FDDAC2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a:t>
            </a:r>
            <a:br>
              <a:rPr sz="3200"/>
            </a:br>
            <a:endParaRPr b="1"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857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4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FB6BD44-B085-4A90-8192-A1BD2E75A54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elecons</a:t>
            </a: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5-000m-revmc-mac-comments.xls</a:t>
            </a:r>
            <a:r>
              <a:rPr b="0" lang="en-US" sz="1800" spc="-1" strike="noStrike">
                <a:solidFill>
                  <a:srgbClr val="000000"/>
                </a:solidFill>
                <a:latin typeface="Times New Roman"/>
              </a:rPr>
              <a:t> Tab “Motion MAC-U”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1160-08-000m-lb199-gen-adhoc-comments.xls</a:t>
            </a:r>
            <a:r>
              <a:rPr b="0" lang="en-US" sz="1800" spc="-1" strike="noStrike">
                <a:solidFill>
                  <a:srgbClr val="000000"/>
                </a:solidFill>
                <a:latin typeface="Times New Roman"/>
              </a:rPr>
              <a:t> Tabs  “Gen Motion Telecon Feb ”, “Gen Motion Telecon Feb 28 ”, and “Gen Motion Telecon March 12 ”</a:t>
            </a:r>
            <a:endParaRPr b="0" lang="en-US" sz="1800" spc="-1" strike="noStrike">
              <a:solidFill>
                <a:srgbClr val="000000"/>
              </a:solidFill>
              <a:latin typeface="Times New Roman"/>
            </a:endParaRPr>
          </a:p>
          <a:p>
            <a:pPr lvl="1"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4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F6B071F-E3BC-4C57-B173-07A09805408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Presentations &amp; Comments</a:t>
            </a:r>
            <a:endParaRPr b="1" lang="en-US" sz="3200" spc="-1" strike="noStrike">
              <a:solidFill>
                <a:srgbClr val="000000"/>
              </a:solidFill>
              <a:latin typeface="Times New Roman"/>
            </a:endParaRPr>
          </a:p>
        </p:txBody>
      </p:sp>
      <p:sp>
        <p:nvSpPr>
          <p:cNvPr id="152"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4-000m-revmc-mac-comments.xls</a:t>
            </a:r>
            <a:r>
              <a:rPr b="0" lang="en-US" sz="1800" spc="-1" strike="noStrike">
                <a:solidFill>
                  <a:srgbClr val="000000"/>
                </a:solidFill>
                <a:latin typeface="Times New Roman"/>
              </a:rPr>
              <a:t> Tab “Motion MAC-V”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4-000m-lb199-gen-adhoc-comments.xls Tab “Gen Motion  xx ”</a:t>
            </a:r>
            <a:endParaRPr b="0" lang="en-US" sz="1800" spc="-1" strike="noStrike">
              <a:solidFill>
                <a:srgbClr val="000000"/>
              </a:solidFill>
              <a:latin typeface="Times New Roman"/>
            </a:endParaRPr>
          </a:p>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text changes indicated in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5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5EC496F-9D33-4959-A13C-BE815FD594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5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975C2C5-BD48-4B25-8DB4-FC191FE874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May Meeting Planning</a:t>
            </a: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ril 4, 11, May 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A1330CE-3961-4E0B-9D66-CA63125446F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7"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09/11-09-0002-12-0000-802-11-operations-manual.doc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1082-17-0000-revmc-pre-ballot-comments.xl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4-000m-revmc-wg-ballot-comments.xls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6B103AF-1A70-4E4D-8BF1-E1AEF7C534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rch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9E4DB4F-A899-4D4C-BEA8-D6C213BE5E5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238640" cy="20131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11ad  2199, 2110 (11-14-0268) Carlos, 2436 (11-14-41r1), 11-14-57, 207, - Adrian</a:t>
            </a:r>
            <a:endParaRPr b="0" lang="en-US" sz="1600" spc="-1" strike="noStrike">
              <a:solidFill>
                <a:srgbClr val="000000"/>
              </a:solidFill>
              <a:latin typeface="Times New Roman"/>
            </a:endParaRPr>
          </a:p>
        </p:txBody>
      </p:sp>
      <p:sp>
        <p:nvSpPr>
          <p:cNvPr id="74" name="Rectangle 35"/>
          <p:cNvSpPr/>
          <p:nvPr/>
        </p:nvSpPr>
        <p:spPr>
          <a:xfrm>
            <a:off x="324000" y="4667400"/>
            <a:ext cx="4343400" cy="104760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 </a:t>
            </a:r>
            <a:endParaRPr b="0" lang="en-US" sz="1800" spc="-1" strike="noStrike">
              <a:solidFill>
                <a:srgbClr val="000000"/>
              </a:solidFill>
              <a:latin typeface="Times New Roman"/>
            </a:endParaRPr>
          </a:p>
          <a:p>
            <a:pPr lvl="1" marL="690840" indent="-2656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11ad 2170 (11-14-311), Location (11-13-1509, 11-14-32), CIDs 2468, 2490 – BHart, MHamilton comments</a:t>
            </a:r>
            <a:endParaRPr b="0" lang="en-US" sz="16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Rectangle 36"/>
          <p:cNvSpPr/>
          <p:nvPr/>
        </p:nvSpPr>
        <p:spPr>
          <a:xfrm>
            <a:off x="4714920" y="4419720"/>
            <a:ext cx="4200480" cy="125712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May, AOB</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048120"/>
            <a:ext cx="396252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1 </a:t>
            </a:r>
            <a:endParaRPr b="0" lang="en-US" sz="1800" spc="-1" strike="noStrike">
              <a:solidFill>
                <a:srgbClr val="000000"/>
              </a:solidFill>
              <a:latin typeface="Times New Roman"/>
            </a:endParaRPr>
          </a:p>
          <a:p>
            <a:pPr lvl="1" marL="713160" indent="-2743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CIDs 2409, 2413 (GSmith), CID 2425 (MRison), 11-14-275 </a:t>
            </a:r>
            <a:endParaRPr b="0" lang="en-US" sz="1600" spc="-1" strike="noStrike">
              <a:solidFill>
                <a:srgbClr val="000000"/>
              </a:solidFill>
              <a:latin typeface="Times New Roman"/>
            </a:endParaRPr>
          </a:p>
        </p:txBody>
      </p:sp>
      <p:sp>
        <p:nvSpPr>
          <p:cNvPr id="77" name="Rectangle 1"/>
          <p:cNvSpPr/>
          <p:nvPr/>
        </p:nvSpPr>
        <p:spPr>
          <a:xfrm>
            <a:off x="295200" y="3514680"/>
            <a:ext cx="4238640" cy="114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CID 2043 (Qi Wang), 11-14-207, 275, 344</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fontScale="47000"/>
          </a:bodyPr>
          <a:p>
            <a:pPr marL="160920" indent="-1609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349200" indent="-134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349200" indent="-134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a:p>
            <a:pPr lvl="1" marL="349200" indent="-134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Hamilton assigned comments</a:t>
            </a:r>
            <a:endParaRPr b="0" lang="en-US" sz="1600" spc="-1" strike="noStrike">
              <a:solidFill>
                <a:srgbClr val="000000"/>
              </a:solidFill>
              <a:latin typeface="Times New Roman"/>
            </a:endParaRPr>
          </a:p>
          <a:p>
            <a:pPr lvl="1" marL="349200" indent="-1342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8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7E730DC-1681-4BB1-BE41-05EA311FD2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Tuesday PM1</a:t>
            </a:r>
            <a:br>
              <a:rPr sz="3200"/>
            </a:br>
            <a:endParaRPr b="1" lang="en-US" sz="3200" spc="-1" strike="noStrike">
              <a:solidFill>
                <a:srgbClr val="000000"/>
              </a:solidFill>
              <a:latin typeface="Times New Roman"/>
            </a:endParaRPr>
          </a:p>
        </p:txBody>
      </p:sp>
      <p:sp>
        <p:nvSpPr>
          <p:cNvPr id="85"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6"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88"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3C12C2C-1DB0-43EF-8D6D-46F5CD33143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0" name="PlaceHolder 1"/>
          <p:cNvSpPr>
            <a:spLocks noGrp="1"/>
          </p:cNvSpPr>
          <p:nvPr>
            <p:ph/>
          </p:nvPr>
        </p:nvSpPr>
        <p:spPr>
          <a:xfrm>
            <a:off x="685800" y="1066320"/>
            <a:ext cx="7772400" cy="53341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br>
              <a:rPr sz="2400"/>
            </a:br>
            <a:r>
              <a:rPr b="1" lang="en-US" sz="2400" spc="-1" strike="noStrike">
                <a:solidFill>
                  <a:srgbClr val="000000"/>
                </a:solidFill>
                <a:latin typeface="Times New Roman"/>
              </a:rPr>
              <a:t>-  IEEE Patent Policy</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1"/>
              </a:rPr>
              <a:t>http://standards.ieee.org/board/pat/pat-slideset.ppt</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Paten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2"/>
              </a:rPr>
              <a:t>http://standards.ieee.org/board/pat/faq.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LoA Form</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3"/>
              </a:rPr>
              <a:t>http://standards.ieee.org/board/pat/loa.pdf</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Affiliation FAQ</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4"/>
              </a:rPr>
              <a:t>http://standards.ieee.org/faqs/affiliationFAQ.html</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Anti-Trus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5"/>
              </a:rPr>
              <a:t>http://standards.ieee.org/resources/antitrust-guidelines.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Ethics</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6"/>
              </a:rPr>
              <a:t>http://www.ieee.org/portal/cms_docs/about/CoE_poster.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IEEE 802.11 Working Group P&amp;P -</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7"/>
              </a:rPr>
              <a:t>https://mentor.ieee.org/802.11/public-file/07/11-07-0360-04-0000-802-11-policies-and-procedures.doc</a:t>
            </a:r>
            <a:endParaRPr b="1"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 WG P&amp;P</a:t>
            </a:r>
            <a:r>
              <a:rPr b="1" lang="en-US" sz="2000" spc="-1" strike="noStrike">
                <a:solidFill>
                  <a:srgbClr val="000000"/>
                </a:solidFill>
                <a:latin typeface="Times New Roman"/>
              </a:rPr>
              <a:t>: </a:t>
            </a:r>
            <a:r>
              <a:rPr b="1" lang="en-US" sz="1600" spc="-1" strike="noStrike" u="sng">
                <a:solidFill>
                  <a:srgbClr val="0066ff"/>
                </a:solidFill>
                <a:uFillTx/>
                <a:latin typeface="Times New Roman"/>
                <a:hlinkClick r:id="rId8"/>
              </a:rPr>
              <a:t>https://mentor.ieee.org/802-ec/dcn/09/ec-09-0007-02-00EC-draft-lmsc-wg-p-p.pdf</a:t>
            </a:r>
            <a:endParaRPr b="1"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P&amp;P:</a:t>
            </a:r>
            <a:r>
              <a:rPr b="1" lang="en-US" sz="1800" spc="-1" strike="noStrike" u="sng">
                <a:solidFill>
                  <a:srgbClr val="0066ff"/>
                </a:solidFill>
                <a:uFillTx/>
                <a:latin typeface="Times New Roman"/>
                <a:hlinkClick r:id="rId9"/>
              </a:rPr>
              <a:t>https://mentor.ieee.org/802-ec/dcn/09/ec-09-0005-02-00EC-draft-revised-lmsc-p-p-for-wg-p-p-ballot.pdf</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OM:</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10"/>
              </a:rPr>
              <a:t>https://mentor.ieee.org/802-ec/dcn/09/ec-09-0006-02-00EC-draft-revision-of-the-lmsc-om-for-wg-p-p.pdf</a:t>
            </a: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92"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E8B1193-CEF5-44CC-9451-B417FB0C949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390D1022-CD67-4459-AFBE-1FAE28C33C8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1-09/0246r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98"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16D96D2-1A64-4760-A7CF-ADAA050A7FE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5474CB58-2777-487B-BF93-D75F443AD33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4/11-14-0129-00-000m-revmc-minutes-for-jan-2014-la.docx</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4/11-14-0226-03-000m-tgmc-feb-2014-telecon-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910E333-57FB-46DE-89C6-7C5B973A94B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838FEA8-6AAB-4CB1-96D7-FE477AFC5AB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08"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rPr>
              <a:t>Dec 2013 – March 2014 – 11ac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3.0 (includes 11ac) March 2014</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 2014 – April 2014 – 11af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4.0 (includes 11af) July 2014</a:t>
            </a:r>
            <a:endParaRPr b="0" lang="en-US" sz="16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5 – RevCom/SASB Approv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1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CC91BC3-2AE2-40CC-A248-2C23D878C5B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6"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3-16T14:15:49Z</dcterms:modified>
  <cp:revision>1530</cp:revision>
  <dc:subject/>
  <dc:title>TGm Agenda</dc:title>
</cp:coreProperties>
</file>