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5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04A706-73F7-41CE-B2B8-47B2ACB63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8AD1F8-C80C-437D-9010-D4972A69C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131E09-6332-4C39-856D-FD193C7D3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83777-4C5B-46AA-85B2-2E7C2DA8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F13DB4-E715-4C65-B64C-72F078282E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C3C-545B-491D-86DE-549AB0C4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E3A-18E7-403D-9BBA-3C0A1167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7B6CF-14BC-4317-A9FE-68438076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8FBF3-08C2-472C-8DEB-82BCB814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0C222-4C50-4E70-B999-704D2A1E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BBCF6-4A4B-4120-BEB4-8570637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4C38F-45F7-4B2D-A013-A12BF9B1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E7F17-64F2-48A3-9238-C329D9B7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6CF23-6F61-44A9-8304-1884812F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B301A-581D-413B-8036-87761424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591D5-1066-45E5-BB4A-95EDDE70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3B85F-EA27-487C-8FA4-AE60F32A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795-D3C1-4FB6-80D9-B278E968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C2791-6D93-4D53-8284-4834AFA9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E14EC-0540-45A1-BAFA-CCE6EB1B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55775-07D8-4D74-8CEC-90E780C8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9C592-C2ED-4654-BED2-1AA4D4AF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0FCCB-17F2-4B04-8151-D50408B4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63972-95D2-4E2D-BD5B-5D32E296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63BE3-BA96-4E00-9DF9-497ED692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53C45-2CA0-475A-85C2-5E82F469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D587F-A91C-498E-986D-9694303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35D1F-3DE6-4B1B-B89E-3E1F49E6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1DC-CAFC-449C-8EE8-2D841406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D1DC8-D8D9-49E8-AA96-CED59EAE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07733-11BB-4EF4-A0F9-E0E9CC15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BFA28-BFD5-45B3-A516-9778BBD1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2360B-2317-400F-9AA4-BF109BA4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8AFE2-D974-4AC4-90FE-CA9D4C35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4F989-B195-49DF-8554-DF3318B8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0D2AA-F4C9-48E4-BE15-F82D1576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916E6-0CCA-4338-8E27-3D985F6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4DA64-975A-4080-BB00-21F5387E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C4ACB-281C-4807-9DD2-D2A08B0F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474F-77A1-4D69-AE76-E6EFDFC6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606AA-E03F-4A00-9D17-1A3AD4FE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D572F-90D9-49AB-B8D2-DA95F3AD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48F13-CA15-4ED7-AB63-217B1954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F035-70E3-4817-9B7E-9F9E9B55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EAFB-38FD-4327-A253-713CC775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B023-88DD-45EA-B29B-2FF262EE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A5B1-67C8-46F2-BB0B-78DDD8B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21A7-C003-4FE6-BCAF-4C9BE544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CCB9-EF6C-4125-931A-0DA7208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625-91B9-45C8-B7F2-1EC711CB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1EE7-F9CD-4349-B38B-1854242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064A-038F-4D00-8070-2BAE18B9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5B78-6AB8-405B-8B0E-12371C74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0C98-5D28-4F6C-B7DD-00256186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DF7B-370F-46ED-9B95-919F5D9A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88AB-0EA9-4D3B-AC35-FD5BBE6F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52B2-C5C0-4268-9B88-8FBE22BD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466F-B8EC-4435-A60A-B07D4FCB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8749-63FC-435D-9302-4C28E3A6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F083-B30D-49DB-8EB3-94BE5A19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363-B9C8-44B9-B213-7BB2E020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4FA00-235B-4459-AEEC-6052EDA5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428D-0ED3-4D61-89B2-7AECBF0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9F39-8C78-41D9-8946-5B24EAD1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4AA4-468F-437E-AD76-6B5AB4B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4154-221B-4E61-8C3F-3B1C211B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E811-851A-43A6-AF56-16F66062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2C6E5-F525-41A5-92C8-2EE3CD44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779F-1892-4788-96D2-6EEF351E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7449-308E-4392-A149-2F939B7A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AAD8-FE0B-465F-AB5D-B3E8E13B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86E-331D-4EAC-ACE8-44E9B267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4BE37-EFA8-4515-B1F6-A3B6B570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C4D1-E8C3-47EB-84F6-0DA57721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799E-74CB-4549-812E-1D041480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EA1B-3653-49C2-BC5F-6FBF9381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E772-AB1E-42BC-BDDF-A8C5A9DE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2C04-CCA7-41D0-8E9E-11904D3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DFD9-17D0-4ED3-A772-6D121F25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F70C3-82AA-4755-AB1B-F54EA8CD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A2985-7070-4609-B235-FA64BAC4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75C6-56E1-466B-A19A-1162F295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61C-A5D6-4C8B-9312-D8C77B48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DC593-D073-407F-A883-2C2CB363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3AC39-E2D7-4F98-9D5B-331FA1CB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C213D-C049-4592-8C76-5AE35651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5728E-51F3-4285-B175-337AFF18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79C4-3F81-46F5-9CB3-AB2D4AD0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B33E-CD58-4907-A65E-4E019E4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92AC-ABA8-4E28-8149-469EE431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953DC-B3A9-461B-983C-E22085EE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BC627-DBBE-4E5E-9E26-A34D8973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FF0CB-AA30-4524-90BF-31CFAA5E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D08-B182-461C-A4D5-89F8019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A0AB-FA18-411F-B5D9-20F191AD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FD27-8CD5-4759-B9CE-80F97BF9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F66A7-2BEA-4994-9C87-6BA9E180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6903D-372C-4A94-A510-2F452095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A00F4-10D9-49F8-BD15-5E0FCD75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43224-4B4A-4EAE-9D1D-9429A53E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50B9-7149-4618-92EB-2DAB7410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4DF25-BBEF-4653-8E2F-01F8833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9B769-CDA3-4315-B409-19A8EFAB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AD579-F2C5-4510-873E-E2946D77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DA6-C71B-4523-BAE6-29F1E66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D652E-B69D-431E-A660-16E0270B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13C5B-D770-428F-9DFA-67614F34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8DA3E-4419-4E9E-B78B-8D2DCAAF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8D8B4-73C9-4C4C-96B4-A7E53294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1AD19-3CFC-4428-8D61-E94C734C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701D2-D451-4872-887E-486F21A4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CCE2-5285-4FB9-B899-15F1978B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F7223-154C-4876-B417-44BB82C4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93C29-5A40-4340-812A-5F31775D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6555-FD7E-40ED-B126-B8DE462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6E1-4E7D-4F03-A916-BF9010A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4AA3F-85F6-47CA-9A0A-98030AF5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C78FF-ECE4-4716-8935-D4A6CAB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BC730-DEB5-4318-A6F6-1059FC77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190CE-C4A8-4553-BEAF-E70CC91C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22C1-6355-4423-851C-CBD86ACD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34472-52BF-4142-93F0-355500CC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430B1-C4CC-4903-AC8F-88FD9E8B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5C09F-27DC-4BE5-9879-2E75F811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AE405-802F-41A1-9EB2-8DCC896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04769-E95E-4B4A-AF8A-EF609E2B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EC1-7195-4CE5-9EFB-19079E3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A031-1C36-4F67-8669-FE218BB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7C412-47ED-45E3-A027-F74BB576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1C486-A78A-483C-A4F5-F2F4ED6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B0513-B959-47CC-A347-D0845542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9EA4-8EC4-4757-8CA6-21D7FF09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35CB4-30F0-4B6A-957D-008097F9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3D41B-D338-43B8-AF78-6FF1B525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297CB-19A8-4032-9213-C1487C02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573F9-6E87-4163-95CE-72A40F1E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7B648-4293-4DE4-8A5C-58893436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111957-15BA-4C89-A699-718A660CD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608AC7-8BAD-442A-B4E4-770BA8174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D96D01-585A-4580-97D8-258061F94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9872-9270-4138-89D3-1C720CCDA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7C677E-6822-42C4-B8A7-326C36282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A77FD5-9E60-4025-A1B6-D196EB320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7DFA553-623C-44BB-93EF-08AC3565E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D46397-00AC-4325-9455-3C9C6CFF6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457303-4174-4434-8393-C21A4E2D3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59229B-F2F6-46E3-993A-DE282F4B3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BC8530-1466-45C8-B827-706586E4A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nsition.fcc.gov/Daily_Releases/Daily_Business/2013/db0220/FCC-13-22A1.pdf" TargetMode="External"/><Relationship Id="rId2" Type="http://schemas.openxmlformats.org/officeDocument/2006/relationships/hyperlink" Target="https://mentor.ieee.org/802.11/dcn/13/11-13-0444-01-0reg-fcc-13-49-comment.docx" TargetMode="External"/><Relationship Id="rId3" Type="http://schemas.openxmlformats.org/officeDocument/2006/relationships/hyperlink" Target="https://mentor.ieee.org/802.11/dcn/13/11-13-0661-00-0reg-fcc-13-49-reply-comment-framework.doc" TargetMode="External"/><Relationship Id="rId4" Type="http://schemas.openxmlformats.org/officeDocument/2006/relationships/hyperlink" Target="https://mentor.ieee.org/802.11/dcn/13/11-13-0679-00-0reg-fcc-13-49-comment-survey.docx" TargetMode="External"/><Relationship Id="rId5" Type="http://schemas.openxmlformats.org/officeDocument/2006/relationships/hyperlink" Target="https://mentor.ieee.org/802.18/dcn/13/18-13-0087-04-0000-draft-reply-comments-of-ieee-802-re-5-ghz-nprm-fcc-et-13-49.docx" TargetMode="External"/><Relationship Id="rId6" Type="http://schemas.openxmlformats.org/officeDocument/2006/relationships/hyperlink" Target="http://secs.oakland.edu/~gpcorser/vanet-kenny-DSRC.pdf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552-00-0wng-802-11p-dsrc-and-802-11ac-coexistence.ppt" TargetMode="External"/><Relationship Id="rId2" Type="http://schemas.openxmlformats.org/officeDocument/2006/relationships/hyperlink" Target="https://mentor.ieee.org/802.11/dcn/13/11-13-0541-01-0wng-dsrc-applications-tutorial.pptx" TargetMode="External"/><Relationship Id="rId3" Type="http://schemas.openxmlformats.org/officeDocument/2006/relationships/hyperlink" Target="https://mentor.ieee.org/802.11/dcn/13/11-13-0543-01-0wng-dsrc-support-information.pptx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hyperlink" Target="https://mentor.ieee.org/802.11/public-file/07/11-07-0360-04-0000-802-11-policies-and-procedures.doc" TargetMode="External"/><Relationship Id="rId5" Type="http://schemas.openxmlformats.org/officeDocument/2006/relationships/hyperlink" Target="mailto:Jim.lansford@ieee.org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ee802.org/11/email/stds-802-11-reg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4/11-14-0025-01-0reg-draft-dsrc-coexistence-tt-status-letter-to-oet.doc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138D39-D47E-446A-9698-CCEC56C9F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leconference Plan and Agen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1-1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new busin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for future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CA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C field t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imity of public access points to heavily traveled hig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F3F4B1-F866-4AA4-8FC1-71CD20D65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999000" y="6014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CC NPRM 13-22 (changes to 5GHz band rules, including proposed UNII-4 band)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transition.fcc.gov/Daily_Releases/Daily_Business/2013/db0220/FCC-13-22A1.pd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444-01-0reg-fcc-13-49-comment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 framework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661-00-0reg-fcc-13-49-reply-comment-framework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 surv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679-00-0reg-fcc-13-49-comment-survey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8/dcn/13/18-13-0087-04-0000-draft-reply-comments-of-ieee-802-re-5-ghz-nprm-fcc-et-13-49.do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RC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secs.oakland.edu/~gpcorser/vanet-kenny-DSRC.pd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E1F072B-7A62-4DF8-8DAB-2C828E7F7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submissions on DSRC (since 802.11p was ratifi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552-00-0wng-802-11p-dsrc-and-802-11a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41-01-0wng-dsrc-applications-tutorial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543-01-0wng-dsrc-support-information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276-00-0reg-proposal-for-sharing-in-unii-4-band.pp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09-00-0reg-harmful-interference-to-dsrc-system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60-00-0reg-dsrc-per-versus-rss-profile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449-02-0reg-proposal-for-dsrc-band-coexistence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C2BAE4-5A9B-462E-848F-5F59ADC34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January 17th, 2014 IEEE 802.11 (Regulatory Standing Committee) DSRC Coexistence Tiger Team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9791EC-BA22-4DA7-8217-9F5494905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rding secretary volunte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EEE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d: Minutes from January 10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FCC letter – review of draft: Document number 14/25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4E1FAC-FF4A-405D-9D0D-5BBA2E8F3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of this tiger team is Jim Lansford (C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ing for volunteers for a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Jim.lansford@ieee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A92B4E-EB30-41AE-92E9-CF68A8FAF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6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Date Placeholder 7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13D066-DD88-4BB3-9F94-684584E50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B4A422-D7DC-476D-9099-820676A22A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 –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a tiger team – it is an ad hoc meeting of the 802.11 Regulatory Standing Committee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documents that are generated by this group that are intended for distribution outside of IEEE 802.11 (e.g., 802.18) must be approved with a 75% majority by the larger 802.11 Regulatory S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ting on documents must occur at an interim or plenary mee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802.11 voters may vote on documents to be approved for forwarding to other IEEE 802 working grou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submissions to this group must be posted to the IEEE document server (Mento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one can view IEEE 802.11 emails and download documents from Mento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02.11 REG SC emails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ieee802.org/11/email/stds-802-11-reg/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ntor documents for download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lect “REG SC” under groups to view only Regulatory Standing Committee doc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allocated 75MHz of spectrum in the 5.9GHz band (5850-5925MHz) for Dedicated Short Range Communications (DSRC) in October 199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CC NPRM 13-22 (13-49), the FCC requested comments on a potential sharing of the DSRC band, to understand if a feasible sharing solution that protects DSRC users could be develop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C would remain as a primary user of th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band would be designated U-NII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ac could be modified to operate in this new UNII-4 band if approved by the FC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did not specify the framework or etiquette by which band sharing would occ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8D75F7-8D07-478A-AA3E-675A775DB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of th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document that describes and quantifies possible coexistence mechanisms between DSRC and extensions of the 802.11 base standard in the proposed UNII-4 band, if the FCC allows such band sharing in a future R&amp;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work i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ITS/DSRC field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work to date on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s on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Modeling/simul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Testing, field trials, and presentation of results from proposed prototype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 re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Includes outputs from all work i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One or more “snapshots” (summary of work to date) will be provided to FC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First snapshot in mid-Decemb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C21654-99BC-41A1-8BB2-2A1228CDC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rev 1 draft of FCC letter, document 14/25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4/11-14-0025-01-0reg-draft-dsrc-coexistence-tt-status-letter-to-oet.doc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A15850-071E-48E6-8B5C-A6C6B4A90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l22</cp:lastModifiedBy>
  <cp:lastPrinted>1998-02-10T13:28:06Z</cp:lastPrinted>
  <dcterms:modified xsi:type="dcterms:W3CDTF">2014-01-17T03:34:29Z</dcterms:modified>
  <cp:revision>1545</cp:revision>
  <dc:subject/>
  <dc:title>DSRC Tiger Team</dc:title>
</cp:coreProperties>
</file>