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067CD1-9122-4FDF-9A08-D35B3B46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11E545-F6C8-4572-A415-0467444A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AF9239-E613-44AE-9DEF-0E2989E8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BC96E-81BE-4544-BBF0-9D362A1C1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15BCA7-68F0-40C9-B56B-792EEE4A0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57A-0D3D-4AC4-A2AD-1C9E4938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024-4DE0-4B7A-96AA-F9CCC85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FDF9-91AC-4C70-84A1-B5D841A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B8B24-F12E-4A39-A33C-A267D23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4D116-B1E6-4375-B120-7E9C938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F8BB-2124-4C59-83FA-F1D288E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A0A22-5FC2-4EB4-8147-F8D063F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22F30-9AD4-489D-B456-8377D4C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D3705-A8FC-4A76-8C66-DFFB97C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05034-0FD2-43C5-BC39-C58D0B0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68C49-7147-418E-A919-7A1EE65D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45E08-0E42-461B-9DAA-A9FAD6BD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952-B3E3-49B8-8606-CCF50675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8B4BA-3A40-4EDB-9029-C0CAAC4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21C13-98B5-46B3-97A9-8C0B9C5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E83D3-09D4-46DE-94F7-1E43ED7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2421-CD1C-4EE1-875F-977CB8EA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1FB6-2E1C-4CFF-93DA-B3FBEF8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94F8C-A361-438A-BA65-5DD0EB5B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AC58A-EB24-49FD-9B9A-C804214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7CC39-450C-4333-B63F-E751483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0467D-3E77-4272-BA30-B444F16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0B074-267A-4AEF-A971-171FFFC0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3A0-F080-41D4-9E4E-84C8B001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F083-7089-49D2-958D-CC28DD5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797C0-BD6E-4996-AC1E-7E7F24E5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F60E-A6E3-4F67-9945-07E14F0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E63A-8E24-4F34-8A0F-D14F459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8AD76-6831-4368-B28A-86E23CCD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7149-4D03-42F0-8A97-FA15BA5C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10514-BAD9-43C4-A6DB-EB3DEBB2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85077-A967-418C-8B1E-F81C324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1F665-31C3-41D6-9D44-B2BEEB4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76E2-7C46-413B-A491-89BBFBFA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71B9-E50A-4079-9157-C2E69226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1FA8D-0714-4D4D-A75C-53A8911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9B6D-DEAB-49CA-8468-03F7CE7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B9FE5-FADF-4C55-8FED-05CC0737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F19-18BF-4A56-9C9E-BA4B7D06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AE68-7F42-41F1-803F-D79C9DA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D07-09A4-4E4E-B518-1E1B7D5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D391-6700-40A9-83B6-7C4F9F14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89C4-BABE-4D8C-949C-BD8861C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032-8FED-4234-AEB2-D755548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214-31EC-49FE-9BB0-76E4FCE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6C45-8DE9-4986-9F49-FF0105D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3CFD-DEA6-488D-90D8-CD508E1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7BC3-C7DD-47E4-852C-1D41286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81A1-337E-4FB8-B0BE-00459E0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922-D987-4CFF-9C98-CC752D78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FB05-00BE-4F1E-B369-2510C5BD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5B11-FFF7-488D-B5CD-399BA18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E19B-8B40-4A43-BF02-F66E6A9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453C-0CCC-4D6F-8DB7-DEF5A46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0B09-040E-4E4E-8113-681D588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34F-ADC9-4877-91A7-4C7F39E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BF43-82DA-4203-93BD-8BC23072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5370-AF88-49A6-9037-B7D4EE5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5F18-8689-4CB2-9278-36FB19E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7E45-B161-451E-B35D-C425B34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B767-9121-4068-B4A7-3B10D84C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79C0-9077-4F13-BA92-4DA60BE9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A93A-50B9-41D9-8205-49ADA8A5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7E96-FA79-4FDC-9FF3-927B7EF1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3DFB-4A67-421A-9999-2E56655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40F7-D53E-4893-956F-B44C4F3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8FC-9767-4972-92CB-874F18F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0B24-23C1-4CE1-AC1E-8B7A080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E9AB-DD60-4B68-B8E7-0D80743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000C-B52D-4FB2-94C2-4AB5DC9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CF33-B633-4E24-8D1B-264557CB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AD5E-E8D1-4DDB-9D9D-944E858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D38E-E033-4C3B-8300-D009155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C116-ED7E-4016-95A7-3FAFE110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9AB9-EB68-46D0-9564-61309A7B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B05E-F6AF-4413-BB85-0D0D70AB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491C-9580-4BFC-A496-BA8D9B2E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63C-F8D9-4B55-8D7B-ECCBF8A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8543-A6BA-4468-9F40-8927250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9FC2-04C7-4706-8367-A903ECDE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2431-CEDE-420B-AABC-D2A7967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07C6-47EB-40D5-B6C9-F3F1CFE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62F0-81C4-49C5-8B2C-8474BF7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1DA2-0F84-414C-AF99-26997C9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A7CC-19C8-46E4-9ABC-221AE94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364C-1545-442F-881A-D532CD1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D1B2-47FE-409D-825D-0278AD3A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EB90-FDC6-48B0-B3EC-D37E06A9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149-7C2F-4138-AAE4-79D228C6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A0385-D43C-4020-AD92-C44CF50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BE742-A47C-49C7-B47D-5E3DFCC8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01006-E1A2-4ADD-992D-5F95FEC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06CE-AD66-43D4-8B31-F486F0D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D39F-64C9-4E07-B15D-96F472FA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36F9-4DAC-4091-8740-0511B2BC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A4A32-F74A-4D7A-A5A6-E0E0FADD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A9831-742F-4DB9-8C54-0DB02B1A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470A-17C7-4898-8F67-F47B2B0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443E-42FE-4E36-8B8F-8167E39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DCE-5F86-46B4-9A22-845A94E3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BA07-34C4-4CF3-9F01-9799FE1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F6F8-50D5-43C7-86E0-671D516C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03E2-0602-47F1-B82A-39D8FE9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B194-5B03-4017-AA86-E5755143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9AD2-644C-49CF-8470-3854EA8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E902-08C0-4AE9-AF73-798E7DA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3AE7-F773-4359-BD8B-BDD8D27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9065-9367-4D09-8B0D-78A3F25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CE6A-5F45-4E0B-93D0-0175D2F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0B7B-3746-4831-900F-EA04154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363-EB50-4450-8556-3321358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76DB4-01F3-49BC-8FD3-88C45C95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A064-8CEB-4312-8EC3-16819B40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0A64-DB9F-4A52-8972-E166F88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B7601-6E85-4E28-94B2-B8BE764B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8A9D-E348-4A72-A1BF-E9B87CA8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A191C-F356-4257-B01D-AF6A62A7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2D48-84CF-4A27-8BB3-97DC4CF1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8DD5B-DC0C-4A5B-80B5-5E6FCE41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B199-8D23-4A43-92F5-8F82D34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C059-A14E-43FD-A4EF-324292B1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8AC-68B8-4CAE-A7B6-31DF1D1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6181-BED2-4CB4-9A57-E1DA3E1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5661-02BA-42A6-BF54-92FF07F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EB77-5703-4A30-A24E-C1BE689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436F-FF8F-43CD-81CB-90BE1EA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786E-28D3-4D98-81C7-23BF131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2F61-34A0-4C81-B889-4795A75D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E8DB-72E0-4C43-BC01-449C97C5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EB75E-8543-472D-A9BD-C1D546A8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0BE0-7459-4E20-BE2B-0B6F6D8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EEE20-B848-4F43-AEB3-67CE56BD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54E0E4-49D9-442F-9EAA-9178E768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D86AB2-212D-4BF9-AF86-A8FB9698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FD4B4D-0DD4-44D2-A3C7-5EB87828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D699-8587-45AF-8FE6-8B5E97932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2D2F20-FFB0-4C70-B2BB-C851AE656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360199-4795-4227-BA0E-CECD3932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92944A-5536-4E59-B36E-A04E8297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F924A5-CCEC-4301-90DE-8D86EA26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CBFA10-DBC3-4D56-B3EE-8E643D2D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15B821-E5A0-4CCF-81E5-588D1860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599F8B-2B56-4EDF-89EF-C5F4D986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://secs.oakland.edu/~gpcorser/vanet-kenny-DSRC.pdf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4/11-14-0025-01-0reg-draft-dsrc-coexistence-tt-status-letter-to-oet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0A3E0F-E2DD-474C-BBE0-2C66F5369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90E392-0703-4A54-8A61-88F9E809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secs.oakland.edu/~gpcorser/vanet-kenny-DSRC.p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DB81AC-92A5-45A8-9864-5B47D630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651146-58D7-44C8-9F85-06EB56C9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17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CAF9CE-D962-4774-A802-474AFEF7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d: Minutes from January 10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FCC letter – review of draft: Document number 14/2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FCF948-4523-4286-ABB8-853D3822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DA5964-6C26-45F6-BBC0-CF518C12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44C07B-B7DA-4EBC-A7B6-3A835306D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9961D7-4156-42DD-B25F-E9377B6040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6E5303-B272-43B2-B00F-3600886D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DE2546-51F8-4E17-809D-9794A832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rev 1 draft of FCC letter, document 14/25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4/11-14-0025-01-0reg-draft-dsrc-coexistence-tt-status-letter-to-oet.do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3408E0-6B65-4A48-BCCB-EA3CC8E7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1-17T03:34:29Z</dcterms:modified>
  <cp:revision>1545</cp:revision>
  <dc:subject/>
  <dc:title>DSRC Tiger Team</dc:title>
</cp:coreProperties>
</file>