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5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160E6D-3270-4268-9C72-BD7AF1EBF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E49036-27DF-4F70-85C6-4D1B48E69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35705E-DA99-47C6-9E34-6D3813E02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379320" y="8985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604A7-8902-4FFA-A5C8-AF9E9FADA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06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54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870720" y="8985240"/>
            <a:ext cx="23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nt Chaplin, Chair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30427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C22E7F-6D69-4548-8E02-9D9D1475AE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D23-1653-4A76-9776-B4ADDB80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A92-A828-41FC-96F1-24AD16B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FBAC3-F73A-4508-A2C3-54381281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76E72-4DA5-4E11-8BD3-4CD8CCC4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ACDB5-6FF2-4B5F-8631-98C47186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74D00-2169-41DD-BBE5-22D52F3A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72E93-10D0-4B3E-9F81-B56F629D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C5014-A702-4094-B778-3CB27271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B9257-389F-4662-A94D-5B5B4F2C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29A4D-81BF-4E84-84ED-5A788E7E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BB09D-8E10-4CAA-A096-01683C5E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50120-68C8-4AE1-8762-7D4042AD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FBD-F199-4B08-8BD0-552593DA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85245-5B98-4141-B37E-9EF068CA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3FB0E-01D2-492D-BDAB-766260DB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12455-1F1D-4C30-AACF-2B23E303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CE405-F32A-4431-93C8-B6306CA1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9FE43-1A8C-4B17-A12A-4F3C6550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39663-BD43-4D12-889B-3C4AE29B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544AB-DB8A-4529-ADA8-A41D5FC5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339F0-EAE6-43B2-948C-6D6C83F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188B0-98CC-41C4-A628-7AA9A0DC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078BA-697D-426D-8030-642E8958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9B1-9AB6-4DFA-AA72-CCB71E40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6912C-56F0-453C-975E-D13C99EA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3CE09-1069-418A-961B-40DE815C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625F2-A26C-4D95-BA02-393E8803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59807-41E4-4F8A-A72F-AB7E105A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AE7BF-154F-487D-AF07-D1DAD362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28082-80A7-4566-9CE0-A1130AA4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32DAD-6437-4410-86A2-71999D6A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EF124-A4F4-4C4F-8788-FFC275DA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FB89-DD3A-40A6-92C9-FA6F5CCD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B5163-3054-4612-B72E-AF3C6F90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7809-881D-4018-AA31-C16C34EC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216C6-2222-4E6B-B00E-49F1A9D5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5C89B-CB5E-4ABC-A317-FC686149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31545-DF8A-42B7-9A31-BB2E138A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6353-10B2-4BBD-B540-C4562188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1A2A-03BA-4F96-A463-4497E020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FECA-8EBB-4AAE-966E-BCB091A4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37CB-BBC0-46CE-BBF6-58A0687B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DB3C-F1C4-47C1-AF81-557793DE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BF27-E5FC-46AF-B412-FDE9BBFD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637-666B-4062-8526-F1F4230A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5602-30E5-4E01-BBF2-AC48AF54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AC8E-2C9C-46D4-811F-0E74D17D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886D-2CF8-4AFC-8EC1-9F2A7A09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4DA9-95EF-435D-915C-1266B1C0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1808-EADA-44A3-B0B4-2220AB34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20292-2AA3-4563-84BB-A8722F79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A0F0-DD0C-4C69-B566-C1AC3D0E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6443-60B7-4E8E-91C7-1405EE6D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64BB-1CE5-440E-AC56-051B82F4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1A9B-AC12-4A20-8C5B-0DE3FFC9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A75-32AC-41F7-AC68-383CEA5C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9E4D-05D2-4BA9-81CB-0FF4D1E2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177F-5E88-4BFF-89D6-2062FB1A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24F2-C480-4A51-BB49-1745DF69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09E7-2803-4E52-8828-F390AAC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7CFB-66CD-4DFE-AC62-163ABDA5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B0E4-0CCF-41FF-9930-DD6822FF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C4C97-6379-4ACD-B21F-4F022D7B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D0F55-96C5-465C-8010-AB275DDE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81333-F622-4F56-8360-E802F080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8B6B-CB78-4CE5-BDBB-D2CC4FFA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34D-9AF6-432A-86AB-B3DDF390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87E4-344E-471C-9ABD-F7285261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69D02-5965-45C0-B7A9-B238FE7C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AEE0-BE1E-46F9-BCD5-47A1163B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6EEA8-5371-4B55-BC22-473F5E73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54384-81F3-48CD-B149-BEDE16FA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B6FD-EFB4-43C4-BD75-C6232E32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C0826-ACFF-4D59-8154-F32B495F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0BFA-0047-4876-9089-D60C9C3F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F578-9E42-4FA4-B8E7-BC035CD2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4634D-BC6E-4A2C-BE19-20825E54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EFE-7D05-49DA-93E5-CAE6DBE8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CCA38-225D-4F21-B5D6-35A0C328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3A36-1C6B-462F-8ECE-E5A68DF4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5CDA1-1991-4D03-A64B-25265A2F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F5543-9DA3-4BCD-A20E-85C8DF38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D7FDC-C69C-4930-BE52-9BD75B1D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7D5F-BED4-4183-B243-F08B7EF7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6F30B-BBDD-48AA-B4D5-E7BA6A36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26785-135E-46BD-9C72-65499BD3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FC4BA-02E4-4D48-9DDB-BED383A0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B20BD-227B-44FC-ADDE-83C1BF63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FEB-F5A2-4D3A-8C09-C1473AA4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0D943-B8CB-44B0-8A18-CFC3BAA4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063FD-22CF-4B10-8D02-E284F2FF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ADB4-7045-4401-8B2A-144947F8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623F5-1420-4C5D-B7DE-638C342B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8DD0-0791-47BF-A537-EDEB6C3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0016E-A217-41D4-970B-BD4AF12E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38F25-D5F1-4681-891E-8A3C95FE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132D8-114F-4517-8C1A-3A8762F5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3D995-A8C8-4B41-8285-38082F5F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78CA7-20B6-44FA-8C7C-D9E653EB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EB9-49FE-4953-9C8A-70FD53FC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6F3DB-95DF-4ECE-B01A-AE680FEA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1E786-4190-4314-BE54-C591E65B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2CB6B-A953-4C9F-B121-25309196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B6D8C-583E-4887-9106-E7D7B28D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0AC52-9C9A-4AE4-87B2-8F2F7F56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6B367-3E04-4749-95DE-1DA16659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CC1E3-D630-48E2-B095-78DC1CBC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1B15B-08AF-4BA7-9501-7907D11D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E7755-6D54-446C-8E0B-37FD1525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2DD36-6BCB-48F0-858B-32789062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B75-5C94-415F-91B5-9E5454C4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3CC6D-FE2F-44DD-A035-69EF034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D47B5-A4D9-4D7F-BB64-8B384BB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619C4-E655-45C2-B091-9C306EE7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DC66C-5498-44B4-A1E6-BDA972E8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9B7E0-468D-4C20-B40E-A8B4B214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F9182-B80B-4605-B0C9-3E90E089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26278-0611-4939-A883-F712F479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D053F-5360-4665-A005-BE47315A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9AC4C-EAC6-4E05-B676-C4575987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D9A4F-623A-460E-BACC-2D4A5899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662-6BF8-4F0B-8FEA-5CFCC198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95019-5A9C-419A-9327-84BF5497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00770-4435-498A-B0DF-02C57125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34015-5484-4854-8D62-5ACB648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6E0A6-60B6-4E86-883D-504B2FD0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25FC0-97DA-46E0-BD15-A33A86E3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95BF7-80B2-477B-BB5C-4E65EF5F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1F0DF-EFC5-4FA9-A2D4-8FCFE5F7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E0716-CFF0-42CF-B809-B016809B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8D278-1E2D-4011-834A-B4488CA4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F366E-4F67-4264-9E28-68196A60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776AA3E-AD73-4723-8B8B-394FC1E0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BC981F-B8EF-41CA-B4EF-984DB1DBA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94E0A5-4D5F-4514-95B4-E623C5D5D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E679-38DE-4D52-A512-06C3C1BA0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2E774E-1ED9-44CD-9938-97D6BFA38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A9D645-99C1-4CC9-9248-B895D853F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2FFCA6D-58AE-4453-806D-EAD546E27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1339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DF9B9B-FFEA-4B2A-8B9A-C8B80E722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281D80-67CF-4E75-B483-536347B53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9D408E8-519D-4C18-8808-322772E1F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10EA7C4-28F0-4047-811A-E964C0FF7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ansition.fcc.gov/Daily_Releases/Daily_Business/2013/db0220/FCC-13-22A1.pdf" TargetMode="External"/><Relationship Id="rId2" Type="http://schemas.openxmlformats.org/officeDocument/2006/relationships/hyperlink" Target="https://mentor.ieee.org/802.11/dcn/13/11-13-0444-01-0reg-fcc-13-49-comment.docx" TargetMode="External"/><Relationship Id="rId3" Type="http://schemas.openxmlformats.org/officeDocument/2006/relationships/hyperlink" Target="https://mentor.ieee.org/802.11/dcn/13/11-13-0661-00-0reg-fcc-13-49-reply-comment-framework.doc" TargetMode="External"/><Relationship Id="rId4" Type="http://schemas.openxmlformats.org/officeDocument/2006/relationships/hyperlink" Target="https://mentor.ieee.org/802.11/dcn/13/11-13-0679-00-0reg-fcc-13-49-comment-survey.docx" TargetMode="External"/><Relationship Id="rId5" Type="http://schemas.openxmlformats.org/officeDocument/2006/relationships/hyperlink" Target="https://mentor.ieee.org/802.18/dcn/13/18-13-0087-04-0000-draft-reply-comments-of-ieee-802-re-5-ghz-nprm-fcc-et-13-49.docx" TargetMode="External"/><Relationship Id="rId6" Type="http://schemas.openxmlformats.org/officeDocument/2006/relationships/hyperlink" Target="http://secs.oakland.edu/~gpcorser/vanet-kenny-DSRC.pdf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552-00-0wng-802-11p-dsrc-and-802-11ac-coexistence.ppt" TargetMode="External"/><Relationship Id="rId2" Type="http://schemas.openxmlformats.org/officeDocument/2006/relationships/hyperlink" Target="https://mentor.ieee.org/802.11/dcn/13/11-13-0541-01-0wng-dsrc-applications-tutorial.pptx" TargetMode="External"/><Relationship Id="rId3" Type="http://schemas.openxmlformats.org/officeDocument/2006/relationships/hyperlink" Target="https://mentor.ieee.org/802.11/dcn/13/11-13-0543-01-0wng-dsrc-support-information.pptx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resources/antitrust-guidelines.pdf" TargetMode="External"/><Relationship Id="rId3" Type="http://schemas.openxmlformats.org/officeDocument/2006/relationships/hyperlink" Target="http://www.ieee.org/portal/cms_docs/about/CoE_poster.pdf" TargetMode="External"/><Relationship Id="rId4" Type="http://schemas.openxmlformats.org/officeDocument/2006/relationships/hyperlink" Target="https://mentor.ieee.org/802.11/public-file/07/11-07-0360-04-0000-802-11-policies-and-procedures.doc" TargetMode="External"/><Relationship Id="rId5" Type="http://schemas.openxmlformats.org/officeDocument/2006/relationships/hyperlink" Target="mailto:Jim.lansford@ieee.org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ee802.org/11/email/stds-802-11-reg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4/11-14-0025-00-0reg-draft-dsrc-coexistence-tt-status-letter-to-oet.doc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8D7BFA-B7EA-40A3-B5DB-3E5FE8417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eleconference Plan and Agen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1-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Object 11"/>
          <p:cNvGraphicFramePr/>
          <p:nvPr/>
        </p:nvGraphicFramePr>
        <p:xfrm>
          <a:off x="511200" y="3075120"/>
          <a:ext cx="816912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75120"/>
                    <a:ext cx="81691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new busine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ation for future presenta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CA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RC field t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imity of public access points to heavily traveled high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1B28F21-F5ED-4148-A391-77C828FE2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999000" y="60148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CC NPRM 13-22 (changes to 5GHz band rules, including proposed UNII-4 band)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transition.fcc.gov/Daily_Releases/Daily_Business/2013/db0220/FCC-13-22A1.pd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444-01-0reg-fcc-13-49-comment.doc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 framework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661-00-0reg-fcc-13-49-reply-comment-framework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 surve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679-00-0reg-fcc-13-49-comment-survey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mentor.ieee.org/802.18/dcn/13/18-13-0087-04-0000-draft-reply-comments-of-ieee-802-re-5-ghz-nprm-fcc-et-13-49.doc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RC Summ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secs.oakland.edu/~gpcorser/vanet-kenny-DSRC.pd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A67BAFB-12D8-4DFC-99F0-794B948BD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 (2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 submissions on DSRC (since 802.11p was ratifi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552-00-0wng-802-11p-dsrc-and-802-11ac-coexistence.p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41-01-0wng-dsrc-applications-tutorial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543-01-0wng-dsrc-support-information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994-00-0reg-proposal-for-u-nii-4-devices.doc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276-00-0reg-proposal-for-sharing-in-unii-4-band.pp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09-00-0reg-harmful-interference-to-dsrc-system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60-00-0reg-dsrc-per-versus-rss-profile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449-02-0reg-proposal-for-dsrc-band-coexistence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692A888-D76D-45AE-AA91-3F79C57FE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is the plan for the January 10th, 2014 IEEE 802.11 (Regulatory Standing Committee) DSRC Coexistence Tiger Team telecon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0C80A7-FD99-4704-8C1B-54DB5C984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rding secretary volunte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 ag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IEEE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d: Minutes from December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 FCC letter – review of draft: Document number 14/2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907496-3A8B-45C1-A326-783B145E1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ministrative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d not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iliation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faqs/affiliationFAQ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resources/antitrust-guidelines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www.ieee.org/portal/cms_docs/about/CoE_post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Working Group Policies and Procedure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public-file/07/11-07-0360-04-0000-802-11-policies-and-procedures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and Secret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r of this tiger team is Jim Lansford (C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ing for volunteers for a Recording 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send an email to the addresses below to have your attendance recor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Jim.lansford@ieee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DCB8400-426D-4366-A31C-E64F354EC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468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Guidelines for IEEE WG Meet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457200" y="1905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176"/>
              </a:spcBef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IEEE-SA standards meetings shall be conducted in compliance with all applicable laws, including antitrust and competition law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interpretation, validity, or essentiality of patents/patent clai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specific license rates, terms, o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Relative costs, including licensing costs of essential patent claims, of different technical approaches may be discussed in standards development meeting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  <a:ea typeface="Arial"/>
              </a:rPr>
              <a:t>Technical considerations remain primar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or engage in the fixing of product prices, allocation of customers, or division of sales mar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status or substance of ongoing or threatened litig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be silent if inappropriate topics are discussed … do formally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---------------------------------------------------------------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e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IEEE-SA Standards Board Operations Manu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, clause 5.3.10 and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“Promoting Competition and Innovation: What You Need to Know about the IEEE Standards Association's Antitrust and Competition Policy”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for more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6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Date Placeholder 7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E60C82-4E15-4705-B260-E9C931ADC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5ECAA3-7D00-4FCE-9F27-7010D08D0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Operating Rules –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body can vote, present, and make mo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is a tiger team – it is an ad hoc meeting of the 802.11 Regulatory Standing Committee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documents that are generated by this group that are intended for distribution outside of IEEE 802.11 (e.g., 802.18) must be approved with a 75% majority by the larger 802.11 Regulatory S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oting on documents must occur at an interim or plenary mee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802.11 voters may vote on documents to be approved for forwarding to other IEEE 802 working grou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submissions to this group must be posted to the IEEE document server (Mento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one can view IEEE 802.11 emails and download documents from Mento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02.11 REG SC emails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ieee802.org/11/email/stds-802-11-reg/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entor documents for download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lect “REG SC” under groups to view only Regulatory Standing Committee docu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allocated 75MHz of spectrum in the 5.9GHz band (5850-5925MHz) for Dedicated Short Range Communications (DSRC) in October 199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FCC NPRM 13-22 (13-49), the FCC requested comments on a potential sharing of the DSRC band, to understand if a feasible sharing solution that protects DSRC users could be develop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C would remain as a primary user of th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band would be designated U-NII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ac could be modified to operate in this new UNII-4 band if approved by the FC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did not specify the framework or etiquette by which band sharing would occ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FBA7A33-EEF4-48C0-9636-123465AE8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 of th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document that describes and quantifies possible coexistence mechanisms between DSRC and extensions of the 802.11 base standard in the proposed UNII-4 band, if the FCC allows such band sharing in a future R&amp;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work it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ITS/DSRC field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work to date on 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s on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Modeling/simul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Testing, field trials, and presentation of results from proposed prototype approa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 re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Includes outputs from all work i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One or more “snapshots” (summary of work to date) will be provided to FC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First snapshot in mid-Decemb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D932A2-23D6-4354-81CD-300A8D76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35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initial draft of FCC letter, document 14/25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4/11-14-0025-00-0reg-draft-dsrc-coexistence-tt-status-letter-to-oet.doc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97D8EE-B6A1-4837-8888-DB8373B9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Jim Lansford</dc:creator>
  <dc:description/>
  <dc:language>en-US</dc:language>
  <cp:lastModifiedBy>jl22</cp:lastModifiedBy>
  <cp:lastPrinted>1998-02-10T13:28:06Z</cp:lastPrinted>
  <dcterms:modified xsi:type="dcterms:W3CDTF">2014-01-10T22:17:28Z</dcterms:modified>
  <cp:revision>1544</cp:revision>
  <dc:subject/>
  <dc:title>DSRC Tiger Team</dc:title>
</cp:coreProperties>
</file>