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018592-9F30-4F78-B863-98D4ABFC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44128D-F722-4902-8512-ADDB4855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D03F42-B97B-4032-A27F-A1CD8BC7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0F0CC-42E8-4ABF-AE5C-8AD3F320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8C6D2D-554D-4E2E-AECD-DE6EEE7F9F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4AE-0BD5-4750-9C7C-E0882790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95A-45EC-4300-9682-3B9D573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C8B0C-B373-4DBD-9117-FC1D3EE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A9D22-E8AF-41EC-B2BD-FB1E93AB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E8E1-D70B-4309-97FC-6A244A03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9AE8F-7F94-4642-BE78-7751825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36597-47C0-437E-8B95-E49CB041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537CA-219A-4708-9B6B-FF6303A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65115-2460-402E-B911-B557926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53B8C-E074-430D-B507-1A808051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A1410-8AC6-4C7F-BF97-9466354C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EC21B-4388-4BC1-8407-CACCB03D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874-D6A9-4B27-BAAF-60832296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6E255-ABF8-47F4-97EE-F0495D22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9D81C-DA37-42AA-8453-4A1A147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0BA5F-E272-4C6A-A9C4-F519C51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899D8-FA8E-4A4C-A26F-3FDEAFA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BDA38-2350-4D9D-840A-D765B4D0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6DA77-CB23-4378-ABD4-FB824C9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CDCD8-4789-4E1C-87D7-F7265FC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9AC9-8C83-473F-BBB1-4A1123A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828F1-4CF7-497B-B0E8-D710D53C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984D1-7A98-48D6-B438-F9DA1245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87B-76B8-446F-AA44-6B35BE29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F622E-8CD3-49DD-A6BE-82EE8FEF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BAC67-AF78-4B17-90A5-F6AB324B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1E2CB-8083-4FA1-B7FD-052E8F14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9350F-83DA-4172-8333-C015DB0A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725EC-30AE-4494-9EB8-0FC81FA1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2867-B541-4505-A812-F463B32D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76B9C-BCE8-446F-B1A5-26AC55F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A14A-B714-4F82-869C-16F86BB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98990-3381-4124-B629-C785C4E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6404B-524C-47AD-9878-B9F8504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5E69-6818-43ED-B597-7CAB09BB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F6F5-A0E6-484D-871E-BF933496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1944E-24B6-4A23-BE4D-F5B63B55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1C05B-EFC3-4001-ADFB-C0EB28FA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F287-3FED-47AA-AADE-8E01C5D2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D22-1C89-46C7-B821-0A7E327D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63C0-B195-4613-88A2-F494B3E3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2BBA-A286-4EB0-A5EB-FFE68D37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780F-5D9E-47FA-BEBC-F25B66E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0AFE-E15D-4C88-84C9-843C66E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0BB-37C4-4039-BE98-872463C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2017-4A81-4D7C-BD66-45BE7B34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3CBD-6A0C-4AE6-A705-3A9640F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809F-6EEC-4C47-A8BB-65799F9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B154-0047-4CCB-ABDF-C413E7C7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648-6667-4DDB-B637-BE826FBC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593C-40F0-440F-B54A-8EDFEC6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84F5-ED93-4129-AFEE-633B8D5F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42CB-2426-4233-8241-8D210D98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549B-E319-40C1-93D4-5E1A90D5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6F65-35CD-4328-9FEF-118FB0C7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931-3716-4D40-9D0D-BD734435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0AC3-FBCC-4070-97A8-A3336705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6F8B-529E-4FC0-8378-A5F9CF6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6E35-05D5-4E81-9A4C-2BBFFB8E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3D61-946E-4B9A-BEE4-1F9EB5A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E201-5308-4328-866E-456C9956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6B25-1290-4813-8698-47E79AD1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5BDC-B7D3-4F99-8CAD-C8ABF505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AEF7-A359-43BE-836A-C3813AC0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CB20-7B1D-420F-8431-917C4EB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288E-016D-466E-8F86-84C13A76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3C4-CBE0-4F3B-B486-35028C0F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EB06-7847-42D4-9161-DF6E0C8A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B8B2-AD50-423D-BA4C-D18BC9C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FE02-F384-43FB-93D0-A60DFA9F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6962-921B-42C2-A83C-2D880EA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3032-B3ED-4F5C-ADE3-F2A1D6A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91DC-D9F9-490C-A6BA-19350E7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9358-FC5E-4D0A-B179-2E54778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4B58-D0EE-4799-ABCB-6DA9E819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DD8E-013D-40BF-B0DF-78321590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10F6-A5B4-44B8-ACF2-B10FCEA7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3DF-D696-405C-9F8B-1A095783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C650-3F50-48BB-AC6B-F1C8896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7F38-46F4-4BDD-B4BB-FA59601F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9A0D-EE61-4E7F-BFA2-8D22C8B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9B12-6C9E-40D2-93EF-779DFC4E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BD857-A950-4299-9A5A-7517BB2F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F412-8E0E-4379-AAC8-EF173E58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8770-FA06-46D7-840D-EA1BB9B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DC53-E364-4F67-8BC0-BC8E5472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51C9-3656-43A6-8380-6335F9F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C1BC0-CCD5-4F00-92AA-C1A9A4C1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7DF-9278-4F7C-80AA-687E9B87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7796D-DFF0-4794-8E52-15280D92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B1DDE-BB1B-4E49-8B64-09435C2D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D0FE-7FA4-4C5C-9554-A32F492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B835-5F74-4223-B210-C45C379A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23AF-8530-44F5-B020-84BA7BB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60D0-D2C7-4757-B1AA-4B5E422E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3206-EB61-406D-827D-A36055A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278E-4BC2-4207-A97E-361CBD4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B574B-4233-4F2A-92B7-F4BD7DD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EF2D5-A52E-47BD-A8F8-199B66E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DC6-BB8C-42DC-ADB7-E14E67F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ABDF-2751-4403-8A70-CEAF693A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4B1F8-9485-464C-9687-829DFF5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BBB0-178B-4891-9713-3BCD0D0B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B8711-C1D7-4668-B6DA-AB6EF37C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61FB-0AEC-46C4-9839-E596DBDB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33856-6736-4E93-819D-86DA340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7399-515A-4723-9BA2-65C9FE82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BCB0-2195-4B06-A450-6541C06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44FA-BA9E-44B4-A328-23277A1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0326-F2DF-4C3B-8884-BF2147E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8AE-043F-4E95-9A4F-5DFE727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F0AA-69A1-4D50-BD6E-DD093FE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3D05-7541-4F22-AF8F-34FB571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F3EB-9792-4640-AB3A-4E1BFB44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F715-3F15-4F0C-8B6A-D1861B48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5E791-C828-4214-B57F-314060B0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9E53E-CC51-42AC-AA8D-5130EE39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7518B-C1FC-479F-AE57-5890B9D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C2C3-9E5A-461D-87E2-047CAEEC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20497-51FF-4F09-A64F-EE9815DD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5DFF-8E69-461B-8DBE-D56C15CA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659-E824-4CC5-8B45-4FFF7F6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05F35-59BD-461A-BF8D-8EDD742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AE13-4380-4572-B66B-F40F5C4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F88F-F112-45CA-ACC2-3AB2AC51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8C0B5-98E2-4C24-ADEC-D3B1985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1E17-B554-4C95-AA77-A7F92998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9A96-3618-4D33-B62D-5F11118D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DC71F-758A-4957-945E-36762A81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0B327-794C-4C86-996F-153801F6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6B82F-D8CA-4663-A752-93DD9EE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AD183-F83C-4F91-AE4B-3FF10B9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3C757E-26EF-421E-8FF8-6974D841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AA344A-7A26-4EB8-9A71-5B61D9FD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DB8302-3C9C-4341-94BA-E4CF5DFD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D28A-D774-46BA-AD4D-E7DB69B12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97304A-FC60-4294-96BE-A8F29F43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8B9054-EB06-4DD0-9C43-7FD8C986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B8477C-DADF-4E5B-A740-F85B6BE4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CA0E53-45CD-490F-AA34-3A4859C8D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008E20-0C61-490A-87EC-0FB7BE89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8C2DD7-F3B3-48F2-8E3E-EFB4F809A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02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76679B-7F89-42A6-8314-C8A6477E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hyperlink" Target="http://secs.oakland.edu/~gpcorser/vanet-kenny-DSRC.pdf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hyperlink" Target="https://mentor.ieee.org/802.11/dcn/13/11-13-0541-01-0wng-dsrc-applications-tutorial.pptx" TargetMode="External"/><Relationship Id="rId3" Type="http://schemas.openxmlformats.org/officeDocument/2006/relationships/hyperlink" Target="https://mentor.ieee.org/802.11/dcn/13/11-13-0543-01-0wng-dsrc-support-information.ppt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4/11-14-0025-00-0reg-draft-dsrc-coexistence-tt-status-letter-to-oet.doc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7D1706-D0D1-4EF7-8575-3411C832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1-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of public access points to heavily traveled hig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E2511B-00F8-4E12-8675-DA1C7398F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secs.oakland.edu/~gpcorser/vanet-kenny-DSRC.pd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F1E8CC-9D41-4452-889C-172F881E4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41-01-0wng-dsrc-applications-tutorial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543-01-0wng-dsrc-support-information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60-00-0reg-dsrc-per-versus-rss-profile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613080" y="33480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937940-72C9-4C83-B9BD-891C9BCC3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January 10th, 2014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A84904-CFE6-4418-B0D7-1F689AC4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d: Minutes from December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FCC letter – review of draft: Document number 14/2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356109-9FD8-4F1D-9ED8-BFCB1AF0B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D3E886-43EE-403E-A42D-884A126A0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7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19AF4A-FE9A-4FA8-B758-E9AD8A01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D43E5C-D1D5-487C-9902-AC60968031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52FDB1-D482-4236-96E5-7DE0D802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 the proposed UNII-4 band, if the FCC allows such band sharing in a future R&amp;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Decem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75D047-0FD3-4295-9AEB-5B5FCFDA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initial draft of FCC letter, document 14/25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4/11-14-0025-00-0reg-draft-dsrc-coexistence-tt-status-letter-to-oet.doc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D80DD0-6DDB-4914-B8B9-5E7C5828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4-01-10T22:17:28Z</dcterms:modified>
  <cp:revision>1544</cp:revision>
  <dc:subject/>
  <dc:title>DSRC Tiger Team</dc:title>
</cp:coreProperties>
</file>