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F52F02-247A-4C50-8AC8-438E9E68D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D10F268-AE5C-48E0-9781-F7977E2639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98D243A-C140-4F25-AF01-DEF2AD7D28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3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3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3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CB22162-6E62-47E8-A038-7A0A3905DEF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14560" y="703440"/>
            <a:ext cx="4630680" cy="347328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0CABE6B-4DE4-4F1F-A02C-F43A556C2E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A897EFC5-2BE9-400E-B37E-44F43A336AF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BA125C5-6637-4311-B10E-631C5726A4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A2A57A7-834B-4FD5-B506-43AF71E073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04840" y="696960"/>
            <a:ext cx="4649760" cy="348768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DF426C6-A5B1-4D31-BB03-5E729AAA34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14560" y="703440"/>
            <a:ext cx="4630680" cy="347328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FBFE08A-2C1E-4A12-9323-86D780FA81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14560" y="703440"/>
            <a:ext cx="4630680" cy="347328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3A5B453-23DE-4214-A8D1-42E5192F95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14560" y="703440"/>
            <a:ext cx="4630680" cy="347328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261C3F0-B940-482F-96FB-562957C6D6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14560" y="703440"/>
            <a:ext cx="4630680" cy="347328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7877F50-0AB0-464A-ADFC-884586825E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14560" y="703440"/>
            <a:ext cx="4630680" cy="3473280"/>
          </a:xfrm>
          <a:prstGeom prst="rect">
            <a:avLst/>
          </a:prstGeom>
          <a:ln w="0">
            <a:noFill/>
          </a:ln>
        </p:spPr>
      </p:sp>
      <p:sp>
        <p:nvSpPr>
          <p:cNvPr id="2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48FC22F-A8D3-4690-B442-FBB8267E9F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14560" y="703440"/>
            <a:ext cx="4630680" cy="347328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81DB1A0-7CED-4107-AB30-009AF6A967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DCB1C09-5919-41BF-82DF-AE7B047246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1D1AE50-8645-4AF2-849D-3C161E5BB6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9F09263-6389-4E0B-BF24-6F409F41C3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108080" y="698400"/>
            <a:ext cx="4643280" cy="3483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4904874-42AF-48EF-B34B-301921B436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DA82489-07D8-4E69-8D09-D26AAAE5992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98794BB-04A8-4DBE-B2E2-FB9C3AEB223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78248BD-28FE-4BFE-9E5B-81F8414158A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77762E4-1286-46CF-B476-8204438A19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3" name="PlaceHolder 2"/>
          <p:cNvSpPr>
            <a:spLocks noGrp="1"/>
          </p:cNvSpPr>
          <p:nvPr>
            <p:ph type="sldImg"/>
          </p:nvPr>
        </p:nvSpPr>
        <p:spPr>
          <a:xfrm>
            <a:off x="1108080" y="698400"/>
            <a:ext cx="4643280" cy="3483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31CA78C-DB04-40E9-9B7E-8BED1D6536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14560" y="703440"/>
            <a:ext cx="4630680" cy="3473280"/>
          </a:xfrm>
          <a:prstGeom prst="rect">
            <a:avLst/>
          </a:prstGeom>
          <a:ln w="0">
            <a:noFill/>
          </a:ln>
        </p:spPr>
      </p:sp>
      <p:sp>
        <p:nvSpPr>
          <p:cNvPr id="2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080B2-3833-44D1-9721-E43F3B6A8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56E28-5FB5-4112-96A6-2BCB2C50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C59EE-09E5-4848-A0D9-05D3F9B11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F1600-6CCF-4333-8AD0-8FDA8DF9B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E371-C4A1-46C7-8445-B1AC64C5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0AF4B-3836-4DAF-B909-0EF90682F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2BB0-8000-4F45-9B34-E70C7C4B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68C5-0B43-4B7E-A495-99272C7A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D0B0F-8470-4F2C-A77A-977BFC83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97AF-97E3-41A7-A7FF-DB4C6FFF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89EE-765F-4DE0-B160-06795517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54AB-F484-47BB-A80F-6DB713707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E77EAC-53CE-4A2D-8300-E956B787B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3/150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3/11-13-1357-00-000m-revmc-minutes-for-nov-2013-dallas.doc" TargetMode="External"/><Relationship Id="rId2" Type="http://schemas.openxmlformats.org/officeDocument/2006/relationships/hyperlink" Target="https://mentor.ieee.org/802.11/dcn/13/11-13-0095-07-000m-editor-reports.ppt"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1-000m-revmc-mac-comments.xls" TargetMode="External"/><Relationship Id="rId2" Type="http://schemas.openxmlformats.org/officeDocument/2006/relationships/hyperlink" Target="https://mentor.ieee.org/802.11/dcn/13/11-13-1160-03-000m-lb199-gen-adhoc-comments.xls" TargetMode="External"/><Relationship Id="rId3" Type="http://schemas.openxmlformats.org/officeDocument/2006/relationships/hyperlink" Target="https://mentor.ieee.org/802.11/dcn/14/11-14-0006-00-000m-fixes-to-dmg-operation.docx"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1-000m-revmc-mac-comments.xls" TargetMode="External"/><Relationship Id="rId2" Type="http://schemas.openxmlformats.org/officeDocument/2006/relationships/hyperlink" Target="https://mentor.ieee.org/802.11/dcn/13/11-13-1160-03-000m-lb199-gen-adhoc-comments.xls" TargetMode="External"/><Relationship Id="rId3" Type="http://schemas.openxmlformats.org/officeDocument/2006/relationships/hyperlink" Target="https://mentor.ieee.org/802.11/dcn/13/11-13-0703-03-000m-mib-addition-in-support-of-3gpp-manageability.doc"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1160-01-000m-lb199-gen-adhoc-comments.xls" TargetMode="External"/><Relationship Id="rId2" Type="http://schemas.openxmlformats.org/officeDocument/2006/relationships/hyperlink" Target="https://mentor.ieee.org/802.11/dcn/13/11-13-0361-17-000m-revmc-mac-comments.xls" TargetMode="External"/><Relationship Id="rId3" Type="http://schemas.openxmlformats.org/officeDocument/2006/relationships/hyperlink" Target="https://mentor.ieee.org/802.11/dcn/13/11-13-0361-17-000m-revmc-mac-comments.xls" TargetMode="External"/><Relationship Id="rId4" Type="http://schemas.openxmlformats.org/officeDocument/2006/relationships/hyperlink" Target="https://mentor.ieee.org/802.11/dcn/13/11-13-0361-17-000m-revmc-mac-comments.xls" TargetMode="External"/><Relationship Id="rId5" Type="http://schemas.openxmlformats.org/officeDocument/2006/relationships/hyperlink" Target="https://mentor.ieee.org/802.11/dcn/13/11-13-0233-21-000m-revmc-wg-ballot-comments.xls" TargetMode="External"/><Relationship Id="rId6" Type="http://schemas.openxmlformats.org/officeDocument/2006/relationships/hyperlink" Target="https://mentor.ieee.org/802.11/dcn/13/11-13-0233-21-000m-revmc-wg-ballot-comments.xls"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3/11-13-0875-06-000m-cid-1050-duplicate-cache.doc" TargetMode="External"/><Relationship Id="rId2" Type="http://schemas.openxmlformats.org/officeDocument/2006/relationships/hyperlink" Target="https://mentor.ieee.org/802.11/dcn/13/11-13-0875-06-000m-cid-1050-duplicate-cache.doc"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451FA60-4CE8-47C9-B71C-65B39B45DB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Januar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1-22</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21"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11D97DA-9FFF-442D-A9CD-11E2D04F68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DCCB6E38-8D6C-4741-B023-1146FD4A97D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27"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CB8A997-2E0B-42C6-94D6-666EBFF9C6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4AD94B2-B6D0-4A7D-ABAD-6CCF79464A0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31"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1357-00-000m-revmc-minutes-for-nov-2013-dallas.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095-07-000m-editor-reports.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33"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601633A-23AC-4055-827B-6F14A21F63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5EA74B6-35B0-46F1-A70B-C5784B1172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37"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3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6CE0064-EE8E-41F8-A88F-21C4E145E1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  – Telecons</a:t>
            </a: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7000"/>
          </a:bodyPr>
          <a:p>
            <a:pPr lvl="1"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64920" indent="-332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1-000m-revmc-mac-comments.xls</a:t>
            </a:r>
            <a:r>
              <a:rPr b="0" lang="en-US" sz="1800" spc="-1" strike="noStrike">
                <a:solidFill>
                  <a:srgbClr val="000000"/>
                </a:solidFill>
                <a:latin typeface="Times New Roman"/>
              </a:rPr>
              <a:t> Tab “Motion MAC-R” and</a:t>
            </a:r>
            <a:endParaRPr b="0" lang="en-US" sz="1800" spc="-1" strike="noStrike">
              <a:solidFill>
                <a:srgbClr val="000000"/>
              </a:solidFill>
              <a:latin typeface="Times New Roman"/>
            </a:endParaRPr>
          </a:p>
          <a:p>
            <a:pPr lvl="2" marL="664920" indent="-332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3-000m-lb199-gen-adhoc-comments.xls</a:t>
            </a:r>
            <a:r>
              <a:rPr b="0" lang="en-US" sz="1800" spc="-1" strike="noStrike">
                <a:solidFill>
                  <a:srgbClr val="000000"/>
                </a:solidFill>
                <a:latin typeface="Times New Roman"/>
              </a:rPr>
              <a:t> Tabs “Gen Motion Dallas C” and “Gen Motion Telecon 1”</a:t>
            </a:r>
            <a:endParaRPr b="0" lang="en-US" sz="1800" spc="-1" strike="noStrike">
              <a:solidFill>
                <a:srgbClr val="000000"/>
              </a:solidFill>
              <a:latin typeface="Times New Roman"/>
            </a:endParaRPr>
          </a:p>
          <a:p>
            <a:pPr lvl="1"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changes indicated in </a:t>
            </a:r>
            <a:r>
              <a:rPr b="0" lang="en-US" sz="2000" spc="-1" strike="noStrike" u="sng">
                <a:solidFill>
                  <a:srgbClr val="0066ff"/>
                </a:solidFill>
                <a:uFillTx/>
                <a:latin typeface="Times New Roman"/>
                <a:hlinkClick r:id="rId3"/>
              </a:rPr>
              <a:t>https://mentor.ieee.org/802.11/dcn/14/11-14-0006-00-000m-fixes-to-dmg-operation.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Jon Rosdahl</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Mike Montemurro</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7-0-1 Pass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022AB31-73A7-4F0F-9067-0C9AE78CC7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Monday, Tuesday, Wednesday Presentations &amp; Comment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83000"/>
          </a:bodyPr>
          <a:p>
            <a:pPr lvl="1"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1-000m-revmc-mac-comments.xls</a:t>
            </a:r>
            <a:r>
              <a:rPr b="0" lang="en-US" sz="1800" spc="-1" strike="noStrike">
                <a:solidFill>
                  <a:srgbClr val="000000"/>
                </a:solidFill>
                <a:latin typeface="Times New Roman"/>
              </a:rPr>
              <a:t> Tab “Motion MAC-S” and</a:t>
            </a:r>
            <a:endParaRPr b="0" lang="en-US" sz="18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3-000m-lb199-gen-adhoc-comments.xls</a:t>
            </a:r>
            <a:r>
              <a:rPr b="0" lang="en-US" sz="1800" spc="-1" strike="noStrike">
                <a:solidFill>
                  <a:srgbClr val="000000"/>
                </a:solidFill>
                <a:latin typeface="Times New Roman"/>
              </a:rPr>
              <a:t> Tab “Gen Motion ”</a:t>
            </a:r>
            <a:endParaRPr b="0" lang="en-US" sz="1800" spc="-1" strike="noStrike">
              <a:solidFill>
                <a:srgbClr val="000000"/>
              </a:solidFill>
              <a:latin typeface="Times New Roman"/>
            </a:endParaRPr>
          </a:p>
          <a:p>
            <a:pPr lvl="1"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0703-03-000m-mib-addition-in-support-of-3gpp-manageability.do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56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6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970AE3F-46FA-4041-A16C-FB2152A1FD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comment resolutions to comments in</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1160-01-000m-lb199-gen-adhoc-comments.xls</a:t>
            </a:r>
            <a:r>
              <a:rPr b="0" lang="en-US" sz="2000" spc="-1" strike="noStrike">
                <a:solidFill>
                  <a:srgbClr val="000000"/>
                </a:solidFill>
                <a:latin typeface="Times New Roman"/>
              </a:rPr>
              <a:t>  “Gen Motion xx” tab</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a:t>
            </a:r>
            <a:r>
              <a:rPr b="0" lang="en-US" sz="2000" spc="-1" strike="noStrike" u="sng">
                <a:solidFill>
                  <a:srgbClr val="0066ff"/>
                </a:solidFill>
                <a:uFillTx/>
                <a:latin typeface="Times New Roman"/>
                <a:hlinkClick r:id="rId4"/>
              </a:rPr>
              <a:t>mentor.ieee.org/802.11/dcn/13/11-13-0361-17-000m-revmc-mac-comments.xls</a:t>
            </a:r>
            <a:r>
              <a:rPr b="0" lang="en-US" sz="2000" spc="-1" strike="noStrike">
                <a:solidFill>
                  <a:srgbClr val="000000"/>
                </a:solidFill>
                <a:latin typeface="Times New Roman"/>
              </a:rPr>
              <a:t> “Motion MAC-x” Tab</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5"/>
              </a:rPr>
              <a:t>https://</a:t>
            </a:r>
            <a:r>
              <a:rPr b="0" lang="en-US" sz="2000" spc="-1" strike="noStrike" u="sng">
                <a:solidFill>
                  <a:srgbClr val="0066ff"/>
                </a:solidFill>
                <a:uFillTx/>
                <a:latin typeface="Times New Roman"/>
                <a:hlinkClick r:id="rId6"/>
              </a:rPr>
              <a:t>mentor.ieee.org/802.11/dcn/13/11-13-0233-21-000m-revmc-wg-ballot-comments.xls</a:t>
            </a:r>
            <a:r>
              <a:rPr b="0" lang="en-US" sz="2000" spc="-1" strike="noStrike">
                <a:solidFill>
                  <a:srgbClr val="000000"/>
                </a:solidFill>
                <a:latin typeface="Times New Roman"/>
              </a:rPr>
              <a:t> “ed motion x” tab</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ed: </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940EBD9-A5BA-402D-872B-7084B4818F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875-06-000m-cid-1050-duplicate-cache.doc</a:t>
            </a:r>
            <a:r>
              <a:rPr b="0" lang="en-US" sz="1800" spc="-1" strike="noStrike">
                <a:solidFill>
                  <a:srgbClr val="000000"/>
                </a:solidFill>
                <a:latin typeface="Times New Roman"/>
              </a:rPr>
              <a:t> replacement text (duplicate cache rules re-write) – CIDs 2023, 2496</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99-08-000m-txop-limit-rules-text.docx</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82063A6-BB4B-480E-BE71-13C175E217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 - Mar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 7, 14, 21, 28</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2B5C853-FC01-42CD-8AC3-0A730472CD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3-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A966338-BC47-4D31-8D40-E4EFCB51E3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Januar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15D0927-5038-478F-A877-DBE2BB6230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238640" cy="20131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Dan Harkins 41r0,</a:t>
            </a:r>
            <a:endParaRPr b="0" lang="en-US" sz="1600" spc="-1" strike="noStrike">
              <a:solidFill>
                <a:srgbClr val="000000"/>
              </a:solidFill>
              <a:latin typeface="Times New Roman"/>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rian:</a:t>
            </a:r>
            <a:r>
              <a:rPr b="0" lang="en-GB" sz="1600" spc="-1" strike="noStrike">
                <a:solidFill>
                  <a:srgbClr val="000000"/>
                </a:solidFill>
                <a:latin typeface="Times New Roman"/>
                <a:ea typeface="Arial"/>
              </a:rPr>
              <a:t>703r3 and 1314r13</a:t>
            </a:r>
            <a:endParaRPr b="0" lang="en-US" sz="1600" spc="-1" strike="noStrike">
              <a:solidFill>
                <a:srgbClr val="000000"/>
              </a:solidFill>
              <a:latin typeface="Times New Roman"/>
            </a:endParaRPr>
          </a:p>
        </p:txBody>
      </p:sp>
      <p:sp>
        <p:nvSpPr>
          <p:cNvPr id="74" name="Rectangle 35"/>
          <p:cNvSpPr/>
          <p:nvPr/>
        </p:nvSpPr>
        <p:spPr>
          <a:xfrm>
            <a:off x="4724280" y="1295280"/>
            <a:ext cx="4343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533840"/>
            <a:ext cx="3962520" cy="125748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rch,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30440"/>
            <a:ext cx="396252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 2434 (11-13-115-06)</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7" name="Rectangle 1"/>
          <p:cNvSpPr/>
          <p:nvPr/>
        </p:nvSpPr>
        <p:spPr>
          <a:xfrm>
            <a:off x="266760" y="49528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455r0 –CID 2263, Adrian:</a:t>
            </a:r>
            <a:r>
              <a:rPr b="0" lang="en-GB" sz="1600" spc="-1" strike="noStrike">
                <a:solidFill>
                  <a:srgbClr val="000000"/>
                </a:solidFill>
                <a:latin typeface="Times New Roman"/>
                <a:ea typeface="Arial"/>
              </a:rPr>
              <a:t>  875r7, MAC comments, GEN comments</a:t>
            </a:r>
            <a:endParaRPr b="0" lang="en-US" sz="1600" spc="-1" strike="noStrike">
              <a:solidFill>
                <a:srgbClr val="000000"/>
              </a:solidFill>
              <a:latin typeface="Times New Roman"/>
            </a:endParaRPr>
          </a:p>
        </p:txBody>
      </p:sp>
      <p:sp>
        <p:nvSpPr>
          <p:cNvPr id="78" name="Rectangle 35"/>
          <p:cNvSpPr/>
          <p:nvPr/>
        </p:nvSpPr>
        <p:spPr>
          <a:xfrm>
            <a:off x="4714920" y="2514600"/>
            <a:ext cx="4200480" cy="60948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39000" indent="-2455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509r0 + other Location</a:t>
            </a:r>
            <a:endParaRPr b="0" lang="en-US" sz="1600" spc="-1" strike="noStrike">
              <a:solidFill>
                <a:srgbClr val="000000"/>
              </a:solidFill>
              <a:latin typeface="Times New Roman"/>
            </a:endParaRPr>
          </a:p>
        </p:txBody>
      </p:sp>
      <p:sp>
        <p:nvSpPr>
          <p:cNvPr id="79" name="Rectangle 1"/>
          <p:cNvSpPr/>
          <p:nvPr/>
        </p:nvSpPr>
        <p:spPr>
          <a:xfrm>
            <a:off x="352440" y="3429000"/>
            <a:ext cx="4181400" cy="14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 2199, 2466 (30r0, 49r0) Carlos 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86, 2487,2474 (1399r0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065, 2169, 2054, 2187, 217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rian:</a:t>
            </a:r>
            <a:r>
              <a:rPr b="0" lang="en-GB" sz="1600" spc="-1" strike="noStrike">
                <a:solidFill>
                  <a:srgbClr val="000000"/>
                </a:solidFill>
                <a:latin typeface="Times New Roman"/>
                <a:ea typeface="Arial"/>
              </a:rPr>
              <a:t> 14/57r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8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FD340FC-FD22-42A5-B153-B47F7A1535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1</a:t>
            </a:r>
            <a:br>
              <a:rPr sz="3200"/>
            </a:br>
            <a:endParaRPr b="1" lang="en-US" sz="3200" spc="-1" strike="noStrike">
              <a:solidFill>
                <a:srgbClr val="000000"/>
              </a:solidFill>
              <a:latin typeface="Times New Roman"/>
            </a:endParaRPr>
          </a:p>
        </p:txBody>
      </p:sp>
      <p:sp>
        <p:nvSpPr>
          <p:cNvPr id="86"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87" name=""/>
          <p:cNvGraphicFramePr/>
          <p:nvPr/>
        </p:nvGraphicFramePr>
        <p:xfrm>
          <a:off x="657360" y="1371600"/>
          <a:ext cx="7772400" cy="4495680"/>
        </p:xfrm>
        <a:graphic>
          <a:graphicData uri="http://schemas.openxmlformats.org/drawingml/2006/table">
            <a:tbl>
              <a:tblPr/>
              <a:tblGrid>
                <a:gridCol w="482400"/>
                <a:gridCol w="738360"/>
                <a:gridCol w="100080"/>
                <a:gridCol w="884160"/>
                <a:gridCol w="176040"/>
                <a:gridCol w="32212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8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AB07447-6B4C-4F8F-9CA7-469BCCBC76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1</a:t>
            </a:r>
            <a:br>
              <a:rPr sz="3200"/>
            </a:br>
            <a:endParaRPr b="1" lang="en-US" sz="3200" spc="-1" strike="noStrike">
              <a:solidFill>
                <a:srgbClr val="000000"/>
              </a:solidFill>
              <a:latin typeface="Times New Roman"/>
            </a:endParaRPr>
          </a:p>
        </p:txBody>
      </p:sp>
      <p:sp>
        <p:nvSpPr>
          <p:cNvPr id="94"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95"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97"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2087EFA-8F68-4C5F-A6E7-88DE0DAE48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57BA44B-977E-49CC-AA85-87171A04668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mc NOT going out to ballot in January</a:t>
            </a:r>
            <a:endParaRPr b="1"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discussion, review of proposed text &amp; straw polls this week</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03"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498DE90-9837-442A-B258-31ED328E05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880AD43-C35D-4C72-BB3F-DDE184BCB3E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a:t>
            </a:r>
            <a:br>
              <a:rPr sz="3200"/>
            </a:b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0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89160D5-8F1F-46F1-A4FF-BF5F118D89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114"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115"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17"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346FF24-AEF8-4DAE-B842-38F935705C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1-22T19:09:13Z</dcterms:modified>
  <cp:revision>1486</cp:revision>
  <dc:subject/>
  <dc:title>TGm Agenda</dc:title>
</cp:coreProperties>
</file>