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5572080" y="-755280"/>
            <a:ext cx="64152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4584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142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5289120" y="9000720"/>
            <a:ext cx="92412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181320" y="900072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7F4F750-10CE-4884-B0C3-05E7AE588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710640" y="900108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9"/>
          <p:cNvSpPr/>
          <p:nvPr/>
        </p:nvSpPr>
        <p:spPr>
          <a:xfrm>
            <a:off x="716040" y="899964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0"/>
          <p:cNvSpPr/>
          <p:nvPr/>
        </p:nvSpPr>
        <p:spPr>
          <a:xfrm>
            <a:off x="641520" y="297000"/>
            <a:ext cx="557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A442E306-226D-4D19-B7D4-3AD904F2A5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D3981D25-65CE-4942-AD49-A64247CD86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A771D05D-37B1-47C5-BF1C-345678F91E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67D369AE-7487-4E82-B0F5-69AF04B66B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ADC2ACE3-54A3-4837-8DEB-CCDAF1CE26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EF454AFB-25D0-4989-86D4-ECE9757DB3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47D2ACD4-AFFE-495C-BAA9-8DBF5FF3E8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EEE44AAC-B431-413B-A0A1-03D3360F0C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44BE4ECF-2477-4C5D-8EDB-091EA2B773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3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ACDD11CA-AFFA-4AED-85BE-DA4DBC5253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3094E8B3-442B-4974-8C6C-9EA2EF4196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47962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0/0503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67968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4235760" y="9001080"/>
            <a:ext cx="30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ichael Montemurro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295596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</a:t>
            </a:r>
            <a:fld id="{D84F5F6A-C16F-40F6-A74A-259002108E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7098D22E-8426-4EE9-9132-B4C14DFB6F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47962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0/0503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67968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4235760" y="9001080"/>
            <a:ext cx="30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ichael Montemurro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295596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</a:t>
            </a:r>
            <a:fld id="{8767ADE1-8F34-4DC3-9D8F-D88D1655C3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3BF41F0A-DE5B-4BED-AADC-12DBE57896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371556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0/0503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10382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3300120" y="9001080"/>
            <a:ext cx="30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ichael Montemurro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295596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A1F783A2-FFAE-4C97-B9B9-CA92E15E73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60FF55B0-0BB7-4597-941C-22AF35BB02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15D4-0493-441B-9965-2A9411961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D807-E35E-41A1-BB37-47963B25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B545-989E-406D-95C2-2A8C97FF5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4148-7776-4A2B-99ED-5AE2072AB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A453-6F20-4D87-965F-4D8EC4C3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4F0D-FED8-4FD8-B12A-42DE8E1E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C470-B7B0-4469-8179-827C74A1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5AC6-0748-4C0C-A3CE-052724A7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103A-9A79-4003-BF72-00CACA8F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2E73-A3BD-49A7-A628-F1F40903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7556-D8F3-4BD7-AF8F-02E4A4A3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078F-8D1C-40E9-89EB-63ABBCE4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4440"/>
            <a:ext cx="1893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1CFB7A5-F304-4701-B8F4-7C4575C29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3/1500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3/11-13-1160-01-000m-lb199-gen-adhoc-comments.xls" TargetMode="External"/><Relationship Id="rId2" Type="http://schemas.openxmlformats.org/officeDocument/2006/relationships/hyperlink" Target="https://mentor.ieee.org/802.11/dcn/13/11-13-0361-17-000m-revmc-mac-comments.xls" TargetMode="External"/><Relationship Id="rId3" Type="http://schemas.openxmlformats.org/officeDocument/2006/relationships/hyperlink" Target="https://mentor.ieee.org/802.11/dcn/13/11-13-0361-17-000m-revmc-mac-comments.xls" TargetMode="External"/><Relationship Id="rId4" Type="http://schemas.openxmlformats.org/officeDocument/2006/relationships/hyperlink" Target="https://mentor.ieee.org/802.11/dcn/13/11-13-0361-17-000m-revmc-mac-comments.xls" TargetMode="External"/><Relationship Id="rId5" Type="http://schemas.openxmlformats.org/officeDocument/2006/relationships/hyperlink" Target="https://mentor.ieee.org/802.11/dcn/13/11-13-0233-21-000m-revmc-wg-ballot-comments.xls" TargetMode="External"/><Relationship Id="rId6" Type="http://schemas.openxmlformats.org/officeDocument/2006/relationships/hyperlink" Target="https://mentor.ieee.org/802.11/dcn/13/11-13-0233-21-000m-revmc-wg-ballot-comments.xls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3/11-13-0875-06-000m-cid-1050-duplicate-cache.doc" TargetMode="External"/><Relationship Id="rId2" Type="http://schemas.openxmlformats.org/officeDocument/2006/relationships/hyperlink" Target="https://mentor.ieee.org/802.11/dcn/13/11-13-0875-06-000m-cid-1050-duplicate-cache.doc" TargetMode="External"/><Relationship Id="rId3" Type="http://schemas.openxmlformats.org/officeDocument/2006/relationships/hyperlink" Target="https://mentor.ieee.org/802.11/dcn/13/11-13-1199-08-000m-txop-limit-rules-text.docx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murphy.events.ieee.org/imat/" TargetMode="External"/><Relationship Id="rId2" Type="http://schemas.openxmlformats.org/officeDocument/2006/relationships/hyperlink" Target="https://mentor.ieee.org/802.11/documen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tandards.ieee.org/board/pat/pat-slideset.pp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tandards.ieee.org/board/pat/pat-slideset.ppt" TargetMode="External"/><Relationship Id="rId2" Type="http://schemas.openxmlformats.org/officeDocument/2006/relationships/hyperlink" Target="http://standards.ieee.org/board/pat/faq.pdf" TargetMode="External"/><Relationship Id="rId3" Type="http://schemas.openxmlformats.org/officeDocument/2006/relationships/hyperlink" Target="http://standards.ieee.org/board/pat/loa.pdf" TargetMode="External"/><Relationship Id="rId4" Type="http://schemas.openxmlformats.org/officeDocument/2006/relationships/hyperlink" Target="http://standards.ieee.org/faqs/affiliationFAQ.html" TargetMode="External"/><Relationship Id="rId5" Type="http://schemas.openxmlformats.org/officeDocument/2006/relationships/hyperlink" Target="http://standards.ieee.org/resources/antitrust-guidelines.pdf" TargetMode="External"/><Relationship Id="rId6" Type="http://schemas.openxmlformats.org/officeDocument/2006/relationships/hyperlink" Target="http://www.ieee.org/portal/cms_docs/about/CoE_poster.pdf" TargetMode="External"/><Relationship Id="rId7" Type="http://schemas.openxmlformats.org/officeDocument/2006/relationships/hyperlink" Target="https://mentor.ieee.org/802.11/public-file/07/11-07-0360-04-0000-802-11-policies-and-procedures.doc" TargetMode="External"/><Relationship Id="rId8" Type="http://schemas.openxmlformats.org/officeDocument/2006/relationships/hyperlink" Target="https://mentor.ieee.org/802-ec/dcn/09/ec-09-0007-02-00EC-draft-lmsc-wg-p-p.pdf" TargetMode="External"/><Relationship Id="rId9" Type="http://schemas.openxmlformats.org/officeDocument/2006/relationships/hyperlink" Target="https://mentor.ieee.org/802-ec/dcn/09/ec-09-0005-02-00EC-draft-revised-lmsc-p-p-for-wg-p-p-ballot.pdf" TargetMode="External"/><Relationship Id="rId10" Type="http://schemas.openxmlformats.org/officeDocument/2006/relationships/hyperlink" Target="https://mentor.ieee.org/802-ec/dcn/09/ec-09-0006-02-00EC-draft-revision-of-the-lmsc-om-for-wg-p-p.pdf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imat.ieee.org/" TargetMode="External"/><Relationship Id="rId2" Type="http://schemas.openxmlformats.org/officeDocument/2006/relationships/hyperlink" Target="http://mentor.ieee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3/11-13-1357-00-000m-revmc-minutes-for-nov-2013-dallas.doc" TargetMode="External"/><Relationship Id="rId2" Type="http://schemas.openxmlformats.org/officeDocument/2006/relationships/hyperlink" Target="https://mentor.ieee.org/802.11/dcn/13/11-13-1499-04-000m-tgmc-telecon-minutes-dec-13-jan-14.docx" TargetMode="External"/><Relationship Id="rId3" Type="http://schemas.openxmlformats.org/officeDocument/2006/relationships/hyperlink" Target="https://mentor.ieee.org/802.11/dcn/13/11-13-0095-07-000m-editor-reports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3/tbd" TargetMode="External"/><Relationship Id="rId2" Type="http://schemas.openxmlformats.org/officeDocument/2006/relationships/hyperlink" Target="https://mentor.ieee.org/802.11/dcn/14/11-14-0006-00-000m-fixes-to-dmg-operation.docx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F26F8C8B-BA70-42C6-B871-68EF3ECBE0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EE 802.11 TGmc January 2014 Agend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4-01-1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11"/>
          <p:cNvGraphicFramePr/>
          <p:nvPr/>
        </p:nvGraphicFramePr>
        <p:xfrm>
          <a:off x="519120" y="2273400"/>
          <a:ext cx="8229600" cy="252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2273400"/>
                    <a:ext cx="8229600" cy="25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Rectangle 12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280AAE61-7F79-4DA3-9647-E7969F11BA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 - Monday and Tuesday Presentations &amp; Comm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e the text changes indicated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-3427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s://mentor.ieee.org/802.11/dcn/13/11-13-tb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26D1284C-B291-41F0-AA49-DD60877F51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 –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lvl="1"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ve comment resolutions to comments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3/11-13-1160-01-000m-lb199-gen-adhoc-comments.x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“Gen Motion xx” t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://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4"/>
              </a:rPr>
              <a:t>mentor.ieee.org/802.11/dcn/13/11-13-0361-17-000m-revmc-mac-comments.x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“Motion MAC-x” T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5"/>
              </a:rPr>
              <a:t>https://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6"/>
              </a:rPr>
              <a:t>mentor.ieee.org/802.11/dcn/13/11-13-0233-21-000m-revmc-wg-ballot-comments.x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“ed motion x” t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ved: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conded: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: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9CD90A50-CB51-4AA0-8FF3-470B4FC053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 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e the text changes indicated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-3427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mentor.ieee.org/802.11/dcn/13/11-13-0875-06-000m-cid-1050-duplicate-cache.d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placement text (duplicate cache rules re-write) – CIDs 2023, 24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-3427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s://mentor.ieee.org/802.11/dcn/13/11-13-1199-08-000m-txop-limit-rules-text.do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AE0DA5F3-84ED-46FB-AF12-60B6CCD0A4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an - Mar Meeting Plann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erence Calls 10am Eastern  2 hou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b 7, 14, 21, 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-Hoc meeting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edule review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ailability of 11mc in the IEEE st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2.0 is available; D3.0 after successful ball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FBFFF264-5DB8-4C25-9AE5-9A7E852AFB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12/11-12-0594-02-0000-revision-par-proposal-for-802-11-2012.do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09/11-09-0002-12-0000-802-11-operations-manual.doc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12/11-12-1082-17-0000-revmc-pre-ballot-comments.xls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13/11-13-0233-23-000m-revmc-wg-ballot-comments.xls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F8FB6265-BC74-4BF6-9EC2-EF9D904587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presentation contains the IEEE 802.11 TGmc agenda for the January 2014 sess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120010A6-4BDB-4083-966E-303D1D0385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Gmc Agend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380880" y="6019920"/>
            <a:ext cx="8305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ttendance reminder: </a:t>
            </a:r>
            <a:r>
              <a:rPr b="1" lang="en-US" sz="1200" spc="-1" strike="noStrike" u="sng">
                <a:solidFill>
                  <a:srgbClr val="0066ff"/>
                </a:solidFill>
                <a:uFillTx/>
                <a:latin typeface="Times New Roman"/>
                <a:ea typeface="Arial"/>
                <a:hlinkClick r:id="rId1"/>
              </a:rPr>
              <a:t>https://murphy.events.ieee.org/imat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cuments: </a:t>
            </a:r>
            <a:r>
              <a:rPr b="1" lang="en-US" sz="1200" spc="-1" strike="noStrike" u="sng">
                <a:solidFill>
                  <a:srgbClr val="0066ff"/>
                </a:solidFill>
                <a:uFillTx/>
                <a:latin typeface="Times New Roman"/>
                <a:ea typeface="Arial"/>
                <a:hlinkClick r:id="rId2"/>
              </a:rPr>
              <a:t>https://mentor.ieee.org/802.11/document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9"/>
          <p:cNvSpPr/>
          <p:nvPr/>
        </p:nvSpPr>
        <p:spPr>
          <a:xfrm>
            <a:off x="333360" y="1295280"/>
            <a:ext cx="42386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Monday P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hair’s Welcome, Status, Review of Objectives, Approve agenda, min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Editor’s Rep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imeline and Sche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5"/>
          <p:cNvSpPr/>
          <p:nvPr/>
        </p:nvSpPr>
        <p:spPr>
          <a:xfrm>
            <a:off x="4724280" y="1295280"/>
            <a:ext cx="4343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Wednesday PM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IDs 2423, 2424 – ERP PH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IDs 2411, 2412 – DSSS depre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6"/>
          <p:cNvSpPr/>
          <p:nvPr/>
        </p:nvSpPr>
        <p:spPr>
          <a:xfrm>
            <a:off x="4714920" y="4533840"/>
            <a:ext cx="396252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hursday PM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o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lans for March, A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djo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5"/>
          <p:cNvSpPr/>
          <p:nvPr/>
        </p:nvSpPr>
        <p:spPr>
          <a:xfrm>
            <a:off x="4714920" y="3438360"/>
            <a:ext cx="3962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hursday PM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ID 2434 (11-13-115-0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"/>
          <p:cNvSpPr/>
          <p:nvPr/>
        </p:nvSpPr>
        <p:spPr>
          <a:xfrm>
            <a:off x="266760" y="4962600"/>
            <a:ext cx="423864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uesday P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otions – telec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5"/>
          <p:cNvSpPr/>
          <p:nvPr/>
        </p:nvSpPr>
        <p:spPr>
          <a:xfrm>
            <a:off x="4714920" y="2514600"/>
            <a:ext cx="4200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Wednesday P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"/>
          <p:cNvSpPr/>
          <p:nvPr/>
        </p:nvSpPr>
        <p:spPr>
          <a:xfrm>
            <a:off x="352440" y="3276720"/>
            <a:ext cx="3971880" cy="22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uesday P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ID 2199, 2466 (11-14-30, 49) Carlos 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IDs 2486, 2487,2474 (11-13-1399-0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CC0A48FB-5DBC-4292-96A3-B177E2F4D3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685800" y="-228600"/>
            <a:ext cx="77724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380880" y="838080"/>
            <a:ext cx="84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18072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mc 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nday PM1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380880" y="1852560"/>
            <a:ext cx="80773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all Meeting to Ord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olicies and Procedures, Attendance remi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**IEEE Patent Policy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ea typeface="Arial"/>
                <a:hlinkClick r:id="rId1"/>
              </a:rPr>
              <a:t>http://standards.ieee.org/board/pat/pat-slideset.pp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300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re there any patent claim(s)/patent application claim(s) and/or the holder of patent claim(s)/patent application claim(s) that the participant believes may be essential for the use of that standard? Minute any responses that were given, specifically the patent claim(s)/patent application claim(s) and/or the holder of the patent claim(s)/patent application claim(s) that were identified (if any) and by wh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522720" y="5989680"/>
            <a:ext cx="2372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** Read slide d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*** Note especially items #7 &amp; #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A8EBCC54-833E-4FD6-A2A7-FE50C1051E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ease review the documents at the following links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  IEEE Patent Polic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://standards.ieee.org/board/pat/pat-slideset.pp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tent FAQ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://standards.ieee.org/board/pat/faq.pdf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A For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://standards.ieee.org/board/pat/loa.pd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filiation FAQ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4"/>
              </a:rPr>
              <a:t>http://standards.ieee.org/faqs/affiliationFAQ.htm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ti-Trust FAQ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5"/>
              </a:rPr>
              <a:t>http://standards.ieee.org/resources/antitrust-guidelines.pdf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thi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6"/>
              </a:rPr>
              <a:t>http://www.ieee.org/portal/cms_docs/about/CoE_poster.pdf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EE 802.11 Working Group P&amp;P 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    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7"/>
              </a:rPr>
              <a:t>https://mentor.ieee.org/802.11/public-file/07/11-07-0360-04-0000-802-11-policies-and-procedures.do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2 WG P&amp;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8"/>
              </a:rPr>
              <a:t>https://mentor.ieee.org/802-ec/dcn/09/ec-09-0007-02-00EC-draft-lmsc-wg-p-p.pdf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802 LMSC P&amp;P: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9"/>
              </a:rPr>
              <a:t>https://mentor.ieee.org/802-ec/dcn/09/ec-09-0005-02-00EC-draft-revised-lmsc-p-p-for-wg-p-p-ballot.pd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802 LMSC OM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0"/>
              </a:rPr>
              <a:t>https://mentor.ieee.org/802-ec/dcn/09/ec-09-0006-02-00EC-draft-revision-of-the-lmsc-om-for-wg-p-p.pd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1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2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84180F78-30D5-4EAA-B8AF-05DE3C141B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lide </a:t>
            </a:r>
            <a:fld id="{F4D433D4-6868-430E-BAC3-F2CC62A8F4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gistics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tendance recording procedur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11-09/0246r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imat.ieee.or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register before logging attend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log attendance during each 2 hour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://mentor.ieee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“TGm” for documents relating to the Revision P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1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ooter Placeholder 2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5986D301-017F-4219-B243-A7C780B088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lide </a:t>
            </a:r>
            <a:fld id="{7BD6ED13-2EF5-446E-B141-36EAF40174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nday PM1 (continued)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rove prior meeting minu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3/11-13-1357-00-000m-revmc-minutes-for-nov-2013-dallas.d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dcn/13/11-13-1499-04-000m-tgmc-telecon-minutes-dec-13-jan-14.doc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itor’s Report (Adrian Stephe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s://mentor.ieee.org/802.11/dcn/13/11-13-0095-07-000m-editor-reports.pp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1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ooter Placeholder 2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6C95CCC9-C9DD-4191-BFD9-DA6861A86E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AAE24168-187D-4813-B291-DFB54F926E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mc Plan of Recor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 July 2012 – 12 Sept 2012 – Call for Comment/Inpu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9-30 Aug 2012 – NesCom, SASB PAR Approv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t 2012 – Begin to process input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t 2012 – 11aa, 11ae integr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n – First WG Letter ballot  - without 11a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 2012 – March/May 2013  – 11ad integration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t 2013 – Letter ballot on D2.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d2d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Times New Roman"/>
              </a:rPr>
              <a:t>Dec 2013 – March 2014 – 11ac integr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tter Ballot on D3.0 (includes 11ac) March 20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 2014 – April 2014 – 11af integr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tter Ballot on D4.0 (includes 11af) July 20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Times New Roman"/>
              </a:rPr>
              <a:t>July 2014 – Mandatory Draft Review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Times New Roman"/>
              </a:rPr>
              <a:t>Jul - Aug 2014 – Form Sponsor Pool (45 days)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Times New Roman"/>
              </a:rPr>
              <a:t>Nov 14 – Initial Sponsor Ballot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uly 2015– WG/EC Final Approv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t 2015 – RevCom/SASB Approv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45810D44-3249-40B2-BA35-12C923B9E0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 – Telec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ve comment resolutions to comments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-3427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3/tb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e the changes indicated in 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dcn/14/11-14-0006-00-000m-fixes-to-dmg-operation.doc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21:26:55Z</dcterms:created>
  <dc:creator>Dorothy Stanley</dc:creator>
  <dc:description/>
  <dc:language>en-US</dc:language>
  <cp:lastModifiedBy>Dorothy Stanley</cp:lastModifiedBy>
  <cp:lastPrinted>1998-02-10T13:28:06Z</cp:lastPrinted>
  <dcterms:modified xsi:type="dcterms:W3CDTF">2014-01-20T00:34:30Z</dcterms:modified>
  <cp:revision>1459</cp:revision>
  <dc:subject/>
  <dc:title>TGm Agenda</dc:title>
</cp:coreProperties>
</file>