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5572080" y="-755280"/>
            <a:ext cx="641520" cy="106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1/0291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645840" y="97200"/>
            <a:ext cx="8269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1420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5289120" y="9000720"/>
            <a:ext cx="924120" cy="10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181320" y="9000720"/>
            <a:ext cx="5126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7073E1C6-8C69-4C3B-A74C-64A271CF3E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710640" y="900108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9"/>
          <p:cNvSpPr/>
          <p:nvPr/>
        </p:nvSpPr>
        <p:spPr>
          <a:xfrm>
            <a:off x="716040" y="8999640"/>
            <a:ext cx="5425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ine 10"/>
          <p:cNvSpPr/>
          <p:nvPr/>
        </p:nvSpPr>
        <p:spPr>
          <a:xfrm>
            <a:off x="641520" y="297000"/>
            <a:ext cx="5574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11/0291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69264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Jul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4478760" y="9001080"/>
            <a:ext cx="2545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Page </a:t>
            </a:r>
            <a:fld id="{AB58A662-8025-4784-894E-B5E275CFC7F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11/0291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3"/>
          <p:cNvSpPr/>
          <p:nvPr/>
        </p:nvSpPr>
        <p:spPr>
          <a:xfrm>
            <a:off x="69264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Jul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6"/>
          <p:cNvSpPr/>
          <p:nvPr/>
        </p:nvSpPr>
        <p:spPr>
          <a:xfrm>
            <a:off x="4478760" y="9001080"/>
            <a:ext cx="2545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Page </a:t>
            </a:r>
            <a:fld id="{5AC7535F-5B4D-49FC-B8B9-3CF5DDA9474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11/0291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3"/>
          <p:cNvSpPr/>
          <p:nvPr/>
        </p:nvSpPr>
        <p:spPr>
          <a:xfrm>
            <a:off x="69264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Jul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6"/>
          <p:cNvSpPr/>
          <p:nvPr/>
        </p:nvSpPr>
        <p:spPr>
          <a:xfrm>
            <a:off x="4478760" y="9001080"/>
            <a:ext cx="2545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Page </a:t>
            </a:r>
            <a:fld id="{69D52B09-B8D1-44C6-8AA0-9A9C678E125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11/0291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69264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Jul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6"/>
          <p:cNvSpPr/>
          <p:nvPr/>
        </p:nvSpPr>
        <p:spPr>
          <a:xfrm>
            <a:off x="4478760" y="9001080"/>
            <a:ext cx="2545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Page </a:t>
            </a:r>
            <a:fld id="{42075B39-4AA1-45E1-BD6D-5FF9F88D0DA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11/0291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3"/>
          <p:cNvSpPr/>
          <p:nvPr/>
        </p:nvSpPr>
        <p:spPr>
          <a:xfrm>
            <a:off x="69264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Jul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6"/>
          <p:cNvSpPr/>
          <p:nvPr/>
        </p:nvSpPr>
        <p:spPr>
          <a:xfrm>
            <a:off x="4478760" y="9001080"/>
            <a:ext cx="2545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Page </a:t>
            </a:r>
            <a:fld id="{477DB722-FF22-4F68-92AE-863F7787F37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11/0291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3"/>
          <p:cNvSpPr/>
          <p:nvPr/>
        </p:nvSpPr>
        <p:spPr>
          <a:xfrm>
            <a:off x="69264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Jul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6"/>
          <p:cNvSpPr/>
          <p:nvPr/>
        </p:nvSpPr>
        <p:spPr>
          <a:xfrm>
            <a:off x="4478760" y="9001080"/>
            <a:ext cx="2545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Page </a:t>
            </a:r>
            <a:fld id="{B6E334CB-73DC-4B62-8B74-8AF1B7A5625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11/0291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69264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Jul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4478760" y="9001080"/>
            <a:ext cx="2545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Page </a:t>
            </a:r>
            <a:fld id="{0E977D07-F035-460D-B966-BA73F6872FD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11/0291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3"/>
          <p:cNvSpPr/>
          <p:nvPr/>
        </p:nvSpPr>
        <p:spPr>
          <a:xfrm>
            <a:off x="69264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Jul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4478760" y="9001080"/>
            <a:ext cx="2545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Page </a:t>
            </a:r>
            <a:fld id="{161261A6-A6AC-4E38-85E9-4802750CA47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11/0291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69264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Jul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6"/>
          <p:cNvSpPr/>
          <p:nvPr/>
        </p:nvSpPr>
        <p:spPr>
          <a:xfrm>
            <a:off x="4478760" y="9001080"/>
            <a:ext cx="2545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Page </a:t>
            </a:r>
            <a:fld id="{7F74A545-C4CB-41D5-AD23-BA9D8AC3F75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body"/>
          </p:nvPr>
        </p:nvSpPr>
        <p:spPr>
          <a:xfrm>
            <a:off x="915840" y="441612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ldImg"/>
          </p:nvPr>
        </p:nvSpPr>
        <p:spPr>
          <a:xfrm>
            <a:off x="1108080" y="698400"/>
            <a:ext cx="4643280" cy="3483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11/0291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3"/>
          <p:cNvSpPr/>
          <p:nvPr/>
        </p:nvSpPr>
        <p:spPr>
          <a:xfrm>
            <a:off x="69264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Jul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4478760" y="9001080"/>
            <a:ext cx="2545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Page </a:t>
            </a:r>
            <a:fld id="{3E568EAE-7431-474F-B15F-27E54E31EA9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11/0291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69264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Jul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6"/>
          <p:cNvSpPr/>
          <p:nvPr/>
        </p:nvSpPr>
        <p:spPr>
          <a:xfrm>
            <a:off x="4478760" y="9001080"/>
            <a:ext cx="2545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Page </a:t>
            </a:r>
            <a:fld id="{1CB10F5F-49EE-41B5-9EC4-4AFD9D9BB2E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2"/>
          <p:cNvSpPr/>
          <p:nvPr/>
        </p:nvSpPr>
        <p:spPr>
          <a:xfrm>
            <a:off x="479628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10/0503r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67968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Ma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4235760" y="9001080"/>
            <a:ext cx="3041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Michael Montemurro, Research in Mo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295596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Page </a:t>
            </a:r>
            <a:fld id="{30AF0150-C7C1-4669-8F36-310392DD6B8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11/0291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69264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Jul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6"/>
          <p:cNvSpPr/>
          <p:nvPr/>
        </p:nvSpPr>
        <p:spPr>
          <a:xfrm>
            <a:off x="4478760" y="9001080"/>
            <a:ext cx="2545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Page </a:t>
            </a:r>
            <a:fld id="{0EA9C163-9633-4713-827A-19A50B57778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2"/>
          <p:cNvSpPr/>
          <p:nvPr/>
        </p:nvSpPr>
        <p:spPr>
          <a:xfrm>
            <a:off x="479628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10/0503r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67968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Ma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6"/>
          <p:cNvSpPr/>
          <p:nvPr/>
        </p:nvSpPr>
        <p:spPr>
          <a:xfrm>
            <a:off x="4235760" y="9001080"/>
            <a:ext cx="3041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Michael Montemurro, Research in Mo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7"/>
          <p:cNvSpPr/>
          <p:nvPr/>
        </p:nvSpPr>
        <p:spPr>
          <a:xfrm>
            <a:off x="295596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Page </a:t>
            </a:r>
            <a:fld id="{42E26945-868C-4DE1-B561-4B6F497D9AE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11/0291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3"/>
          <p:cNvSpPr/>
          <p:nvPr/>
        </p:nvSpPr>
        <p:spPr>
          <a:xfrm>
            <a:off x="69264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Jul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6"/>
          <p:cNvSpPr/>
          <p:nvPr/>
        </p:nvSpPr>
        <p:spPr>
          <a:xfrm>
            <a:off x="4478760" y="9001080"/>
            <a:ext cx="2545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Page </a:t>
            </a:r>
            <a:fld id="{FE33F40D-0F5D-4ED7-BB0E-35A02F0CB27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2"/>
          <p:cNvSpPr/>
          <p:nvPr/>
        </p:nvSpPr>
        <p:spPr>
          <a:xfrm>
            <a:off x="371556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10/0503r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3"/>
          <p:cNvSpPr/>
          <p:nvPr/>
        </p:nvSpPr>
        <p:spPr>
          <a:xfrm>
            <a:off x="10382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Ma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6"/>
          <p:cNvSpPr/>
          <p:nvPr/>
        </p:nvSpPr>
        <p:spPr>
          <a:xfrm>
            <a:off x="3300120" y="9001080"/>
            <a:ext cx="3041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Michael Montemurro, Research in Mo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7"/>
          <p:cNvSpPr/>
          <p:nvPr/>
        </p:nvSpPr>
        <p:spPr>
          <a:xfrm>
            <a:off x="295596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Page </a:t>
            </a:r>
            <a:fld id="{43BC271F-06F9-4CF2-B1B7-CC6467C0E23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11/0291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3"/>
          <p:cNvSpPr/>
          <p:nvPr/>
        </p:nvSpPr>
        <p:spPr>
          <a:xfrm>
            <a:off x="69264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Jul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6"/>
          <p:cNvSpPr/>
          <p:nvPr/>
        </p:nvSpPr>
        <p:spPr>
          <a:xfrm>
            <a:off x="4478760" y="9001080"/>
            <a:ext cx="2545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Page </a:t>
            </a:r>
            <a:fld id="{BA5DA611-B8A1-4AFF-B7AB-D97B5129474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BA35-05C0-40CF-9275-5FA01CA4A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962F-0683-4B5E-B29A-A1BEAD3D6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5A6B-262F-493A-BFB3-71DDC05D6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A92A-FC78-44F6-8129-52E00E92F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5995-DC9F-4C52-A852-41551CF42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1244-0276-45B8-B515-2855D7A53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9242-DBFD-4B76-A0E5-0C7C31DD9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6E95-D02F-4B06-ACB2-8FD57EFEC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2832-9198-4CC3-A0A4-120DA19AE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3251-DC6C-49E1-8CA6-1051007BC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A2BF-69B9-4F93-BF6B-D31C6F559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81C3-3CDB-4189-971B-B68208FA9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96600" y="334440"/>
            <a:ext cx="18939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8077320" y="6474960"/>
            <a:ext cx="466560" cy="10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229C8E94-2B54-4FD1-A208-65810E76C9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516996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13/1500r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689040" y="6475320"/>
            <a:ext cx="473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s://mentor.ieee.org/802.11/dcn/13/11-13-1160-01-000m-lb199-gen-adhoc-comments.xls" TargetMode="External"/><Relationship Id="rId2" Type="http://schemas.openxmlformats.org/officeDocument/2006/relationships/hyperlink" Target="https://mentor.ieee.org/802.11/dcn/13/11-13-0361-17-000m-revmc-mac-comments.xls" TargetMode="External"/><Relationship Id="rId3" Type="http://schemas.openxmlformats.org/officeDocument/2006/relationships/hyperlink" Target="https://mentor.ieee.org/802.11/dcn/13/11-13-0361-17-000m-revmc-mac-comments.xls" TargetMode="External"/><Relationship Id="rId4" Type="http://schemas.openxmlformats.org/officeDocument/2006/relationships/hyperlink" Target="https://mentor.ieee.org/802.11/dcn/13/11-13-0361-17-000m-revmc-mac-comments.xls" TargetMode="External"/><Relationship Id="rId5" Type="http://schemas.openxmlformats.org/officeDocument/2006/relationships/hyperlink" Target="https://mentor.ieee.org/802.11/dcn/13/11-13-0233-21-000m-revmc-wg-ballot-comments.xls" TargetMode="External"/><Relationship Id="rId6" Type="http://schemas.openxmlformats.org/officeDocument/2006/relationships/hyperlink" Target="https://mentor.ieee.org/802.11/dcn/13/11-13-0233-21-000m-revmc-wg-ballot-comments.xls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s://mentor.ieee.org/802.11/dcn/13/11-13-0875-06-000m-cid-1050-duplicate-cache.doc" TargetMode="External"/><Relationship Id="rId2" Type="http://schemas.openxmlformats.org/officeDocument/2006/relationships/hyperlink" Target="https://mentor.ieee.org/802.11/dcn/13/11-13-0875-06-000m-cid-1050-duplicate-cache.doc" TargetMode="External"/><Relationship Id="rId3" Type="http://schemas.openxmlformats.org/officeDocument/2006/relationships/hyperlink" Target="https://mentor.ieee.org/802.11/dcn/13/11-13-1199-08-000m-txop-limit-rules-text.docx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murphy.events.ieee.org/imat/" TargetMode="External"/><Relationship Id="rId2" Type="http://schemas.openxmlformats.org/officeDocument/2006/relationships/hyperlink" Target="https://mentor.ieee.org/802.11/documents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standards.ieee.org/board/pat/pat-slideset.pp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standards.ieee.org/board/pat/pat-slideset.ppt" TargetMode="External"/><Relationship Id="rId2" Type="http://schemas.openxmlformats.org/officeDocument/2006/relationships/hyperlink" Target="http://standards.ieee.org/board/pat/faq.pdf" TargetMode="External"/><Relationship Id="rId3" Type="http://schemas.openxmlformats.org/officeDocument/2006/relationships/hyperlink" Target="http://standards.ieee.org/board/pat/loa.pdf" TargetMode="External"/><Relationship Id="rId4" Type="http://schemas.openxmlformats.org/officeDocument/2006/relationships/hyperlink" Target="http://standards.ieee.org/faqs/affiliationFAQ.html" TargetMode="External"/><Relationship Id="rId5" Type="http://schemas.openxmlformats.org/officeDocument/2006/relationships/hyperlink" Target="http://standards.ieee.org/resources/antitrust-guidelines.pdf" TargetMode="External"/><Relationship Id="rId6" Type="http://schemas.openxmlformats.org/officeDocument/2006/relationships/hyperlink" Target="http://www.ieee.org/portal/cms_docs/about/CoE_poster.pdf" TargetMode="External"/><Relationship Id="rId7" Type="http://schemas.openxmlformats.org/officeDocument/2006/relationships/hyperlink" Target="https://mentor.ieee.org/802.11/public-file/07/11-07-0360-04-0000-802-11-policies-and-procedures.doc" TargetMode="External"/><Relationship Id="rId8" Type="http://schemas.openxmlformats.org/officeDocument/2006/relationships/hyperlink" Target="https://mentor.ieee.org/802-ec/dcn/09/ec-09-0007-02-00EC-draft-lmsc-wg-p-p.pdf" TargetMode="External"/><Relationship Id="rId9" Type="http://schemas.openxmlformats.org/officeDocument/2006/relationships/hyperlink" Target="https://mentor.ieee.org/802-ec/dcn/09/ec-09-0005-02-00EC-draft-revised-lmsc-p-p-for-wg-p-p-ballot.pdf" TargetMode="External"/><Relationship Id="rId10" Type="http://schemas.openxmlformats.org/officeDocument/2006/relationships/hyperlink" Target="https://mentor.ieee.org/802-ec/dcn/09/ec-09-0006-02-00EC-draft-revision-of-the-lmsc-om-for-wg-p-p.pdf" TargetMode="External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s://imat.ieee.org/" TargetMode="External"/><Relationship Id="rId2" Type="http://schemas.openxmlformats.org/officeDocument/2006/relationships/hyperlink" Target="http://mentor.ieee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s://mentor.ieee.org/802.11/dcn/13/11-13-1357-00-000m-revmc-minutes-for-nov-2013-dallas.doc" TargetMode="External"/><Relationship Id="rId2" Type="http://schemas.openxmlformats.org/officeDocument/2006/relationships/hyperlink" Target="https://mentor.ieee.org/802.11/dcn/13/11-13-1499-04-000m-tgmc-telecon-minutes-dec-13-jan-14.docx" TargetMode="External"/><Relationship Id="rId3" Type="http://schemas.openxmlformats.org/officeDocument/2006/relationships/hyperlink" Target="https://mentor.ieee.org/802.11/dcn/13/11-13-0095-07-000m-editor-reports.ppt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s://mentor.ieee.org/802.11/dcn/13/tbd" TargetMode="External"/><Relationship Id="rId2" Type="http://schemas.openxmlformats.org/officeDocument/2006/relationships/hyperlink" Target="https://mentor.ieee.org/802.11/dcn/14/11-14-0006-00-000m-fixes-to-dmg-operation.docx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Date Placeholder 3"/>
          <p:cNvSpPr/>
          <p:nvPr/>
        </p:nvSpPr>
        <p:spPr>
          <a:xfrm>
            <a:off x="696960" y="334800"/>
            <a:ext cx="189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January 20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7266240" y="6475320"/>
            <a:ext cx="2088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lide </a:t>
            </a:r>
            <a:fld id="{655C3249-98FC-4330-BCE4-97DF38FAFCE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EEE 802.11 TGmc January 2014 Agenda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e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2014-01-19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Object 11"/>
          <p:cNvGraphicFramePr/>
          <p:nvPr/>
        </p:nvGraphicFramePr>
        <p:xfrm>
          <a:off x="519120" y="2273400"/>
          <a:ext cx="8229600" cy="2520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9120" y="2273400"/>
                    <a:ext cx="8229600" cy="25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Rectangle 12"/>
          <p:cNvSpPr/>
          <p:nvPr/>
        </p:nvSpPr>
        <p:spPr>
          <a:xfrm>
            <a:off x="533520" y="1940040"/>
            <a:ext cx="1447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Author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Date Placeholder 3"/>
          <p:cNvSpPr/>
          <p:nvPr/>
        </p:nvSpPr>
        <p:spPr>
          <a:xfrm>
            <a:off x="696960" y="334800"/>
            <a:ext cx="189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January 20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Footer Placeholder 4"/>
          <p:cNvSpPr/>
          <p:nvPr/>
        </p:nvSpPr>
        <p:spPr>
          <a:xfrm>
            <a:off x="7266240" y="6475320"/>
            <a:ext cx="2088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lide </a:t>
            </a:r>
            <a:fld id="{7F4049C0-8074-475B-8A00-8985313CC33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tion  - Monday and Tuesday Presentations &amp; Commen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orporate the text changes indicated i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685800" indent="-3427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ttps://mentor.ieee.org/802.11/dcn/13/11-13-tb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ved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ed: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ult: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Date Placeholder 3"/>
          <p:cNvSpPr/>
          <p:nvPr/>
        </p:nvSpPr>
        <p:spPr>
          <a:xfrm>
            <a:off x="696960" y="334800"/>
            <a:ext cx="189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January 20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Footer Placeholder 4"/>
          <p:cNvSpPr/>
          <p:nvPr/>
        </p:nvSpPr>
        <p:spPr>
          <a:xfrm>
            <a:off x="7266240" y="6475320"/>
            <a:ext cx="2088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lide </a:t>
            </a:r>
            <a:fld id="{43EF7F6C-014D-4EE2-A81F-25C688A69AE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tion  –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lvl="1" marL="315360" indent="-3153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rove comment resolutions to comments 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15360" indent="-3153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1"/>
              </a:rPr>
              <a:t>https://mentor.ieee.org/802.11/dcn/13/11-13-1160-01-000m-lb199-gen-adhoc-comments.xl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“Gen Motion xx” ta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15360" indent="-3153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2"/>
              </a:rPr>
              <a:t>https</a:t>
            </a: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3"/>
              </a:rPr>
              <a:t>://</a:t>
            </a: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4"/>
              </a:rPr>
              <a:t>mentor.ieee.org/802.11/dcn/13/11-13-0361-17-000m-revmc-mac-comments.xl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“Motion MAC-x” Ta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15360" indent="-3153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5"/>
              </a:rPr>
              <a:t>https://</a:t>
            </a: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6"/>
              </a:rPr>
              <a:t>mentor.ieee.org/802.11/dcn/13/11-13-0233-21-000m-revmc-wg-ballot-comments.xl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“ed motion x” ta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oved: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conded: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sult: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Date Placeholder 3"/>
          <p:cNvSpPr/>
          <p:nvPr/>
        </p:nvSpPr>
        <p:spPr>
          <a:xfrm>
            <a:off x="696960" y="334800"/>
            <a:ext cx="189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January 20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Footer Placeholder 4"/>
          <p:cNvSpPr/>
          <p:nvPr/>
        </p:nvSpPr>
        <p:spPr>
          <a:xfrm>
            <a:off x="7266240" y="6475320"/>
            <a:ext cx="2088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lide </a:t>
            </a:r>
            <a:fld id="{0D1897D3-DA3F-4A1C-A641-C6D44A9F4FC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tion  –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orporate the text changes indicated i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685800" indent="-3427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Times New Roman"/>
                <a:hlinkClick r:id="rId1"/>
              </a:rPr>
              <a:t>https://</a:t>
            </a:r>
            <a:r>
              <a:rPr b="0" lang="en-US" sz="1800" spc="-1" strike="noStrike" u="sng">
                <a:solidFill>
                  <a:srgbClr val="0066ff"/>
                </a:solidFill>
                <a:uFillTx/>
                <a:latin typeface="Times New Roman"/>
                <a:hlinkClick r:id="rId2"/>
              </a:rPr>
              <a:t>mentor.ieee.org/802.11/dcn/13/11-13-0875-06-000m-cid-1050-duplicate-cache.do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replacement text (duplicate cache rules re-write) – CIDs 2023, 24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685800" indent="-3427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Times New Roman"/>
                <a:hlinkClick r:id="rId3"/>
              </a:rPr>
              <a:t>https://mentor.ieee.org/802.11/dcn/13/11-13-1199-08-000m-txop-limit-rules-text.doc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ved: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ed: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ult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Date Placeholder 3"/>
          <p:cNvSpPr/>
          <p:nvPr/>
        </p:nvSpPr>
        <p:spPr>
          <a:xfrm>
            <a:off x="696960" y="334800"/>
            <a:ext cx="189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January 20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Footer Placeholder 4"/>
          <p:cNvSpPr/>
          <p:nvPr/>
        </p:nvSpPr>
        <p:spPr>
          <a:xfrm>
            <a:off x="7266240" y="6475320"/>
            <a:ext cx="2088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lide </a:t>
            </a:r>
            <a:fld id="{5E9F6A95-2182-4CC7-A53D-FC140DA143A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Jan - Mar Meeting Planning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ent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ference Calls 10am Eastern  2 hou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b 7, 14, 21, 2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-Hoc meeting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hedule review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vailability of 11mc in the IEEE sto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2.0 is available; D3.0 after successful ball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Date Placeholder 3"/>
          <p:cNvSpPr/>
          <p:nvPr/>
        </p:nvSpPr>
        <p:spPr>
          <a:xfrm>
            <a:off x="696960" y="334800"/>
            <a:ext cx="189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January 20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Footer Placeholder 4"/>
          <p:cNvSpPr/>
          <p:nvPr/>
        </p:nvSpPr>
        <p:spPr>
          <a:xfrm>
            <a:off x="7266240" y="6475320"/>
            <a:ext cx="2088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lide </a:t>
            </a:r>
            <a:fld id="{87A4DC5D-1DDC-4194-9509-0E0EF4034F4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ttps://mentor.ieee.org/802.11/dcn/12/11-12-0594-02-0000-revision-par-proposal-for-802-11-2012.doc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ttps://mentor.ieee.org/802.11/dcn/09/11-09-0002-12-0000-802-11-operations-manual.doc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ttps://mentor.ieee.org/802.11/dcn/12/11-12-1082-17-0000-revmc-pre-ballot-comments.xls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ttps://mentor.ieee.org/802.11/dcn/13/11-13-0233-23-000m-revmc-wg-ballot-comments.xls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Date Placeholder 3"/>
          <p:cNvSpPr/>
          <p:nvPr/>
        </p:nvSpPr>
        <p:spPr>
          <a:xfrm>
            <a:off x="696960" y="334800"/>
            <a:ext cx="189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January 20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Footer Placeholder 4"/>
          <p:cNvSpPr/>
          <p:nvPr/>
        </p:nvSpPr>
        <p:spPr>
          <a:xfrm>
            <a:off x="7266240" y="6475320"/>
            <a:ext cx="2088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lide </a:t>
            </a:r>
            <a:fld id="{3BF1DFAE-58C2-40B4-BDF6-49E8BCE1C4F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bstrac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s presentation contains the IEEE 802.11 TGmc agenda for the January 2014 sessio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Date Placeholder 4"/>
          <p:cNvSpPr/>
          <p:nvPr/>
        </p:nvSpPr>
        <p:spPr>
          <a:xfrm>
            <a:off x="696960" y="334800"/>
            <a:ext cx="189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January 20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Footer Placeholder 5"/>
          <p:cNvSpPr/>
          <p:nvPr/>
        </p:nvSpPr>
        <p:spPr>
          <a:xfrm>
            <a:off x="7266240" y="6475320"/>
            <a:ext cx="2088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Slide Number Placeholder 6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lide </a:t>
            </a:r>
            <a:fld id="{01579781-2CF1-41DB-9C83-4F0C209C350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Gmc Agend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380880" y="6019920"/>
            <a:ext cx="8305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Attendance reminder: </a:t>
            </a:r>
            <a:r>
              <a:rPr b="1" lang="en-US" sz="1200" spc="-1" strike="noStrike" u="sng">
                <a:solidFill>
                  <a:srgbClr val="0066ff"/>
                </a:solidFill>
                <a:uFillTx/>
                <a:latin typeface="Times New Roman"/>
                <a:ea typeface="Arial"/>
                <a:hlinkClick r:id="rId1"/>
              </a:rPr>
              <a:t>https://murphy.events.ieee.org/imat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cuments: </a:t>
            </a:r>
            <a:r>
              <a:rPr b="1" lang="en-US" sz="1200" spc="-1" strike="noStrike" u="sng">
                <a:solidFill>
                  <a:srgbClr val="0066ff"/>
                </a:solidFill>
                <a:uFillTx/>
                <a:latin typeface="Times New Roman"/>
                <a:ea typeface="Arial"/>
                <a:hlinkClick r:id="rId2"/>
              </a:rPr>
              <a:t>https://mentor.ieee.org/802.11/documents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19"/>
          <p:cNvSpPr/>
          <p:nvPr/>
        </p:nvSpPr>
        <p:spPr>
          <a:xfrm>
            <a:off x="333360" y="1295280"/>
            <a:ext cx="423864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Monday PM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Chair’s Welcome, Status, Review of Objectives, Approve agenda, min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Editor’s Repor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Timeline and Sche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Comment re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35"/>
          <p:cNvSpPr/>
          <p:nvPr/>
        </p:nvSpPr>
        <p:spPr>
          <a:xfrm>
            <a:off x="4724280" y="1295280"/>
            <a:ext cx="4343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Wednesday PM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CIDs 2423, 2424 – ERP PH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CIDs 2411, 2412 – DSSS depre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36"/>
          <p:cNvSpPr/>
          <p:nvPr/>
        </p:nvSpPr>
        <p:spPr>
          <a:xfrm>
            <a:off x="4714920" y="4533840"/>
            <a:ext cx="396252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3000"/>
          </a:bodyPr>
          <a:p>
            <a:pPr marL="284400" indent="-2844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Thursday PM2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o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Comment re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lans for March, A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djo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35"/>
          <p:cNvSpPr/>
          <p:nvPr/>
        </p:nvSpPr>
        <p:spPr>
          <a:xfrm>
            <a:off x="4714920" y="3438360"/>
            <a:ext cx="3962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Thursday PM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CID 2434 (11-13-115-06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Comment Re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1"/>
          <p:cNvSpPr/>
          <p:nvPr/>
        </p:nvSpPr>
        <p:spPr>
          <a:xfrm>
            <a:off x="266760" y="4962600"/>
            <a:ext cx="423864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Tuesday PM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otions – telec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Comment re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35"/>
          <p:cNvSpPr/>
          <p:nvPr/>
        </p:nvSpPr>
        <p:spPr>
          <a:xfrm>
            <a:off x="4714920" y="2514600"/>
            <a:ext cx="4200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Wednesday PM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Comment Re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1"/>
          <p:cNvSpPr/>
          <p:nvPr/>
        </p:nvSpPr>
        <p:spPr>
          <a:xfrm>
            <a:off x="352440" y="3276720"/>
            <a:ext cx="3971880" cy="22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Tuesday PM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Comment Re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CID 2199, 2466 (11-14-30, 49) Carlos 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CIDs 2486, 2487,2474 (11-13-1399-07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Date Placeholder 3"/>
          <p:cNvSpPr/>
          <p:nvPr/>
        </p:nvSpPr>
        <p:spPr>
          <a:xfrm>
            <a:off x="696960" y="334800"/>
            <a:ext cx="189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January 20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Footer Placeholder 4"/>
          <p:cNvSpPr/>
          <p:nvPr/>
        </p:nvSpPr>
        <p:spPr>
          <a:xfrm>
            <a:off x="7266240" y="6475320"/>
            <a:ext cx="2088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lide </a:t>
            </a:r>
            <a:fld id="{AABC26AF-47FA-4481-8C88-5CF960D2B82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2"/>
          <p:cNvSpPr/>
          <p:nvPr/>
        </p:nvSpPr>
        <p:spPr>
          <a:xfrm>
            <a:off x="685800" y="-228600"/>
            <a:ext cx="7772400" cy="10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380880" y="838080"/>
            <a:ext cx="84582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3280" indent="-18072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228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Gmc –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nday PM1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5"/>
          <p:cNvSpPr/>
          <p:nvPr/>
        </p:nvSpPr>
        <p:spPr>
          <a:xfrm>
            <a:off x="380880" y="1852560"/>
            <a:ext cx="8077320" cy="17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spcAft>
                <a:spcPts val="675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all Meeting to Ord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spcAft>
                <a:spcPts val="675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Policies and Procedures, Attendance remin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spcAft>
                <a:spcPts val="675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**IEEE Patent Policy </a:t>
            </a:r>
            <a:r>
              <a:rPr b="0" lang="en-US" sz="1800" spc="-1" strike="noStrike" u="sng">
                <a:solidFill>
                  <a:srgbClr val="0066ff"/>
                </a:solidFill>
                <a:uFillTx/>
                <a:latin typeface="Times New Roman"/>
                <a:ea typeface="Arial"/>
                <a:hlinkClick r:id="rId1"/>
              </a:rPr>
              <a:t>http://standards.ieee.org/board/pat/pat-slideset.pp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spcBef>
                <a:spcPts val="300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Are there any patent claim(s)/patent application claim(s) and/or the holder of patent claim(s)/patent application claim(s) that the participant believes may be essential for the use of that standard? Minute any responses that were given, specifically the patent claim(s)/patent application claim(s) and/or the holder of the patent claim(s)/patent application claim(s) that were identified (if any) and by wh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522720" y="5989680"/>
            <a:ext cx="2372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** Read slide de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*** Note especially items #7 &amp; #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Date Placeholder 3"/>
          <p:cNvSpPr/>
          <p:nvPr/>
        </p:nvSpPr>
        <p:spPr>
          <a:xfrm>
            <a:off x="696960" y="334800"/>
            <a:ext cx="189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January 20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ooter Placeholder 4"/>
          <p:cNvSpPr/>
          <p:nvPr/>
        </p:nvSpPr>
        <p:spPr>
          <a:xfrm>
            <a:off x="7266240" y="6475320"/>
            <a:ext cx="2088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lide </a:t>
            </a:r>
            <a:fld id="{44C4D2FA-F7DD-4F7E-8CF0-82A4E497B4B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lease review the documents at the following links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  IEEE Patent Policy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- </a:t>
            </a:r>
            <a:r>
              <a:rPr b="1" lang="en-US" sz="1800" spc="-1" strike="noStrike" u="sng">
                <a:solidFill>
                  <a:srgbClr val="0066ff"/>
                </a:solidFill>
                <a:uFillTx/>
                <a:latin typeface="Times New Roman"/>
                <a:hlinkClick r:id="rId1"/>
              </a:rPr>
              <a:t>http://standards.ieee.org/board/pat/pat-slideset.pp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 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tent FAQ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- </a:t>
            </a:r>
            <a:r>
              <a:rPr b="1" lang="en-US" sz="1800" spc="-1" strike="noStrike" u="sng">
                <a:solidFill>
                  <a:srgbClr val="0066ff"/>
                </a:solidFill>
                <a:uFillTx/>
                <a:latin typeface="Times New Roman"/>
                <a:hlinkClick r:id="rId2"/>
              </a:rPr>
              <a:t>http://standards.ieee.org/board/pat/faq.pdf</a:t>
            </a:r>
            <a:br>
              <a:rPr sz="18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 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A Form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- </a:t>
            </a:r>
            <a:r>
              <a:rPr b="1" lang="en-US" sz="1800" spc="-1" strike="noStrike" u="sng">
                <a:solidFill>
                  <a:srgbClr val="0066ff"/>
                </a:solidFill>
                <a:uFillTx/>
                <a:latin typeface="Times New Roman"/>
                <a:hlinkClick r:id="rId3"/>
              </a:rPr>
              <a:t>http://standards.ieee.org/board/pat/loa.pd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 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ffiliation FAQ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-</a:t>
            </a:r>
            <a:r>
              <a:rPr b="1" lang="en-US" sz="1800" spc="-1" strike="noStrike" u="sng">
                <a:solidFill>
                  <a:srgbClr val="0066ff"/>
                </a:solidFill>
                <a:uFillTx/>
                <a:latin typeface="Times New Roman"/>
                <a:hlinkClick r:id="rId4"/>
              </a:rPr>
              <a:t>http://standards.ieee.org/faqs/affiliationFAQ.html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 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ti-Trust FAQ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- </a:t>
            </a:r>
            <a:r>
              <a:rPr b="1" lang="en-US" sz="1800" spc="-1" strike="noStrike" u="sng">
                <a:solidFill>
                  <a:srgbClr val="0066ff"/>
                </a:solidFill>
                <a:uFillTx/>
                <a:latin typeface="Times New Roman"/>
                <a:hlinkClick r:id="rId5"/>
              </a:rPr>
              <a:t>http://standards.ieee.org/resources/antitrust-guidelines.pdf</a:t>
            </a:r>
            <a:br>
              <a:rPr sz="18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 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thic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- </a:t>
            </a:r>
            <a:r>
              <a:rPr b="1" lang="en-US" sz="1800" spc="-1" strike="noStrike" u="sng">
                <a:solidFill>
                  <a:srgbClr val="0066ff"/>
                </a:solidFill>
                <a:uFillTx/>
                <a:latin typeface="Times New Roman"/>
                <a:hlinkClick r:id="rId6"/>
              </a:rPr>
              <a:t>http://www.ieee.org/portal/cms_docs/about/CoE_poster.pdf</a:t>
            </a:r>
            <a:br>
              <a:rPr sz="18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 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EEE 802.11 Working Group P&amp;P -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     </a:t>
            </a:r>
            <a:r>
              <a:rPr b="1" lang="en-US" sz="1800" spc="-1" strike="noStrike" u="sng">
                <a:solidFill>
                  <a:srgbClr val="0066ff"/>
                </a:solidFill>
                <a:uFillTx/>
                <a:latin typeface="Times New Roman"/>
                <a:hlinkClick r:id="rId7"/>
              </a:rPr>
              <a:t>https://mentor.ieee.org/802.11/public-file/07/11-07-0360-04-0000-802-11-policies-and-procedures.doc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02 WG P&amp;P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1600" spc="-1" strike="noStrike" u="sng">
                <a:solidFill>
                  <a:srgbClr val="0066ff"/>
                </a:solidFill>
                <a:uFillTx/>
                <a:latin typeface="Times New Roman"/>
                <a:hlinkClick r:id="rId8"/>
              </a:rPr>
              <a:t>https://mentor.ieee.org/802-ec/dcn/09/ec-09-0007-02-00EC-draft-lmsc-wg-p-p.pdf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w 802 LMSC P&amp;P:</a:t>
            </a:r>
            <a:r>
              <a:rPr b="1" lang="en-US" sz="1800" spc="-1" strike="noStrike" u="sng">
                <a:solidFill>
                  <a:srgbClr val="0066ff"/>
                </a:solidFill>
                <a:uFillTx/>
                <a:latin typeface="Times New Roman"/>
                <a:hlinkClick r:id="rId9"/>
              </a:rPr>
              <a:t>https://mentor.ieee.org/802-ec/dcn/09/ec-09-0005-02-00EC-draft-revised-lmsc-p-p-for-wg-p-p-ballot.pdf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w 802 LMSC OM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 u="sng">
                <a:solidFill>
                  <a:srgbClr val="0066ff"/>
                </a:solidFill>
                <a:uFillTx/>
                <a:latin typeface="Times New Roman"/>
                <a:hlinkClick r:id="rId10"/>
              </a:rPr>
              <a:t>https://mentor.ieee.org/802-ec/dcn/09/ec-09-0006-02-00EC-draft-revision-of-the-lmsc-om-for-wg-p-p.pdf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Date Placeholder 1"/>
          <p:cNvSpPr/>
          <p:nvPr/>
        </p:nvSpPr>
        <p:spPr>
          <a:xfrm>
            <a:off x="696960" y="334800"/>
            <a:ext cx="189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January 20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Footer Placeholder 2"/>
          <p:cNvSpPr/>
          <p:nvPr/>
        </p:nvSpPr>
        <p:spPr>
          <a:xfrm>
            <a:off x="7266240" y="6475320"/>
            <a:ext cx="2088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lide </a:t>
            </a:r>
            <a:fld id="{A7945723-CDD0-4DB2-9831-37503C45826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Slide Number Placeholder 5"/>
          <p:cNvSpPr/>
          <p:nvPr/>
        </p:nvSpPr>
        <p:spPr>
          <a:xfrm>
            <a:off x="411624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Slide </a:t>
            </a:r>
            <a:fld id="{69620C04-C136-4F4D-8100-38F9E18F149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ogistics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ttendance recording procedur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e 11-09/0246r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1"/>
              </a:rPr>
              <a:t>https://imat.ieee.or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st register before logging attend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st log attendance during each 2 hour s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cumenta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2"/>
              </a:rPr>
              <a:t>http://mentor.ieee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“TGm” for documents relating to the Revision P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Date Placeholder 1"/>
          <p:cNvSpPr/>
          <p:nvPr/>
        </p:nvSpPr>
        <p:spPr>
          <a:xfrm>
            <a:off x="696960" y="334800"/>
            <a:ext cx="189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January 20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Footer Placeholder 2"/>
          <p:cNvSpPr/>
          <p:nvPr/>
        </p:nvSpPr>
        <p:spPr>
          <a:xfrm>
            <a:off x="7266240" y="6475320"/>
            <a:ext cx="2088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lide </a:t>
            </a:r>
            <a:fld id="{E5D668D0-5B36-4D4C-9EE7-004CE7E62E8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Slide Number Placeholder 5"/>
          <p:cNvSpPr/>
          <p:nvPr/>
        </p:nvSpPr>
        <p:spPr>
          <a:xfrm>
            <a:off x="411624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Slide </a:t>
            </a:r>
            <a:fld id="{83598484-7A34-4E99-9F85-61672326FB8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nday PM1 (continued)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ent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rove prior meeting minut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1"/>
              </a:rPr>
              <a:t>https://mentor.ieee.org/802.11/dcn/13/11-13-1357-00-000m-revmc-minutes-for-nov-2013-dallas.do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2"/>
              </a:rPr>
              <a:t>https://mentor.ieee.org/802.11/dcn/13/11-13-1499-04-000m-tgmc-telecon-minutes-dec-13-jan-14.doc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ditor’s Report (Adrian Stephens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3"/>
              </a:rPr>
              <a:t>https://mentor.ieee.org/802.11/dcn/13/11-13-0095-07-000m-editor-reports.pp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Date Placeholder 1"/>
          <p:cNvSpPr/>
          <p:nvPr/>
        </p:nvSpPr>
        <p:spPr>
          <a:xfrm>
            <a:off x="696960" y="334800"/>
            <a:ext cx="189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January 20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Footer Placeholder 2"/>
          <p:cNvSpPr/>
          <p:nvPr/>
        </p:nvSpPr>
        <p:spPr>
          <a:xfrm>
            <a:off x="7266240" y="6475320"/>
            <a:ext cx="2088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lide </a:t>
            </a:r>
            <a:fld id="{7979FE3C-3C1C-48B9-B3AF-F9277B75566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lide </a:t>
            </a:r>
            <a:fld id="{573A7065-1EE0-46C7-B598-8DD3184E543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Gmc Plan of Record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0 July 2012 – 12 Sept 2012 – Call for Comment/Inpu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9-30 Aug 2012 – NesCom, SASB PAR Approva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pt 2012 – Begin to process input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pt 2012 – 11aa, 11ae integratio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Jan – First WG Letter ballot  - without 11ad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c 2012 – March/May 2013  – 11ad integration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pt 2013 – Letter ballot on D2.0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d2db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d2db9"/>
                </a:solidFill>
                <a:latin typeface="Times New Roman"/>
              </a:rPr>
              <a:t>Dec 2013 – March 2014 – 11ac integratio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tter Ballot on D3.0 (includes 11ac) March 20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r 2014 – April 2014 – 11af integratio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tter Ballot on D4.0 (includes 11af) July 20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f7f7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f7f7f"/>
                </a:solidFill>
                <a:latin typeface="Times New Roman"/>
              </a:rPr>
              <a:t>July 2014 – Mandatory Draft Review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f7f7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f7f7f"/>
                </a:solidFill>
                <a:latin typeface="Times New Roman"/>
              </a:rPr>
              <a:t>Jul - Aug 2014 – Form Sponsor Pool (45 days)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f7f7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f7f7f"/>
                </a:solidFill>
                <a:latin typeface="Times New Roman"/>
              </a:rPr>
              <a:t>Nov 14 – Initial Sponsor Ballot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July 2015– WG/EC Final Approva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pt 2015 – RevCom/SASB Approva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Date Placeholder 3"/>
          <p:cNvSpPr/>
          <p:nvPr/>
        </p:nvSpPr>
        <p:spPr>
          <a:xfrm>
            <a:off x="696960" y="334800"/>
            <a:ext cx="189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January 20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Footer Placeholder 4"/>
          <p:cNvSpPr/>
          <p:nvPr/>
        </p:nvSpPr>
        <p:spPr>
          <a:xfrm>
            <a:off x="7266240" y="6475320"/>
            <a:ext cx="2088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orothy Stanley, Aruba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lide </a:t>
            </a:r>
            <a:fld id="{C502A75D-9B3D-4E6C-8EFE-C2C4CCE388B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tion  – Telec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rove comment resolutions to comments 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685800" indent="-3427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Times New Roman"/>
                <a:hlinkClick r:id="rId1"/>
              </a:rPr>
              <a:t>https://mentor.ieee.org/802.11/dcn/13/tb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orporate the changes indicated in </a:t>
            </a: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2"/>
              </a:rPr>
              <a:t>https://mentor.ieee.org/802.11/dcn/14/11-14-0006-00-000m-fixes-to-dmg-operation.doc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ved: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ed: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ult: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4T21:26:55Z</dcterms:created>
  <dc:creator>Dorothy Stanley</dc:creator>
  <dc:description/>
  <dc:language>en-US</dc:language>
  <cp:lastModifiedBy>Dorothy Stanley</cp:lastModifiedBy>
  <cp:lastPrinted>1998-02-10T13:28:06Z</cp:lastPrinted>
  <dcterms:modified xsi:type="dcterms:W3CDTF">2014-01-20T00:34:30Z</dcterms:modified>
  <cp:revision>1459</cp:revision>
  <dc:subject/>
  <dc:title>TGm Agenda</dc:title>
</cp:coreProperties>
</file>