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B98EB6-D9BD-4A8D-B98B-10E153D25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BAF0BD-9759-4DA1-869B-CF56286A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C1C8BC-1D0B-482D-BD0B-EC417446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A61B1-D621-4796-93E5-0CD21892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60467E-11D5-4A82-8A3D-D05764F9DC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AEE-9029-4A7C-B34D-E340FC86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8E2-F626-4E84-AC74-8ED6C69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C312B-DDA9-4B40-AFD1-8583549A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C437-E8DC-4990-9FF7-7A1E695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4A148-7560-4742-91A3-1794D47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5AFA4-C572-4C32-83F9-8047EBFA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61B6B-D38F-409F-B5EB-BAACCE33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481BB-434C-49B8-B220-AFC22DA1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80B18-BFF7-4E2E-8906-947DD17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E77CF-8676-4982-AE9C-6F584199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E3980-F592-42DB-A1C3-49AB97B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5D828-82F7-4BF6-9342-17FD3FB3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903-1234-470B-A979-1C21BEC6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2572-A5CF-46B2-A8AE-91E7010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5B6A-FDAC-45FE-B9E6-39072A1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0A2A5-A71D-49DF-BCBE-D872234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ECE4B-F145-46CF-BDC6-9BDB593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530C8-D0DD-4FE5-8FB1-D8B8B762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47FCD-4979-4158-AC94-C245148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A6C49-83C4-4D46-AB06-D58EABD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2267E-0229-43BA-B81A-E6844544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B6D8B-E29B-4882-B50F-FE96FBC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2B6B5-CC87-477D-A266-8806FDE9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B4E-BCF0-4B67-A17F-D6198A8B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A63D1-887E-42CE-B3D7-14E77B95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310C2-5390-4307-9140-9ACE552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551E8-BC0D-498E-AD78-CEF6744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0857A-6DE4-42F2-A838-31BF85FC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B592-F22A-4DB3-8153-C3254442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A8A6-EB66-4FBD-A8B2-F04D04C4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35AE1-5AE1-42FB-9034-579F868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74062-C593-4BA9-9B67-C4BE8D3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F6B73-1F98-4EF5-8340-C357BCF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53F3-E6AE-455D-8EB5-F1CCD5E7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7DF-D77C-4F99-986C-22501BF0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E3D0A-E882-44CE-8338-F610879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29E5-D10F-485A-BE83-F99F33FC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8343-63FE-4696-9CD6-D5DC5CBD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B3179-B8F0-4461-B717-12ED64A8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047D0-FE74-47C0-BBE2-D818F615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3975B-0A49-4265-BE9E-B7D5378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7D8B9-646B-4EE7-8D4D-033CDDC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5A7DD-C7AD-4A76-B53D-21602AAD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C42AB-7A29-49A7-ABC1-CD70F858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1EE1-52CB-41C4-9071-0088D8F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4F3-363D-49C6-9609-9CF7E0F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49DB-2FB5-4FAB-96C0-DCE66DE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8909-98D2-4770-8C2B-E3A075F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3FB7B-90A3-4118-A7D8-37273E2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F59C-DCB3-448C-A051-1F50342F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4DDF7-256B-452B-839A-77F5017C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D2DD7-488C-4F36-83C0-59714B2A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314BB-900D-45EF-B59F-A4DB745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647A9-AE00-428B-ADF3-0CE5ABF0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9D990-B4BB-4FA9-BA24-CA1BECE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5DEAC-CAC6-4B1F-977E-9C916047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1E66-9C67-4BF6-82F0-5EAAF32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48D68-BA1E-424C-8521-C50D1777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1D38A-EA14-4E19-9377-5B59E48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515D1-DAF2-4559-8336-3F15F8F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8D27E-DF9A-4CD9-BDBB-03ACB5D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B6B74-BF2F-4539-A3DA-DCEE368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93FFD-5F4B-4EB0-9B93-79FCC0BB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9FA84-B0FF-48B4-9FEA-9A7C8B6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083D-05D5-4AFB-A47C-877CF2A9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81FA-54D1-4D5C-B6E4-2B36A3E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212-AFF1-4897-A34C-155078C2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FBE-1A9B-4CF3-97B4-D747C31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24-CC48-4C32-8DEE-BC96EA87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0CD0-F26C-450F-803F-AFC0EC9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DD2C-E93C-402A-B04A-C07BEEC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991-7F42-4154-AA22-2DC4433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A98-BBBF-40B2-88B1-33AA3DF9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49BB-865A-4ECF-B696-D3612EDE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46F1-C4BF-4568-8ADB-22E790C3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A308-45ED-4255-999F-C88AC7B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357C-B583-4FCB-9F95-0362DBEA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8ABA-470B-4B3D-AD9D-DC9FCE4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F8B6-EE43-4B5B-8BCE-C44316F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13D-1D3C-4DC2-B3D6-A8A9C3F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41DA-3197-4E6B-8200-B842039C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7936-F56E-4C00-AD7C-A220BBC1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5DA3-EF1A-44A8-9A38-82CD934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85B5-7494-4ACF-BA91-E033795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515A-69A8-4784-884D-39AC7E8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69B4-4DBC-4F30-8908-D2883324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B90F-B57C-45B9-BF5D-43D95989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2297-0347-4518-B753-522FECB4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B254-56E4-492E-AE8F-C452F5B0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DA6A-BFDD-4CEB-A219-CB42927E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189-6AA4-4D79-A19F-6195F43F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C9FD-AA84-4A43-B6F0-34F4D52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8216-B11C-4F0D-9A65-5E5A7F2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FB33-C7AC-4C64-816A-F8A07AF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8274-4C5C-43A2-A664-8CB7972A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916B-A00B-4802-81C8-72F6555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2FFD-F064-49DD-8E77-1403469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23CC-A30D-47DA-976E-16E178D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842F-C656-45C2-AAFA-D652FCD4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FFD5-8AC5-4115-BB31-9F4EC4D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A772-0F7E-4548-AC0C-09834E1F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D99-DF1B-48CE-9BEB-2CAB12A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00F7-7561-4EC3-A4B0-4C7B5879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7B57E-DB68-4E6D-A73C-85491702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520B-E55C-4A85-AB99-3CCB2D3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CEE3-9D41-4CC8-A246-772AB138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9D53-A30E-4F4F-8F99-B09B00E2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39C2-A54D-47DE-B1D1-EFC13BD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BEBDF-130F-43DC-AF13-C28D9B8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137F8-660E-436B-BF4B-7F7D72C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54A43-0CB7-401A-AF65-22B6981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BD60-BA57-4E64-8466-4653F378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7E1-6469-47CA-998B-B8F478B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B1C3-FB88-4AA9-BB45-3DF8C142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9908-2BAF-4ABC-AAF2-17AF3419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64BD-DB25-4E8C-8E80-1009653F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447F-61FD-4B30-90E1-A92F909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F31C7-A229-4507-8590-7ED0FE9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0553-81D8-40EC-9595-70DF0FF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5D5B-E8F0-4FFD-9911-AD4C62BF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FAAC-399F-4F42-9DFE-80D230D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785EF-56D3-4233-B881-8948268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CD53-06ED-4EF8-9096-B6CECA4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EC4-23E6-4A7E-A59B-C1058AA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60FE9-A976-4FBB-9C5D-23AD4230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C476-6D04-47BE-B18E-5556C5B4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DAB83-8943-46BD-9555-76F2D3F7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C478-C9E6-4707-8506-4ED004AE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4505-7655-4E43-A685-ED03AE35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BF09F-2B67-4A0A-B9D1-C3F94FB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1463-5FA1-4454-B8A6-6D1BD4B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91F6-B815-488A-83EA-01D0E0E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5F12-7FBC-41A2-A2AA-76130C8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696DD-DCB5-4529-BC56-0CADC3B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78-E2E1-479A-83C1-72155A2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3BD60-7876-4F47-9421-A7A68CF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25FB-EB42-46E1-9CA9-6A131CF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A04E-A32A-44A7-B85D-7D7DE3F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5F83-D31E-42BF-AA11-270B7AFC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1BCD-2E2D-4DAD-BC38-9C5B78A1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FB60E-ABFB-45DF-833F-D09C2FA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38D1E-D587-4908-9066-5F8C608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A2C5-19C9-423C-88ED-E7583AD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6899-367B-4C00-B1E6-83EA761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043C-B4E8-4E0F-997A-2724FEF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2EA-899B-43EC-AA9B-6820B52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D96FF-6283-4F7E-BA26-35EF89D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64A7-491C-4585-B6EA-2FFABA4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6149-65E8-45AA-A786-05BF6BC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47D6-3B95-417D-A528-EDD2163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58C5-CA87-4DB5-BC77-EECDBC5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699F0-02E9-45C0-B153-616FC61A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D0642-3581-4CE8-8782-C3333D92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C9A8F-4389-4517-A115-EA62EEA4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23D01-29B4-4D7A-A788-75F2CBD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8EE5-772F-477A-A1C2-89875D1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4E06A0-AC7E-4208-9829-A556033A78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A2F03C-27EA-4849-9A46-66537F8A4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843148-E15C-477E-8CDD-85979BFEE0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1FA9B5-85F3-42E6-92D5-E3357B9B6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175A84-6C59-46B7-91B6-7E025342A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66F2-7B36-4D15-A46E-858540025CC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6B37E0-3AD1-41FC-9B3A-36BEB3AEBD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78609B-2833-4DC1-9123-253A6A948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366E50-63D5-4964-92D7-1F9FD69A1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F20DD7-6E0F-4DB5-8E13-D12F63A64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8FC0C1-F1E2-49B9-A4EF-A319CCB8F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426CF9-65B3-4541-9CCA-2AB6B3C81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0B4368-01A0-45CE-BA10-8C415F7BB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07-00-0reg-meeting-minutes-from-the-october-18th-dsrc-coexistence-tt-teleconference.docx" TargetMode="External"/><Relationship Id="rId2" Type="http://schemas.openxmlformats.org/officeDocument/2006/relationships/hyperlink" Target="https://mentor.ieee.org/802.11/dcn/13/11-13-1343-00-0reg-meeting-minutes-from-01-nov-2013-dsrc-coex-conf-call.docx" TargetMode="External"/><Relationship Id="rId3" Type="http://schemas.openxmlformats.org/officeDocument/2006/relationships/hyperlink" Target="https://mentor.ieee.org/802.11/dcn/13/11-13-1309-00-0reg-harmful-interference-to-dsrc-systems.pptx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09-00-0reg-harmful-interference-to-dsrc-systems.pptx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38591A-E2CF-441A-A3CA-65957F59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ion of PER vs. RSSI data from CAMP and USDo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ing for Dallas mee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RC coexistence discussion will be PM2 on Wednesday (tentative – this could chang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peakerphone bridge will be available – dial in information will be sent out la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other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6855FE-BF76-4249-A088-BD0EC9C1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22C216-BEEA-4A28-96A5-93BCD027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541-01-0wng-dsrc-applications-tutorial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543-01-0wng-dsrc-support-information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secs.oakland.edu/~gpcorser/vanet-kenny-DSRC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51920F-7DE2-4D04-8B6C-9FCBA442B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November 8th, 2013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6D7025-DA91-4CDD-A927-1E7B5E30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al of minutes from previou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18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07-00-0reg-meeting-minutes-from-the-october-18th-dsrc-coexistence-tt-teleconference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ember 1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1343-00-0reg-meeting-minutes-from-01-nov-2013-dsrc-coex-conf-call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Continuation of presentation on “Harmful Interference” 13/130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309-00-0reg-harmful-interference-to-dsrc-systems.ppt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1 Discussion of PER vs. RSSI data from CAMP and USD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2 Planning for Dalla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C7BDF8-B351-4095-8F95-CDD20D68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0B0DB8-0C65-48E6-8809-AF515951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7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5D0AAF-27DD-44DA-95A9-8D84EC63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6C50FB-441A-4DEA-9A05-51FF570D5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1AE6DF-AF1A-4CEA-8DB2-4F83A5C2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to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D828A9-2E04-46E5-8DD5-91FC822B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tion of presentation on “Harmful Interference” 13/1309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09-00-0reg-harmful-interference-to-dsrc-systems.ppt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DCE84D-62E8-492D-BAB6-8DDB1413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3-11-07T13:05:07Z</dcterms:modified>
  <cp:revision>1538</cp:revision>
  <dc:subject/>
  <dc:title>DSRC Tiger Team</dc:title>
</cp:coreProperties>
</file>