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40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ftr" idx="41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sldNum" idx="42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F67F22-1FEB-4453-BA9C-3254F64B05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6B5217-CFC7-41F5-A565-FE97981D7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945E07-3ACA-4F72-A6E2-A0C3A836D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379320" y="89852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D2AC08-F242-4AC0-8659-8D3B3D710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2/06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654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3870720" y="8985240"/>
            <a:ext cx="23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nt Chaplin, Chair (Sams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30427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A935BD-C8AA-45E0-81FA-7A1C0D6B10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F0E-FDE4-4C1B-BFBB-E937031F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6F2-3BF8-46A7-A112-DB760861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61FAB-0785-4CCB-82BB-95ED1C17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C2E23-1489-46FA-BCF6-8BCC26FF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59B97-C7E7-40E5-85A8-3F9C8C62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264B7-09ED-4809-92F7-04CAAA2D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FE9DA-7161-49A2-8654-C2D0A12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F18EC-DF53-4BE5-8585-46F40275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F71DC-DA94-4D37-AF32-BF4F1BB0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354F0-5C83-4157-B1D8-DDE37E46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6F7D5-7AF6-4684-A143-084AA0C8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AEF98-D6D1-4246-8E50-4DF3E509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072-01C0-4F58-96E5-480FC5CF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8A204-A78C-4F76-B4E6-DE574920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5563A-912D-461A-B5DC-163FF8D0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146A1-651B-44AA-94BB-A1E51243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0419F-91D4-439D-9734-F2776EB6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AC5A3-FF2F-472B-98FC-675FF039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B9E68-7B21-482E-9B04-A0CBDAB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B605D-601D-4591-B072-CF7A6A20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5E970-D9E2-4214-9391-2DF5CCA6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F0D00-25B8-4B14-A678-5FDB516E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09765-7A67-489E-91CC-82CB5557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79B-A703-47B3-91BD-18902173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5853E-1E9A-4454-90B5-5D2BCA02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BF8C3-FDF9-47D9-9DF3-3721030F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89CC3-FEB8-4481-8A97-8006A3C9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15F3D-7622-48CF-8365-7AAF66A7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707D0-CCB9-4C8D-84B0-EA1ADAA8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0F526-6789-4ED2-BB6A-21319BBB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6CF5F-DF24-442D-B1CC-7115CBE0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7F81D-39EC-4F75-A95A-B1E04C07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D1608-005C-4B7B-952E-2C3A294D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A8635-36B6-4565-9059-F98900F3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ECFC-5464-4976-A649-97E78AF2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B58B9-5697-47AD-9E5E-063C8F27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C01BA-5640-46E8-9F16-3BDFF7D2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FD9EE-324D-4ECC-B913-3C86C6DF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0D730-E742-45F2-A24A-CCC5BE87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6A0EB-623E-4903-BE1D-AA5A1EB1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B1819-10D6-4E10-A307-4855F669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FE44F-6C75-402B-A259-28A0AC33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C058F-70F0-4A6F-ABA7-C469268A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D0196-EE58-4E3A-8274-E98136C5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07377-FD1D-4123-897C-32B0752C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A0FC-815D-4089-8F75-71728CDE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369AD-0C52-4C9F-8B2F-EE01725D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5828C-2DA2-413A-AD53-34E39BC8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7284B-1537-42C4-83F9-8859684E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09FB4-B816-4793-AE9F-DA0DE71A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D7F14-5937-46CD-88B5-A545A7F1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D9245-2F5E-4BB0-8C0D-A664DAD1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BC243-D359-44A8-89AD-7DF62102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35C75-BA9E-4B21-9CFF-09060736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784DC-4ACF-4CCA-949A-06A0562B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9C7CC-B7B5-4278-9C07-ABE74AFD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6070-E082-48DB-AE33-6DD1817E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CAAE7-5056-4723-BD38-0A122DF8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7A795-722F-4B8A-B33C-BF25281F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B24EB-D432-48B7-9315-55EACAB0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4D107-D97A-44D9-9C87-56855A3D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A43CF-D7A8-4A19-B713-8E328255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7CEEE-88A7-444F-8E3E-17642198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A05FD-04EF-40E5-9A2B-FC1E30E1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1EF9-AE73-4D96-8E8C-EEDFBE0A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D6F8-7AE6-4DF8-BD15-327D16F7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8630-1781-4A79-A754-6D3DCFC9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88D9-9677-4193-B629-61EC8EBC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4DF-0BC6-4EF3-A063-E560F29F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5E0B-D15B-4BBF-90B0-3FFFE1FC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B39E-4D23-4CCD-A25B-976521F2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AB9C-7E71-4E8B-99AA-154457E5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48A2-501A-4706-9684-8792B972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196A-B25A-4DC6-968C-4391B97F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4A09F-3AE0-4E12-A0B0-D65C7FAB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7383-3D99-463E-BA71-FF808501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29D8-DCEA-4AF0-9076-622E181C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2BAB5-F7D5-49FE-B73C-0E86F8DC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8C0B-2EAE-4CAA-A205-16F089B3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733-3454-4E8E-9435-67627B4E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77C4E-D419-42D5-BD31-B2EE7098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A9B7-5E4C-4736-90EA-A53AB356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BA34F-D239-486A-B068-49AE15A8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FC8B8-03AC-4709-A6B9-7E6B2427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D76B-A820-4905-BD65-BECA73A2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78FBB-D2B9-4C2D-A147-7497878F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FB68F-B8B6-4E54-94E2-7884B850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189B-2524-4485-A415-256B1698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1DAD1-021C-42F6-B434-2B345ECC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204ED-FB71-468B-9A9C-06017347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BBD-467B-45CF-B098-6F15B904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1F868-F60A-4389-B001-80868C22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59A7A-6D06-46D6-B2CB-5AC5049E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4C12F-2DDD-4C41-9EE5-62F05CAE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D8A27-1E78-4DAA-8056-FACEC300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DFAC-B3C3-43CA-89E3-8E470A98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6029C-687F-4B36-A261-C490F70D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3B3F-EB11-4A05-A4B1-6B2631C4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F4230-FA27-4619-801D-87BD8F7B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E759F-FDD4-4168-95AF-80669E52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DC0CF-9F00-4FD6-A89A-747CC1C0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D26-F179-4227-ACFA-CAF13253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C98D3-761F-4027-B246-4C10854E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D3298-B550-43D5-B97E-768D091D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CA2B9-BF1A-42A7-94BB-04788C7E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4BEF1-A3BB-4FB1-8233-0B515047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950D-8C4D-457A-B78E-00712D02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DC86B-DBDE-4993-A399-8D2EEF6F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8E2B5-5A2D-46AC-83B9-BC25CFBA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257D1-2E3E-4955-9E7B-7EA44AEF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ADD53-5522-4841-966B-45BD9D71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B1608-9D79-41EA-BC29-593D844D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513-65D2-44CA-BC32-147A7A98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838A4-8AEF-4DE7-A1D6-55B3A515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FE1FB-EDA0-4006-8915-7A76E456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7BD18-4BF7-4871-B7D5-11C9A4D9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1E375-B8EC-419A-B92A-548F70C4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708A1-35E5-42C4-9D9D-AA08DB31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DB3E1-09AE-4319-865D-5479C58C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AAE66-0B1C-4AC4-B08E-7A529E78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FC96F-DCFA-495C-B9CA-780CCDB1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3DE5C-5F40-4DAC-8181-9E3FE406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C30F0-1D5B-4E1A-A347-F109476A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325-D388-4C80-94EA-0EEEA22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5790D-FBAC-4E39-A3EF-99D4D6F8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97FED-3583-4D0A-8345-6A4E3477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B6FE6-07E9-498F-8038-ADFAFEDB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0F17E-D799-4E4B-90F7-31D62A5E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D51DC-2CB8-45EF-AC19-4E814C7A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ED396-E297-4BD5-B2B0-D9F6A8AC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2EBD7-B0B3-467B-9E64-F9C2C772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CEF03-E14E-4F5A-8A31-3429D380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9F249-B673-4CF8-9FA9-250888BE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74348-7E1C-4D87-881E-7EC132BD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2C0-8AC2-40C9-9BBE-A9040540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57F97-18DF-4323-88C2-BDBCB279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3A9EA-F281-4E02-B745-82A10D89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D79C4-C122-49C4-8262-5FB28148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BD2A1-0B07-46DD-BBAF-146B688F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4D5DB-1D0F-4BD5-9BF1-3A010FCE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6E4C1-2650-430D-8450-4690E6E3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C432A-D18B-4E33-8374-5C53D215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48F9D-CC64-438C-A4FA-DD68118D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E3C61-E84B-482F-BBB1-27DF81B3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38AF7-856C-4C4B-9625-C4734BA6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582-D4E6-440D-8C46-C5632CF5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17B9B-0F75-43EF-B248-85D8525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72F64-415A-48CB-8E59-29D62435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9BD75-F8E9-4676-81AA-EC8FFB7C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B3703-DC26-4A6E-9BB7-55FD3BB1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18DCF-E7ED-420B-8764-6F6EC7FF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B7718-879A-4C1C-B521-2CFD580D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AFA7A-FB36-4E11-888E-0708FB3A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38159-DF40-43D5-B75D-FD8D4BC2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C2574-05E0-4165-9A6B-68181504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09B32-F66D-4A3C-8881-074B05DC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2EFD1C7-4C95-4AFA-9F06-9B5813A214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B1B52F-6F04-4EF3-A42C-C5B5171E48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E77941-A508-4A3C-94D5-BE293D52B7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81AEBB-6EED-43C6-A582-AEB63A5A90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86E0D82-ECFE-46C3-BB5C-034EE646DF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August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74B9-2019-45C9-A18F-B4A2AAE5697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48EF46-51C1-4E90-AF8E-3B782B3B54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7DCA7C-274A-4BEF-8DC9-EC03D41510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6EE7578-C118-4370-87E1-09DEB265DC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32AA11-D57A-42B1-B3FF-3E2B767FF8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DA020A-DDBD-4A14-A2AB-2445765A3F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B4B472D-46DA-462B-AD79-E80AB8E5EF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34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5C6121-DC73-4508-9C1C-B42E544CE6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ansition.fcc.gov/Daily_Releases/Daily_Business/2013/db0220/FCC-13-22A1.pdf" TargetMode="External"/><Relationship Id="rId2" Type="http://schemas.openxmlformats.org/officeDocument/2006/relationships/hyperlink" Target="https://mentor.ieee.org/802.11/dcn/13/11-13-0444-01-0reg-fcc-13-49-comment.docx" TargetMode="External"/><Relationship Id="rId3" Type="http://schemas.openxmlformats.org/officeDocument/2006/relationships/hyperlink" Target="https://mentor.ieee.org/802.11/dcn/13/11-13-0661-00-0reg-fcc-13-49-reply-comment-framework.doc" TargetMode="External"/><Relationship Id="rId4" Type="http://schemas.openxmlformats.org/officeDocument/2006/relationships/hyperlink" Target="https://mentor.ieee.org/802.11/dcn/13/11-13-0679-00-0reg-fcc-13-49-comment-survey.docx" TargetMode="External"/><Relationship Id="rId5" Type="http://schemas.openxmlformats.org/officeDocument/2006/relationships/hyperlink" Target="https://mentor.ieee.org/802.18/dcn/13/18-13-0087-04-0000-draft-reply-comments-of-ieee-802-re-5-ghz-nprm-fcc-et-13-49.docx" TargetMode="External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552-00-0wng-802-11p-dsrc-and-802-11ac-coexistence.ppt" TargetMode="Externa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1307-00-0reg-meeting-minutes-from-the-october-18th-dsrc-coexistence-tt-teleconference.docx" TargetMode="External"/><Relationship Id="rId2" Type="http://schemas.openxmlformats.org/officeDocument/2006/relationships/hyperlink" Target="https://mentor.ieee.org/802.11/dcn/13/11-13-1343-00-0reg-meeting-minutes-from-01-nov-2013-dsrc-coex-conf-call.docx" TargetMode="External"/><Relationship Id="rId3" Type="http://schemas.openxmlformats.org/officeDocument/2006/relationships/hyperlink" Target="https://mentor.ieee.org/802.11/dcn/13/11-13-1309-00-0reg-harmful-interference-to-dsrc-systems.pptx" TargetMode="External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faqs/affiliationFAQ.html" TargetMode="External"/><Relationship Id="rId2" Type="http://schemas.openxmlformats.org/officeDocument/2006/relationships/hyperlink" Target="http://standards.ieee.org/resources/antitrust-guidelines.pdf" TargetMode="External"/><Relationship Id="rId3" Type="http://schemas.openxmlformats.org/officeDocument/2006/relationships/hyperlink" Target="http://www.ieee.org/portal/cms_docs/about/CoE_poster.pdf" TargetMode="External"/><Relationship Id="rId4" Type="http://schemas.openxmlformats.org/officeDocument/2006/relationships/hyperlink" Target="https://mentor.ieee.org/802.11/public-file/07/11-07-0360-04-0000-802-11-policies-and-procedures.doc" TargetMode="External"/><Relationship Id="rId5" Type="http://schemas.openxmlformats.org/officeDocument/2006/relationships/hyperlink" Target="mailto:Jim.lansford@ieee.org" TargetMode="External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ee802.org/11/email/stds-802-11-reg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1309-00-0reg-harmful-interference-to-dsrc-systems.pptx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E30833-48EC-4D74-AAF5-0FF335CB9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802.11 Regulatory S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eleconference Plan and Agen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11-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Object 11"/>
          <p:cNvGraphicFramePr/>
          <p:nvPr/>
        </p:nvGraphicFramePr>
        <p:xfrm>
          <a:off x="511200" y="3075120"/>
          <a:ext cx="8169120" cy="28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75120"/>
                    <a:ext cx="81691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ussion of PER vs. RSSI data from CAMP and USDo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ning for Dallas mee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SRC coexistence discussion will be PM2 on Wednesday (tentative – this could chang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peakerphone bridge will be available – dial in information will be sent out lat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other new busines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tation for future presenta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CA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RC field t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D737635-ED5D-4A2E-867F-83BEBE36C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6"/>
          <p:cNvSpPr/>
          <p:nvPr/>
        </p:nvSpPr>
        <p:spPr>
          <a:xfrm>
            <a:off x="999000" y="60148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CC NPRM 13-22 (changes to 5GHz band rules, including proposed UNII-4 band)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transition.fcc.gov/Daily_Releases/Daily_Business/2013/db0220/FCC-13-22A1.pdf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444-01-0reg-fcc-13-49-comment.doc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 framework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661-00-0reg-fcc-13-49-reply-comment-framework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Comments surve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0679-00-0reg-fcc-13-49-comment-survey.doc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CC 13-22 Reply Comm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s://mentor.ieee.org/802.18/dcn/13/18-13-0087-04-0000-draft-reply-comments-of-ieee-802-re-5-ghz-nprm-fcc-et-13-49.doc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7A6DD1C-04CA-4405-AE15-093998834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 (2/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 submissions on DSRC (since 802.11p was ratifie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552-00-0wng-802-11p-dsrc-and-802-11ac-coexistence.p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541-01-0wng-dsrc-applications-tutorial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543-01-0wng-dsrc-support-information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994-00-0reg-proposal-for-u-nii-4-devices.doc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276-00-0reg-proposal-for-sharing-in-unii-4-band.pp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309-00-0reg-harmful-interference-to-dsrc-systems.ppt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SRC Summ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secs.oakland.edu/~gpcorser/vanet-kenny-DSRC.pd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1FC8E1-73F6-4536-ABF7-79B21AB35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is the plan for the November 8th, 2013 IEEE 802.11 (Regulatory Standing Committee) DSRC Coexistence Tiger Team telecon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Date Placeholder 6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7A01968-DF8D-46AE-BE53-0E83664F5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8580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342720" indent="-34272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rding secretary volunte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2720" indent="-34272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e ag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IEEE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val of minutes from previous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ober 18: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1307-00-0reg-meeting-minutes-from-the-october-18th-dsrc-coexistence-tt-teleconference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vember 1: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1343-00-0reg-meeting-minutes-from-01-nov-2013-dsrc-coex-conf-call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2720" indent="-34272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1 Continuation of presentation on “Harmful Interference” 13/130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1309-00-0reg-harmful-interference-to-dsrc-systems.ppt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2720" indent="-34272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1 Discussion of PER vs. RSSI data from CAMP and USD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26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2 Planning for Dalla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2720" indent="-34272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Date Placeholder 6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4B0C69-C63E-4B1A-9F7A-338719F53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ministrative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d not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iliation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faqs/affiliationFAQ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i-Trust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resources/antitrust-guidelines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ic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www.ieee.org/portal/cms_docs/about/CoE_poster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1 Working Group Policies and Procedure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public-file/07/11-07-0360-04-0000-802-11-policies-and-procedures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 and Secret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r of this tiger team is Jim Lansford (C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ing for volunteers for a Recording Secre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send an email to the addresses below to have your attendance recor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Jim.lansford@ieee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5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Date Placeholder 6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C4E7B37-EBB7-45E0-AD27-49E33E58E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6468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Guidelines for IEEE WG Meeting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1905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176"/>
              </a:spcBef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IEEE-SA standards meetings shall be conducted in compliance with all applicable laws, including antitrust and competition law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interpretation, validity, or essentiality of patents/patent clai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specific license rates, terms, or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Relative costs, including licensing costs of essential patent claims, of different technical approaches may be discussed in standards development meeting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  <a:ea typeface="Arial"/>
              </a:rPr>
              <a:t>Technical considerations remain primary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or engage in the fixing of product prices, allocation of customers, or division of sales mar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discuss the status or substance of ongoing or threatened litig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cc33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Don’t be silent if inappropriate topics are discussed … do formally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---------------------------------------------------------------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ee </a:t>
            </a:r>
            <a:r>
              <a:rPr b="1" i="1" lang="en-US" sz="1200" spc="-1" strike="noStrike">
                <a:solidFill>
                  <a:srgbClr val="000099"/>
                </a:solidFill>
                <a:latin typeface="Arial"/>
              </a:rPr>
              <a:t>IEEE-SA Standards Board Operations Manual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, clause 5.3.10 and 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“Promoting Competition and Innovation: What You Need to Know about the IEEE Standards Association's Antitrust and Competition Policy”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for more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6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Date Placeholder 7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8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ECABE05-2FA5-4148-B118-57A34B560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266C9A-AF2F-4CD6-AC65-C1D35198BC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 Operating Rules – Tiger Tea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body can vote, present, and make mo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is a tiger team – it is an ad hoc meeting of the 802.11 Regulatory Standing Committee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documents that are generated by this group that are intended for distribution outside of IEEE 802.11 (e.g., 802.18) must be approved with a 75% majority by the larger 802.11 Regulatory S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oting on documents must occur at an interim or plenary mee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ly 802.11 voters may vote on documents to be approved for forwarding to other IEEE 802 working grou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y submissions to this group must be posted to the IEEE document server (Mento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yone can view IEEE 802.11 emails and download documents from Mento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02.11 REG SC emails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ieee802.org/11/email/stds-802-11-reg/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entor documents for download: </a:t>
            </a:r>
            <a:r>
              <a:rPr b="0" lang="en-US" sz="17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ocument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lect “REG SC” under groups to view only Regulatory Standing Committee docu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allocated 75MHz of spectrum in the 5.9GHz band (5850-5925MHz) for Dedicated Short Range Communications (DSRC) in October 199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FCC NPRM 13-22 (13-49), the FCC requested comments on a potential sharing of the DSRC band, to understand if a feasible sharing solution that protects DSRC users could be develop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RC would remain as a primary user of th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band would be designated U-NII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ac could be modified to operate in this new UNII-4 band if approved by the FC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did not specify the framework or etiquette by which band sharing would occ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D2A6780-2C6F-4B9F-9063-F61F13FCD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 of th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document that describes and quantifies possible coexistence mechanisms between DSRC and extensions of the 802.11 base standard into the proposed UNII-4 band, if the FCC allows such band sharing in a future R&amp;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work ite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9880" indent="-29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ITS/DSRC field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9880" indent="-29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Review of work to date on co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9880" indent="-29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s on us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9880" indent="-29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resent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9880" indent="-29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Modeling/simulation of possible coexistence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9880" indent="-29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Testing, field trials, and presentation of results from proposed prototype approac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 re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Includes outputs from all work i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One or more “snapshots” (summary of work to date) will be provided to FC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First snapshot in mid-Decemb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637865-FD03-4D7D-A35E-BCD8CB41C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35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tion of presentation on “Harmful Interference” 13/1309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1309-00-0reg-harmful-interference-to-dsrc-systems.ppt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E8F2B86-1BC3-44DD-9445-8E03D3DE7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Jim Lansford</dc:creator>
  <dc:description/>
  <dc:language>en-US</dc:language>
  <cp:lastModifiedBy>jl22</cp:lastModifiedBy>
  <cp:lastPrinted>1998-02-10T13:28:06Z</cp:lastPrinted>
  <dcterms:modified xsi:type="dcterms:W3CDTF">2013-11-07T13:05:07Z</dcterms:modified>
  <cp:revision>1538</cp:revision>
  <dc:subject/>
  <dc:title>DSRC Tiger Team</dc:title>
</cp:coreProperties>
</file>