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02171E-A024-4B50-BCC8-B6E1D329B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7C88E77-1687-4EC7-B9BE-C953D85102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0535BF6-62D9-4C9D-AB08-E91F05F60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121E7DB-BF5D-40CA-B025-FAFEA832F1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3C2962A-D671-47C7-9450-F920A5F2E8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942A2D4-4F20-42B8-8219-AAB4A44A3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C3535304-4EEE-4B31-AD14-19B92E1BC4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8A56068-32E5-48E3-A339-4EB201CCE3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C7B216F-2C59-4F7A-AEEC-AD8F2E3EA5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CF6AF156-BF9A-4898-9619-00C62FCCC2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CB7617E1-A288-4F02-92AD-FD26267D2D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2F526E02-095C-4924-BAB9-34E466DAE6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15C3011-B337-4752-B012-B84F49B72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2E4DBA05-D2D0-4381-A4AC-D9969AE742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1885C9F-DF23-4FEF-AC23-8D5DCEE1C8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F67074B-AB1A-4280-B66D-9A73DC7042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C3A73D1-6EAC-4AE4-9DE8-1B8EA18AB1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5CC-2082-4F74-A02D-1F621B5D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8A7-5BC7-4F85-AB41-C1FF75F7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99C-9F51-4411-A7BD-01BDA6B3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CBD-C478-402F-877A-B4BB3D42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A2F-7ADC-4447-8246-EC23F912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A48-D262-47F4-808A-44C81BF1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C01-0172-4643-A76E-7307ED6B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0E0-5C13-4FE7-9E2E-4BC3AFD0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2D8-6FAA-4A84-99C4-1298D0AF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641-CBBE-44CD-96BB-A1A99499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FCF-04C5-47A8-993C-6B0A6BF5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542-B610-4B15-9465-E62F2BD4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84C9C4-F722-4B07-BE6A-95B1290CB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270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066-00-000m-revmc-minutes-for-sept-2013-nanjing.docx" TargetMode="External"/><Relationship Id="rId2" Type="http://schemas.openxmlformats.org/officeDocument/2006/relationships/hyperlink" Target="https://mentor.ieee.org/802.11/dcn/13/11-13-0095-06-000m-editor-repor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298-01-000m-dmg-allocation-deletion-fixes.docx" TargetMode="External"/><Relationship Id="rId2" Type="http://schemas.openxmlformats.org/officeDocument/2006/relationships/hyperlink" Target="https://mentor.ieee.org/802.11/dcn/13/11-13-0875-04-000m-cid-1050-duplicate-cache.doc" TargetMode="External"/><Relationship Id="rId3" Type="http://schemas.openxmlformats.org/officeDocument/2006/relationships/hyperlink" Target="https://mentor.ieee.org/802.11/dcn/13/11-13-1199-08-000m-txop-limit-rules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2A6482D-0430-4A87-9B12-DC50BB95E8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November 2013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0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EC2A2D1-802E-4FA6-B553-D71F26D04F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Editor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4B01A270-1845-4F8B-B51D-5681E5F1E1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Monday, Tuesd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BA334D5B-F359-44CB-84AD-1A548CFA36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v - Jan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 6,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 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ility of 11mc in the IEEE st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after ballot compl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DFF2819-DC90-4C2D-8B13-AA46B2166C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18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B676191E-FAE0-4A50-A94D-66BD0AB380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November 2013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47C3958-CEE1-4CF2-88E1-3386C95D5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2952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29528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114, 2190 – Deprecate PCO, Dual CTS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23, 2424 – ERP 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11, 2412 – DSSS depre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34000" y="4572000"/>
            <a:ext cx="39621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atus, 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J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8862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, 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266760" y="4343400"/>
            <a:ext cx="423864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3124080"/>
            <a:ext cx="420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276720"/>
            <a:ext cx="39718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4AA9A13-2D83-4781-8106-81846E0DE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A3CE9BB-4F6D-431D-B3C4-11AC0122A5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6FB32C9-64A3-4076-842E-111B834202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4904E162-946D-43D6-B2E4-CAA0F18E3D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urphy.events.ieee.org/i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1359978F-4588-4246-AB0A-89912CF57B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0DD25058-E677-4B53-A0EE-1C236E7420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066-00-000m-revmc-minutes-for-sept-2013-nanjing.do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con notes, to be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095-06-000m-editor-reports.p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968B031-2174-4E3E-B066-329BCD844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DA05FD41-1935-4B6D-8FB0-8534CDBF27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tter Ballot on D3.0 (includes 11ac) March 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Feb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Feb-March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April/May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BD – integration of additional completed amendments (e.g. 11a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tegrate before or after initial 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 2014 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30A7F85-EB95-4521-A270-B6D3317315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Telec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the text changes indicat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298-01-000m-dmg-allocation-deletion-fixes.doc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1ad fix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0875-04-000m-cid-1050-duplicate-cache.d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lacement text (duplicate cache rules re-wr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1199-08-000m-txop-limit-rules-text.do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3-11-08T00:31:13Z</dcterms:modified>
  <cp:revision>1423</cp:revision>
  <dc:subject/>
  <dc:title>TGm Agenda</dc:title>
</cp:coreProperties>
</file>