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9120" y="9000720"/>
            <a:ext cx="92412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B9F072B-28E6-4D1B-9C21-2CFDA3DBE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41520" y="29700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AE38AAFD-A580-4D85-B2EB-0DBFCFB5F8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4C4A3743-7330-4270-B55F-E15F9AEEA3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DF53AD61-9D83-452C-B214-591F9B40D4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DCC279E5-38BE-41C3-A88F-9B9824F068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1814942B-0620-4EFC-BA0F-DAEAAB08A8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F708461E-413B-44DE-9000-44B188FF11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4437E75C-95ED-4B35-97CD-29826C9871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D4DEB94D-AFC1-4679-99EA-8CB4CBB3D5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5ADA4BF3-7D18-4612-B608-C4FF1144AA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DA00CDED-FB62-4E86-A9CC-728FBB7742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B89C5CED-33A6-431B-B147-F2B826714F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F3C47A28-3A66-4405-805C-1AED38FD1C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72D32D9E-EAC7-486C-B2FA-27CEDDB61E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C95D4FBD-8070-4DE2-8294-FADE1CFA5C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71556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0382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30012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3C75E396-07FA-4332-8EA4-76A5BEF066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0C99BDC2-88E9-44D3-A4C3-DEFFBA2063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560-0D17-49EF-B361-B7D2D97E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730-7436-452B-8B41-B478BF96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C75-8330-47D8-A46C-A12A94A4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3FF-7105-4219-8904-FA3A208A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220-A44D-427E-9957-585D5516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B7E5-2B1A-47F9-807C-F5191C61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C24-D039-4A33-8766-F1DB6659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85F3-842F-4D09-8C36-52F89DE2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55B-AA70-4A73-87B5-5DAB3110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9EDB-1810-4753-8912-0BFE77AC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443-A87F-42D8-A592-443549B4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0FD-AF95-4AC0-9BCC-62FF5C91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C4A39AA-2C61-489E-A1BB-F71FBAF90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270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hyperlink" Target="http://standards.ieee.org/board/pat/faq.pdf" TargetMode="External"/><Relationship Id="rId3" Type="http://schemas.openxmlformats.org/officeDocument/2006/relationships/hyperlink" Target="http://standards.ieee.org/board/pat/loa.pdf" TargetMode="External"/><Relationship Id="rId4" Type="http://schemas.openxmlformats.org/officeDocument/2006/relationships/hyperlink" Target="http://standards.ieee.org/faqs/affiliationFAQ.html" TargetMode="External"/><Relationship Id="rId5" Type="http://schemas.openxmlformats.org/officeDocument/2006/relationships/hyperlink" Target="http://standards.ieee.org/resources/antitrust-guidelines.pdf" TargetMode="External"/><Relationship Id="rId6" Type="http://schemas.openxmlformats.org/officeDocument/2006/relationships/hyperlink" Target="http://www.ieee.org/portal/cms_docs/about/CoE_poster.pdf" TargetMode="External"/><Relationship Id="rId7" Type="http://schemas.openxmlformats.org/officeDocument/2006/relationships/hyperlink" Target="https://mentor.ieee.org/802.11/public-file/07/11-07-0360-04-0000-802-11-policies-and-procedures.doc" TargetMode="External"/><Relationship Id="rId8" Type="http://schemas.openxmlformats.org/officeDocument/2006/relationships/hyperlink" Target="https://mentor.ieee.org/802-ec/dcn/09/ec-09-0007-02-00EC-draft-lmsc-wg-p-p.pdf" TargetMode="External"/><Relationship Id="rId9" Type="http://schemas.openxmlformats.org/officeDocument/2006/relationships/hyperlink" Target="https://mentor.ieee.org/802-ec/dcn/09/ec-09-0005-02-00EC-draft-revised-lmsc-p-p-for-wg-p-p-ballot.pdf" TargetMode="External"/><Relationship Id="rId10" Type="http://schemas.openxmlformats.org/officeDocument/2006/relationships/hyperlink" Target="https://mentor.ieee.org/802-ec/dcn/09/ec-09-0006-02-00EC-draft-revision-of-the-lmsc-om-for-wg-p-p.pdf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" TargetMode="External"/><Relationship Id="rId2" Type="http://schemas.openxmlformats.org/officeDocument/2006/relationships/hyperlink" Target="http://mentor.ieee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1066-00-000m-revmc-minutes-for-sept-2013-nanjing.docx" TargetMode="External"/><Relationship Id="rId2" Type="http://schemas.openxmlformats.org/officeDocument/2006/relationships/hyperlink" Target="https://mentor.ieee.org/802.11/dcn/13/11-13-0095-06-000m-editor-reports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1298-01-000m-dmg-allocation-deletion-fixes.docx" TargetMode="External"/><Relationship Id="rId2" Type="http://schemas.openxmlformats.org/officeDocument/2006/relationships/hyperlink" Target="https://mentor.ieee.org/802.11/dcn/13/11-13-0875-04-000m-cid-1050-duplicate-cache.doc" TargetMode="External"/><Relationship Id="rId3" Type="http://schemas.openxmlformats.org/officeDocument/2006/relationships/hyperlink" Target="https://mentor.ieee.org/802.11/dcn/13/11-13-1199-08-000m-txop-limit-rules-text.docx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2653C3FE-B3E3-4D1C-A17A-353E6AC378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TGmc November 2013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11-0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"/>
          <p:cNvGraphicFramePr/>
          <p:nvPr/>
        </p:nvGraphicFramePr>
        <p:xfrm>
          <a:off x="519120" y="2273400"/>
          <a:ext cx="82296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3400"/>
                    <a:ext cx="82296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3755E1A1-AEC4-4DF9-A931-B7A51C1C5E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– Editor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1CD5F14B-9E51-431B-B30A-42ECADBE9B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– Monday, Tuesd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s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D0CB1226-49D5-40D2-B488-F97A3CF52A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v - Jan Meeting Plan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s 10am Eastern  2 h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 6,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-Hoc meeting 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e 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ailability of 11mc in the IEEE st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2.0 after ballot compl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FA5B6719-2D4E-4710-9328-F868EBC1AD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0594-02-0000-revision-par-proposal-for-802-11-2012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09/11-09-0002-12-0000-802-11-operations-manual.do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1082-17-0000-revmc-pre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3/11-13-0233-18-000m-revmc-wg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6E0176D7-D522-467D-BAAF-2D4E466254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contains the IEEE 802.11 TGmc agenda for the November 2013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531A270D-35C1-4B8D-8855-E52D164FCA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c Ag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80880" y="601992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tendance reminder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s://murphy.events.ieee.org/ima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cuments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2"/>
              </a:rPr>
              <a:t>https://mentor.ieee.org/802.11/documen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333360" y="1295280"/>
            <a:ext cx="4238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on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ir’s Welcome, Status, Review of Objectives, Approve agenda,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ditor’s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imeline and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724280" y="1295280"/>
            <a:ext cx="4343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Ds 2114, 2190 – Deprecate PCO, Dual CTS pro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Ds 2423, 2424 – ERP P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Ds 2411, 2412 – DSSS depre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734000" y="4572000"/>
            <a:ext cx="39621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tatus, 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lans for J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djo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4714920" y="388620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, 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266760" y="4343400"/>
            <a:ext cx="423864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4714920" y="3124080"/>
            <a:ext cx="420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352440" y="3276720"/>
            <a:ext cx="39718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2E07AB22-61E9-496B-B494-D740977D69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mc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1852560"/>
            <a:ext cx="80773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ll Meeting to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olicies and Procedures, Attendance re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*IEEE Patent Policy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://standards.ieee.org/board/pat/pat-slideset.p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re there any patent claim(s)/patent application claim(s) and/or the holder of patent claim(s)/patent application claim(s) that the participant believes may be essential for the use of that standard? Minute any responses that were given, specifically the patent claim(s)/patent application claim(s) and/or the holder of the patent claim(s)/patent application claim(s) that were identified (if any) and by wh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2720" y="5989680"/>
            <a:ext cx="23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 Read slide 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* Note especially items #7 &amp;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A88AF85F-55D5-46A8-80E0-1F694203EA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documents at the following link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 IEEE Patent Polic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board/pat/pat-slideset.p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board/pat/faq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 For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standards.ieee.org/board/pat/loa.pd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filiation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://standards.ieee.org/faqs/affiliationFAQ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-Trus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://standards.ieee.org/resources/antitrust-guidelines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www.ieee.org/portal/cms_docs/about/CoE_poster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.11 Working Group P&amp;P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  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s://mentor.ieee.org/802.11/public-file/07/11-07-0360-04-0000-802-11-policies-and-procedures.do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WG P&amp;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https://mentor.ieee.org/802-ec/dcn/09/ec-09-0007-02-00EC-draft-lmsc-wg-p-p.pd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P&amp;P: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https://mentor.ieee.org/802-ec/dcn/09/ec-09-0005-02-00EC-draft-revised-lmsc-p-p-for-wg-p-p-ballot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O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https://mentor.ieee.org/802-ec/dcn/09/ec-09-0006-02-00EC-draft-revision-of-the-lmsc-om-for-wg-p-p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CF1168EF-9A80-498E-AFFD-9998950875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FB6A5050-4007-400F-9165-2D01D73C79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endance recording proced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11-09/0246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register before logging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log attendance during each 2 hour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mentor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TGm” for documents relating to the Revision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CBCE6BC4-6E35-42D0-B8C2-B8F9C5EBE6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A85BAF91-A3A9-4FD9-BF82-DD16721FD6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 (continued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prior meeting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1066-00-000m-revmc-minutes-for-sept-2013-nanjing.doc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con notes, to be provi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or’s Report (Adrian Stephe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095-06-000m-editor-reports.p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699CE9BB-1D92-4AF0-B610-B28737DEA1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6A42B2BB-E12C-4336-9DC3-B7616056A5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mc Plan of Recor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July 2012 – 12 Sept 2012 – Call for Comment/Inp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-30 Aug 2012 – NesCom, SASB PAR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Begin to process inpu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11aa, 11ae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 – First WG Letter ballot  - without 11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2 – March/May 2013  – 11ad integration 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pt 2013 – Letter ballot on D2.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3 – March 2014 – 11ac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Letter Ballot on D3.0 (includes 11ac) March 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Times New Roman"/>
              </a:rPr>
              <a:t>Feb 2014 – Mandatory Draft Revie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Times New Roman"/>
              </a:rPr>
              <a:t>Feb-March 2014 – Form Sponsor Pool (45 days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Times New Roman"/>
              </a:rPr>
              <a:t>April/May – Initial Sponsor Ballo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BD – integration of additional completed amendments (e.g. 11af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Integrate before or after initial 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v 2014 – WG/EC Final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ch 2015 – RevCom/SASB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726DE038-CB73-4A8F-A527-6A975FCB19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–Telec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e the text changes indicated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1298-01-000m-dmg-allocation-deletion-fixes.doc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11ad fix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875-04-000m-cid-1050-duplicate-cache.d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placement text (duplicate cache rules re-wr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1199-08-000m-txop-limit-rules-text.do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1:26:55Z</dcterms:created>
  <dc:creator>Dorothy Stanley</dc:creator>
  <dc:description/>
  <dc:language>en-US</dc:language>
  <cp:lastModifiedBy>Dorothy Stanley</cp:lastModifiedBy>
  <cp:lastPrinted>1998-02-10T13:28:06Z</cp:lastPrinted>
  <dcterms:modified xsi:type="dcterms:W3CDTF">2013-11-08T00:31:13Z</dcterms:modified>
  <cp:revision>1423</cp:revision>
  <dc:subject/>
  <dc:title>TGm Agenda</dc:title>
</cp:coreProperties>
</file>