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8E5639-3BC5-4B8B-9FD3-836DCF3B7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9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EAF176-3F03-4228-A590-63DFE4926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4160" y="701640"/>
            <a:ext cx="4626000" cy="3468600"/>
          </a:xfrm>
          <a:prstGeom prst="rect">
            <a:avLst/>
          </a:prstGeom>
          <a:ln w="0">
            <a:noFill/>
          </a:ln>
        </p:spPr>
      </p:sp>
      <p:sp>
        <p:nvSpPr>
          <p:cNvPr id="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2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793693-D445-4883-8583-A815E5931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4160" y="701640"/>
            <a:ext cx="4626000" cy="3468600"/>
          </a:xfrm>
          <a:prstGeom prst="rect">
            <a:avLst/>
          </a:prstGeom>
          <a:ln w="0">
            <a:noFill/>
          </a:ln>
        </p:spPr>
      </p:sp>
      <p:sp>
        <p:nvSpPr>
          <p:cNvPr id="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3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AE2AB4-D6D7-43B2-A7B3-B78ACA2FA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9480" y="696960"/>
            <a:ext cx="4636800" cy="3478320"/>
          </a:xfrm>
          <a:prstGeom prst="rect">
            <a:avLst/>
          </a:prstGeom>
          <a:ln w="0">
            <a:noFill/>
          </a:ln>
        </p:spPr>
      </p:sp>
      <p:sp>
        <p:nvSpPr>
          <p:cNvPr id="2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3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A64135-AF2F-4771-ADA5-20B6E151D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4160" y="701640"/>
            <a:ext cx="4626000" cy="3468600"/>
          </a:xfrm>
          <a:prstGeom prst="rect">
            <a:avLst/>
          </a:prstGeom>
          <a:ln w="0">
            <a:noFill/>
          </a:ln>
        </p:spPr>
      </p:sp>
      <p:sp>
        <p:nvSpPr>
          <p:cNvPr id="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4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4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4372BF-8D92-4D72-B4F1-4DF2A3A1A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4160" y="701640"/>
            <a:ext cx="4626000" cy="3468600"/>
          </a:xfrm>
          <a:prstGeom prst="rect">
            <a:avLst/>
          </a:prstGeom>
          <a:ln w="0">
            <a:noFill/>
          </a:ln>
        </p:spPr>
      </p:sp>
      <p:sp>
        <p:nvSpPr>
          <p:cNvPr id="2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4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C8840E-F12C-42C3-BA62-3B7586E1A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4160" y="701640"/>
            <a:ext cx="4626000" cy="3468600"/>
          </a:xfrm>
          <a:prstGeom prst="rect">
            <a:avLst/>
          </a:prstGeom>
          <a:ln w="0">
            <a:noFill/>
          </a:ln>
        </p:spPr>
      </p:sp>
      <p:sp>
        <p:nvSpPr>
          <p:cNvPr id="2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5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ECA5ED-7E78-4A52-BCC1-425E07798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4160" y="701640"/>
            <a:ext cx="4626000" cy="3468600"/>
          </a:xfrm>
          <a:prstGeom prst="rect">
            <a:avLst/>
          </a:prstGeom>
          <a:ln w="0">
            <a:noFill/>
          </a:ln>
        </p:spPr>
      </p:sp>
      <p:sp>
        <p:nvSpPr>
          <p:cNvPr id="2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289E54-B520-48D9-9B6B-734DACC25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4160" y="701640"/>
            <a:ext cx="4626000" cy="3468600"/>
          </a:xfrm>
          <a:prstGeom prst="rect">
            <a:avLst/>
          </a:prstGeom>
          <a:ln w="0">
            <a:noFill/>
          </a:ln>
        </p:spPr>
      </p:sp>
      <p:sp>
        <p:nvSpPr>
          <p:cNvPr id="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B4CA86-0FBF-4293-B18F-9034EA928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1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A2F5E2-A4A8-4DE4-968F-874B638C4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9480" y="696960"/>
            <a:ext cx="4636800" cy="3478320"/>
          </a:xfrm>
          <a:prstGeom prst="rect">
            <a:avLst/>
          </a:prstGeom>
          <a:ln w="0">
            <a:noFill/>
          </a:ln>
        </p:spPr>
      </p:sp>
      <p:sp>
        <p:nvSpPr>
          <p:cNvPr id="21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1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8DC20E-4894-4A77-BC9C-1E52AE042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4160" y="701640"/>
            <a:ext cx="4626000" cy="3468600"/>
          </a:xfrm>
          <a:prstGeom prst="rect">
            <a:avLst/>
          </a:prstGeom>
          <a:ln w="0">
            <a:noFill/>
          </a:ln>
        </p:spPr>
      </p:sp>
      <p:sp>
        <p:nvSpPr>
          <p:cNvPr id="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297A9-1190-49D3-B4ED-0AB90DE30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8E14-F1C9-42C3-B48F-57EAD90D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4202A-3EFE-4C34-8709-B493CD74E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EA48B-7E32-4D9D-BF22-FFA80B7AD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5DDA-1DBD-4A8D-8AC2-7314E5BB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D689-F08C-4919-B5C8-BF638F2B4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8FF8-49BF-4A0C-9F4B-98469E48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A651-40EE-4781-954C-8A8A5C6AA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3596-ECF6-43E7-B7EE-A5A16AC6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3768-B3FA-4455-862B-0159B384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1594-E057-49AF-A3BB-209A41E7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C9687-F7CF-4A4A-A239-2D2A8400E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4D4A01-FC5C-4598-9741-E1D1C1EEB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95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003E0B-1CFC-4D90-B38D-3355B9CB3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eptember 2013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8-09</a:t>
            </a:r>
            <a:endParaRPr b="1" lang="en-US" sz="2000" spc="-1" strike="noStrike">
              <a:solidFill>
                <a:srgbClr val="000000"/>
              </a:solidFill>
              <a:latin typeface="Times New Roman"/>
            </a:endParaRPr>
          </a:p>
        </p:txBody>
      </p:sp>
      <p:graphicFrame>
        <p:nvGraphicFramePr>
          <p:cNvPr id="60" name="Object 11"/>
          <p:cNvGraphicFramePr/>
          <p:nvPr/>
        </p:nvGraphicFramePr>
        <p:xfrm>
          <a:off x="471600" y="23004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71600" y="23004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4F653D-EF70-4E86-A958-7BC71D93E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B92D95-1679-4A48-A3B2-879109E18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be silent if inappropriate topics are discussed </a:t>
            </a:r>
            <a:r>
              <a:rPr b="1" lang="en-US"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057098-6EA9-4597-8549-5F816C9E1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minutes from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elecon minut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progress from May and July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4"/>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928668-8AB1-4DCD-8698-15320B5F6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447560"/>
            <a:ext cx="4114800" cy="4267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September 1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July 2013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September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0:30 – 12:3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Tuesday</a:t>
            </a:r>
            <a:r>
              <a:rPr b="1" lang="en-US" sz="1600" spc="-1" strike="noStrike">
                <a:solidFill>
                  <a:srgbClr val="000000"/>
                </a:solidFill>
                <a:latin typeface="Times New Roman"/>
              </a:rPr>
              <a:t> September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648320" y="1523880"/>
            <a:ext cx="4114800" cy="4114800"/>
          </a:xfrm>
          <a:prstGeom prst="rect">
            <a:avLst/>
          </a:prstGeom>
          <a:noFill/>
          <a:ln w="0">
            <a:noFill/>
          </a:ln>
        </p:spPr>
        <p:txBody>
          <a:bodyPr lIns="92160" rIns="92160" tIns="46080" bIns="46080" anchor="t">
            <a:normAutofit fontScale="94000"/>
          </a:bodyPr>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ember 18th, 13:30 – 15: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ember 18th, 16:00 – 18:0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September 19</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0:30 – 12: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September 19</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3:30 – 15: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ember2013</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chedule in a Glance</a:t>
            </a:r>
            <a:endParaRPr b="1" lang="en-US" sz="3200" spc="-1" strike="noStrike">
              <a:solidFill>
                <a:srgbClr val="000000"/>
              </a:solidFill>
              <a:latin typeface="Times New Roman"/>
            </a:endParaRPr>
          </a:p>
        </p:txBody>
      </p:sp>
      <p:sp>
        <p:nvSpPr>
          <p:cNvPr id="13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E950E7-8A7C-441E-953F-A579A8078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1600200" y="2057400"/>
          <a:ext cx="6477120" cy="2522520"/>
        </p:xfrm>
        <a:graphic>
          <a:graphicData uri="http://schemas.openxmlformats.org/drawingml/2006/table">
            <a:tbl>
              <a:tblPr/>
              <a:tblGrid>
                <a:gridCol w="1066680"/>
                <a:gridCol w="1524240"/>
                <a:gridCol w="1218960"/>
                <a:gridCol w="1371600"/>
                <a:gridCol w="129564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6</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6:00 – 18:00 </a:t>
            </a:r>
            <a:endParaRPr b="1" lang="en-US" sz="32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uly 2013</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minutes from the May meeting and Telecons</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SG progress</a:t>
            </a:r>
            <a:endParaRPr b="1"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D69812-7580-4D17-AA40-17732E05E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pic>
        <p:nvPicPr>
          <p:cNvPr id="145" name="" descr=""/>
          <p:cNvPicPr/>
          <p:nvPr/>
        </p:nvPicPr>
        <p:blipFill>
          <a:blip r:embed="rId1"/>
          <a:stretch/>
        </p:blipFill>
        <p:spPr>
          <a:xfrm>
            <a:off x="685800" y="1981080"/>
            <a:ext cx="7772400" cy="4114800"/>
          </a:xfrm>
          <a:prstGeom prst="rect">
            <a:avLst/>
          </a:prstGeom>
          <a:ln w="0">
            <a:noFill/>
          </a:ln>
        </p:spPr>
      </p:pic>
      <p:sp>
        <p:nvSpPr>
          <p:cNvPr id="14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4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7CA044-F41D-4939-B8AD-1D4F81781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3 Meeting</a:t>
            </a:r>
            <a:endParaRPr b="1" lang="en-US" sz="3200" spc="-1" strike="noStrike">
              <a:solidFill>
                <a:srgbClr val="000000"/>
              </a:solidFill>
              <a:latin typeface="Times New Roman"/>
            </a:endParaRPr>
          </a:p>
        </p:txBody>
      </p:sp>
      <p:sp>
        <p:nvSpPr>
          <p:cNvPr id="150"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5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A6C955-FD7F-4CCD-9D1A-14BBBFD21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5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7B5596-F888-4A8C-8997-54F381FFD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Minutes (July 2013 Meeting Minutes and Telecons) </a:t>
            </a: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HEW SG minutes of meetings and teleconferences from July 2013 plenary to today:   </a:t>
            </a:r>
            <a:endParaRPr b="1"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6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F6C78B-74F5-4687-AC1F-A5513DBFB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7</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 </a:t>
            </a: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HEW SG:</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Study Group</a:t>
            </a:r>
            <a:endParaRPr b="1" lang="en-US" sz="32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njing, China</a:t>
            </a:r>
            <a:endParaRPr b="1"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5-20, 2013</a:t>
            </a:r>
            <a:endParaRPr b="1" lang="en-US" sz="36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p:txBody>
      </p:sp>
      <p:sp>
        <p:nvSpPr>
          <p:cNvPr id="6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389BE6-5463-4CB3-A2A5-B05059980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7</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16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6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77C9B3-4E5C-4EBF-BB36-D48B05310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3:30 – 15:30</a:t>
            </a:r>
            <a:endParaRPr b="1" lang="en-US" sz="3200" spc="-1" strike="noStrike">
              <a:solidFill>
                <a:srgbClr val="000000"/>
              </a:solidFill>
              <a:latin typeface="Times New Roman"/>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2DEB7A-61EF-4DC9-A5DB-779A9EFEA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1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17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7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CE082A-EC4F-4581-90AE-9E0FEC99B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9</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a:t>
            </a:r>
            <a:endParaRPr b="1" lang="en-US" sz="32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8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562F95-6453-41B3-8EE6-83E19C64D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8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073F80-D373-488C-8AEE-4DB41217B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9</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3:30 – 15:30</a:t>
            </a: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November 2013</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9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BCAB0F-71FC-4947-9609-549878930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E4863C-D3FC-4638-8822-995949190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39B7E6-486C-4A5E-9FC4-2EC0D0D4A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EAC5C1-7C5E-4547-A4F7-C7E75F7C6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6E30EB-65CF-4430-B564-4D9F68BE5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urphy.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61026D-90A9-4E13-982B-ED4DAF77D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DE8529-9EFA-4E94-A014-D9553832F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drian Stephens –  adrian.p.stephens@inte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A1DFAD-86AF-47BF-B3E4-2E95C1D19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9F0F45-5C55-4BE5-8B4A-8BCF4593D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85E71B-6085-41CA-B29C-7BB4906E8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hall inform the IEEE (or cause the IEEE to be informed)</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of the identity of each </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holder of any potential Essential Patent Claims of which they are personally aware</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Personal awareness</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 means that the participant </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is personally aware that the holder may have a potential Essential Patent Claim,</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 even if the participant is not personally aware of the specific patents or</a:t>
            </a:r>
            <a:r>
              <a:rPr b="1" lang="en-US" sz="1400" spc="-1" strike="noStrike">
                <a:solidFill>
                  <a:srgbClr val="ff3300"/>
                </a:solidFill>
                <a:latin typeface="Times New Roman"/>
                <a:ea typeface="ＭＳ Ｐゴシック"/>
              </a:rPr>
              <a:t> </a:t>
            </a:r>
            <a:r>
              <a:rPr b="1" lang="en-US" sz="1400" spc="-1" strike="noStrike">
                <a:solidFill>
                  <a:srgbClr val="000000"/>
                </a:solidFill>
                <a:latin typeface="Times New Roman"/>
                <a:ea typeface="ＭＳ Ｐゴシック"/>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hould inform the IEEE (or cause the IEEE to be informed)</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of the identity of </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any other holders of such potential Essential Patent Claims</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that is, third parties that are not affiliated with the participant, with the participant</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The above does not apply if the patent</a:t>
            </a:r>
            <a:r>
              <a:rPr b="1" lang="en-US" sz="1600" spc="-1" strike="noStrike">
                <a:solidFill>
                  <a:srgbClr val="ff3300"/>
                </a:solidFill>
                <a:latin typeface="Times New Roman"/>
                <a:ea typeface="ＭＳ Ｐゴシック"/>
              </a:rPr>
              <a:t> </a:t>
            </a:r>
            <a:r>
              <a:rPr b="1" lang="en-US" sz="1600" spc="-1" strike="noStrike">
                <a:solidFill>
                  <a:srgbClr val="000000"/>
                </a:solidFill>
                <a:latin typeface="Times New Roman"/>
                <a:ea typeface="ＭＳ Ｐゴシック"/>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2EA418-CB1C-4C94-A0CA-40DD1F21C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3-08-13T13:27:10Z</dcterms:modified>
  <cp:revision>126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0k4VdhaUClKE+vHO/U/momN0ku6G1oAI2SSayDZXyzDFeZCLCPKffjEBIGheD1ejZbxNdPS3WgqFVUq2Ez86kjUY4G8dxWis1mKKq4eIpIPLzu/v0wmmVuLWIOWrSGJ29DzyaErMeKU7RdyNGLRtyG9v146SlOXC/bTGO/RMAsxseNKX</vt:lpwstr>
  </property>
  <property fmtid="{D5CDD505-2E9C-101B-9397-08002B2CF9AE}" pid="3" name="_ms_pID_7253431">
    <vt:lpwstr>TT3dw+akobN1qzUSOdvtHm7Wqhaqk6kGqaC/GIDnctMLIZi6PNkLgxY8yE5m2LYokDzuD7pjXv5pLyBeVBuCdiDh3yaPw/CWmcrfRjUU6GCQTkteC+t2ILF7ilYHJV4a3tFgPYRwnwkInitoKPtzZ9KWZG64VE/cyCkOG32BIL3e6PndCTe5DATk7WnHaiXW5mQy69c8RoilIHVigjT1cl/byGWtGAdz8iz2fLPHTw2xAy3r</vt:lpwstr>
  </property>
  <property fmtid="{D5CDD505-2E9C-101B-9397-08002B2CF9AE}" pid="4" name="_ms_pID_72534310">
    <vt:lpwstr>9GWy3G+Qfdd5Pww5SjqTfLO/njF6aKt/5EqFvRozZQ9U7VglYt3m4uHp+qwK2xTE5yGiI+b9iSNMN+q6BtXoH4fDx4NvKCGW1TiJVEYX7AHQHiQimacergOKf0Nn4puVF2S9cNzIhGJJHW1KZ5DIZnItKHt0UO3eXy3jNTcFDMyfGM+hKnN/sQ==</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Gm4AoX6Z6VoK96CzXgrUtr04cv1TOPdbqpgHUbvDnPEb+9rMR4EwRh6p2/HHulrGm/GCLRR0BnnjgWqMDpmGoWL0gmjcOEYlUDnnVSGZ55Q0jpMUAZmZdoMFRyqlrn61bazG7zDQhtNu3hzDDOZnp6A+ySmnwsC0A+9+o2ChpEZJPqLvmXPLdeDR8LRBGS6D1Z1aHZZtLJVdXYoR7XO2Y0R1kNV+0WX99lZsgGUX697hxOYy</vt:lpwstr>
  </property>
  <property fmtid="{D5CDD505-2E9C-101B-9397-08002B2CF9AE}" pid="10" name="_ms_pID_7253432_00">
    <vt:lpwstr>_ms_pID_7253432</vt:lpwstr>
  </property>
  <property fmtid="{D5CDD505-2E9C-101B-9397-08002B2CF9AE}" pid="11" name="_ms_pID_7253433">
    <vt:lpwstr>5euXiBy0yC4xVJ9a4nJ+fMuKEuGcyMwnudEONDxZ5y7g9PP0XwLwAiIQa2wieCLaBys7pKyyu7gPUBLnKFrmtJE92zs8QhtJuGpAFEVv/ZRYcEzzTQR4T5CejXtQhywWrVyGVFRxV++mo0x1QEEYu/Sft3FAIEtIZ7R6ZBboUlNOHNtPl3WQsdbTcjMaCDySotF9exehFJXEKauoPz9t8daxZQ100DnZ0Iwwe4QCuDGXwrFG</vt:lpwstr>
  </property>
  <property fmtid="{D5CDD505-2E9C-101B-9397-08002B2CF9AE}" pid="12" name="_ms_pID_7253433_00">
    <vt:lpwstr>_ms_pID_7253433</vt:lpwstr>
  </property>
  <property fmtid="{D5CDD505-2E9C-101B-9397-08002B2CF9AE}" pid="13" name="_ms_pID_7253434">
    <vt:lpwstr>Yr2fFPoXeZsIGE4c1uuorDRpwAY09OTbwuwzSOact2xol3a3oDzP7O34NXmuLXpFv/gFrYgZz8B2J3AABdVMlEkUO1Y8IAWpg7rfPRzj4StIOkn7hl/Y7ihGLTYNMk8YPbY3iU3P5G52hqJ62kWjWGxisSe31+bo1+ICCB/wSjclGAYWjUTcHEC0PA5l8ae0T+kSMKzonoF9xtWK44SvfQdpMb/YOa7U746IRmpvi+KcDJ3c</vt:lpwstr>
  </property>
  <property fmtid="{D5CDD505-2E9C-101B-9397-08002B2CF9AE}" pid="14" name="_ms_pID_7253434_00">
    <vt:lpwstr>_ms_pID_7253434</vt:lpwstr>
  </property>
  <property fmtid="{D5CDD505-2E9C-101B-9397-08002B2CF9AE}" pid="15" name="_ms_pID_7253435">
    <vt:lpwstr>9jh6HQR7dpHyUQp46UTPG2Whq5v1TOefq13C1CLwFmoH4ERqQfit9mkxMLx0XTus8kTmxAyPcWgtIwCcHfL2mYBh2IHNa0gtVEZiH5TiHQ4hJfafZU+NIPkUkalcCIvLw50soGHeZ4UCMUQfJwuajPVNsuDY9Au9X6v/bFbBmElgPTC0kf+26V0kkdaIucF13g/aCSxRAKVpHvSW56sjv3XPmJ+OQx0n/ZBMmSF1dQlA4xTp</vt:lpwstr>
  </property>
  <property fmtid="{D5CDD505-2E9C-101B-9397-08002B2CF9AE}" pid="16" name="_ms_pID_7253435_00">
    <vt:lpwstr>_ms_pID_7253435</vt:lpwstr>
  </property>
  <property fmtid="{D5CDD505-2E9C-101B-9397-08002B2CF9AE}" pid="17" name="_ms_pID_7253436">
    <vt:lpwstr>jd9IpeTrwCgOuSEnbUeSUvBXd8RMnjIpqLotptxI0I67DUcY0Waq/uzjp4lSls+CNe3F3BjznQG3N9RPQyt/CtB/PJ8FexJonRwJiZ2xd+xO0KQqI6vVKfJBu2nAmBSpM/Pke1NgeX2L+b/dl9NXrlHH6hkK8+75hTUgfm46CHhxaSZOmvfaw+Z0JJROGcV6drE7tVITCgZO8Z68012dIm6wcrBiIJm8dkaLwJuwRXbW2pKg</vt:lpwstr>
  </property>
  <property fmtid="{D5CDD505-2E9C-101B-9397-08002B2CF9AE}" pid="18" name="_ms_pID_7253436_00">
    <vt:lpwstr>_ms_pID_7253436</vt:lpwstr>
  </property>
  <property fmtid="{D5CDD505-2E9C-101B-9397-08002B2CF9AE}" pid="19" name="_ms_pID_7253437">
    <vt:lpwstr>XxdLixgNlruh+mmlLQOeq52IdjAgpPigdf81Dai3rsMimPEmnFSjlrZuxp2tqgbiK8NBPDBX8ZtUPEonWLPA4CqG4tqGn9BSb6SF2DiEK6PUB0VzNastQjniMm1I/5rwKeDIwXOyrA5kIHhj06f5iPRS2dr4hD1EIobtmWQk9JUeGV+iKa52QxmqCSnsbvIMOmIBVDcSsLhOWPeZzFH0AbLCPdN3ZNha4kMoMs9RweEKjLOk</vt:lpwstr>
  </property>
  <property fmtid="{D5CDD505-2E9C-101B-9397-08002B2CF9AE}" pid="20" name="_ms_pID_7253437_00">
    <vt:lpwstr>_ms_pID_7253437</vt:lpwstr>
  </property>
  <property fmtid="{D5CDD505-2E9C-101B-9397-08002B2CF9AE}" pid="21" name="_ms_pID_7253438">
    <vt:lpwstr>yfeoPANHRF/qMsFIzf/wICQ3rPXuN2DuUik90LWp0fCwm+Mn1NUTWHXq/0avF5WxNxJpuZuqpKSiP4Swlag0bh0Lg+IFM8lFpGqrgB0OG1qGz32UfXbq/miLTI7uxhZ3bNB3stCkyk/0k4v7/xzgbDcU95OYla04vZdMlER+laq9oYp8tFc7+ZOq//9K1N3djFEPanLP64NdvgNNsokIRVMITgMYAVdP9W0M5p7rxam94gwt</vt:lpwstr>
  </property>
  <property fmtid="{D5CDD505-2E9C-101B-9397-08002B2CF9AE}" pid="22" name="_ms_pID_7253438_00">
    <vt:lpwstr>_ms_pID_7253438</vt:lpwstr>
  </property>
  <property fmtid="{D5CDD505-2E9C-101B-9397-08002B2CF9AE}" pid="23" name="_ms_pID_7253439">
    <vt:lpwstr>mjaevLGq3o/z0nNuu215exLZPygPIwH7Mo6jfjuL56wsp3CoSt4K9KxoOdR/HlIZwwDTzxyaMW9RSrp4WmRyfi69uB8BfSVl0gEhc7QrLldTVfexFRAWaXH313E0/23+FLTOcpOo+mvuw3Z0ochGhctMbyRbJuH1PEMjp1YuxaGe5kgfb5Nv99yiLVDMq783jZ1Ilaoh+1x7ZkH5U4euJ6dkY8a614zWDACA6liFzMQzTom9</vt:lpwstr>
  </property>
  <property fmtid="{D5CDD505-2E9C-101B-9397-08002B2CF9AE}" pid="24" name="_ms_pID_7253439_00">
    <vt:lpwstr>_ms_pID_7253439</vt:lpwstr>
  </property>
  <property fmtid="{D5CDD505-2E9C-101B-9397-08002B2CF9AE}" pid="25" name="_ms_pID_725343_00">
    <vt:lpwstr>_ms_pID_725343</vt:lpwstr>
  </property>
</Properties>
</file>