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88E0D0-FE85-4710-AC13-D19BDD40D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2F3027F-986F-4D8C-B81D-3D024348FB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C6F1825-D8A6-4B58-B86C-6487FCE69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2DEF25F-9329-4808-9BB5-92A6F8D2CF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0530B65-B5A7-4428-93D6-A85D588541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0ABACE9-22A4-46ED-BD26-0660B0AAB3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427F14E-50D0-4143-80D4-B18CAF42AB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ate Placeholder 4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4C4B3A-25D2-45BE-8ACC-897AEF7C6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730371A-A966-4207-92B7-F35BAAA271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905418D1-89A9-45B0-8A6C-EBD770FAEE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FB5595F-06E5-43DB-BFF6-574055733F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F07473B-61E5-4A76-8F14-1232E38DC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95EAD33-1E5C-4CD8-A064-E61CD9A5C1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C5E37F2E-882E-4A91-BCFF-1651AFA943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39E112D-E6F3-4581-A3E8-F7B669D30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8FC25B60-6032-466F-8CD5-4B4A662E9D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9489DF2E-3C50-4A6E-80C2-EEE50C3BF2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FA7556AE-CFE2-45D8-8E0F-CDA85DAA62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F53620B-C746-44AE-876A-7A34A0B7F6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DC32D26-F6F8-4D01-8832-FB4949D82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A7424F6-CE62-449B-B30A-46FE8807D5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631-2FC7-47FD-B49D-B15EFBAF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482-9898-4AE0-BAFF-2537EF8B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EB9-FA91-487C-A328-28632EDA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138-DB2C-4866-B2CB-103D911C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5F3-183E-426C-B10C-D34CDA14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453-9627-4F1D-9019-3FB1B364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1C6-F957-4C77-8AE8-4A34B8C3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525-56E4-47D0-9AA7-64A7CD19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29D-71B4-49B7-BD8F-34229B5B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C4D-45ED-4811-A13E-3E907D62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AE4-8795-4F6C-B927-66B0687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F29-0CE8-4554-BFB3-710AE02A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3FE63F-C09B-414C-832E-F9B6CBBE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943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2-000m-revmc-mac-comments.xls" TargetMode="External"/><Relationship Id="rId2" Type="http://schemas.openxmlformats.org/officeDocument/2006/relationships/hyperlink" Target="https://mentor.ieee.org/802.11/dcn/13/11-13-0562-10-000m-gen-adhoc-lb193-comment-resolutions.xlsx" TargetMode="External"/><Relationship Id="rId3" Type="http://schemas.openxmlformats.org/officeDocument/2006/relationships/hyperlink" Target="https://mentor.ieee.org/802.11/dcn/13/11-13-0937-02-000m-proposed-pre-ballot-changes-related-to-11ad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2-000m-revmc-mac-comments.xls" TargetMode="External"/><Relationship Id="rId2" Type="http://schemas.openxmlformats.org/officeDocument/2006/relationships/hyperlink" Target="https://mentor.ieee.org/802.11/dcn/13/11-13-0562-10-000m-gen-adhoc-lb193-comment-resolutions.xlsx" TargetMode="External"/><Relationship Id="rId3" Type="http://schemas.openxmlformats.org/officeDocument/2006/relationships/hyperlink" Target="https://mentor.ieee.org/802.11/dcn/13/11-13-0954-01-000m-fast-link-adaptation-contradiction-resolution.docx" TargetMode="External"/><Relationship Id="rId4" Type="http://schemas.openxmlformats.org/officeDocument/2006/relationships/hyperlink" Target="https://mentor.ieee.org/802.11/dcn/13/11-13-0703-02-000m-mib-addition-in-support-of-3gpp-manageability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16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0-000m-revmc-mac-comments.xls" TargetMode="External"/><Relationship Id="rId2" Type="http://schemas.openxmlformats.org/officeDocument/2006/relationships/hyperlink" Target="https://mentor.ieee.org/802.11/dcn/13/11-13-0562-06-000m-gen-adhoc-lb193-comment-resolutions.xlsx" TargetMode="External"/><Relationship Id="rId3" Type="http://schemas.openxmlformats.org/officeDocument/2006/relationships/hyperlink" Target="https://mentor.ieee.org/802.11/dcn/13/11-13-0123-04-000m-iso-jtc1-sc6-8802-11-2012-comments.xls" TargetMode="External"/><Relationship Id="rId4" Type="http://schemas.openxmlformats.org/officeDocument/2006/relationships/hyperlink" Target="https://mentor.ieee.org/802.11/dcn/13/11-13-1173-00-000m-gcm-is-missing-from-the-pseudocode.docx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697-00-000m-revmc-minutes-for-july-2013-geneva.docx" TargetMode="External"/><Relationship Id="rId2" Type="http://schemas.openxmlformats.org/officeDocument/2006/relationships/hyperlink" Target="https://mentor.ieee.org/802.11/dcn/13/11-13-0982-02-000m-revmc-telecon-minutes-for-aug-sept-2013.docx" TargetMode="External"/><Relationship Id="rId3" Type="http://schemas.openxmlformats.org/officeDocument/2006/relationships/hyperlink" Target="https://mentor.ieee.org/802.11/dcn/13/11-13-0095-05-000m-editor-repor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2B5D27B-A7AB-4D04-AD18-058755B14C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Septembe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9-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4A443F5-EC08-4559-AAC7-44CA48DAC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34   – Geneva, Telec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2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“Motion MAC-M”  tab, changing “11-13/1017r1” to “11-13/1017r2” in the resolutions to CIDs 1154, 263, 314, and 32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10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Geneva B”  and “Gen Motion Telecon Aug-Sept” tabs (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37-02-000m-proposed-pre-ballot-changes-related-to-11ad-text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1ad text cor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Adrian Stephe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Mike Montemur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9-0-0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98305B1-B98D-41F2-8F64-69128CD306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35   – Monday, Tuesd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2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Motion MAC-N”  ta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10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Nanjing A”, except for CID 1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4644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54-01-000m-fast-link-adaptation-contradiction-resolution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1ad text corrections)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94644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703-02-000m-mib-addition-in-support-of-3gpp-manageability.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Mark Hamilt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Carlos Cordie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11-0-0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F413ACF-CF55-4A3C-B66D-D5586B033D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36 – Editor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16-000m-revmc-wg-ballot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Editor Motion A” and “Editor Motion B” t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Adrian Stephe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Mike Montemu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11-0-0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E6B08D8-9322-4090-9428-DEBE7347C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W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5480" indent="-277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0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Motion MAC-O” tab,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5480" indent="-277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06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Nanjing B”, 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7560" indent="-277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lve comment CH11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123-04-000m-iso-jtc1-sc6-8802-11-2012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“Revised” with a reason of “Incorporate the text changes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1173-00-000m-gcm-is-missing-from-the-pseudocode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 and incorporate the indicated changes into the TGmc dra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833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960F435-C052-411A-BB15-7D5AF1987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Thu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://mentor.ieee.org/802.11/dcn/13/11-13-0361-10-000m-revmc-mac-comments.xls “Motion MAC-P” tab,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88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 the TGmc editor to prepare P802.11mc D2.0 from P802.11mc D1.6 according to changes approved by TGmc at this session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a 20 day working group technical letter ballot asking the question “Should P802.11mc_D2.0 be forwarded to Sponsor Ballot?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(Thur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98EFD2-1A7C-4AA7-B4FE-4C42919BF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2050312-E732-4BC4-9D87-C8D6670F31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t - Nov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 1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ility of 11mc in the IEEE st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0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after ballot comple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draf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EA244237-C6BF-4FCF-A843-BA8B969643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1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E9F6A8C-0DC0-4F8F-A695-97786A658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September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ACE6CD5-6BB5-4D48-93F5-7E85DDA40C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2952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: 11-13-1009 – Mark Hamil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29528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SO CID 11-13-123, 11-13-1173 - 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60 GEN/J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915080"/>
            <a:ext cx="3962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,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Nov, 11mc in IEEE store, 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8862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99 – CID 166 –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C comments – Mark 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33360" y="4800600"/>
            <a:ext cx="42386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70 – Adr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R– 11-13-1178 - Nav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448r1-Ma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2819520"/>
            <a:ext cx="420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60 GEN/J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11-13-875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99 – CID 166 –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276720"/>
            <a:ext cx="397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CID 12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954 – Solo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652r14, 703r1- Ad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0012, 0013 –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795EF1E-3C1B-4B77-A7D3-01F1AFE8DD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4FDDE920-4282-40D0-8D8C-33E8537F94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05BEE89-1516-4E0B-8382-B33EC2B6AE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F6CF8692-45A9-4ADE-8DF1-19498CFD52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C8BA1A0-989C-46B1-87E1-2A188B445F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ECBDA26D-7907-4230-A7B0-67E2312E32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697-00-000m-revmc-minutes-for-july-2013-geneva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982-02-000m-revmc-telecon-minutes-for-aug-sept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095-05-000m-editor-reports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B9B7915-0940-45CF-B3B8-04E5DD714B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4E2EC0E-D637-4139-8127-E901EEAE11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tter Ballot on D3.0 (includes 11ac) March 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tegrate into D3.0 or D4.0/D5.0 (After initial 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EEF74432-749D-4372-A763-A1CB4173A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1-13-0233 (latest 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9-18T12:07:06Z</dcterms:modified>
  <cp:revision>1396</cp:revision>
  <dc:subject/>
  <dc:title>TGm Agenda</dc:title>
</cp:coreProperties>
</file>