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399B5A-7BD0-4DCE-AF8B-CCE82ABF6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BF0E004-107F-46CA-8BE8-18721F994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EABBD4D8-341F-43B6-AEBE-5F91D2386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B571BC4-095E-458A-A3B6-FE63B229F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075C656-47FB-4CA8-B304-DA7DD4287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6CCECAD-B824-429D-AD37-D0C19A080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807713F-18A0-4A80-9BBF-556057FC5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7D417D-0ACA-46A8-B605-32734814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1C3A644-F872-44B7-BCEF-51D00DE163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4ABC84C-C2FC-4418-85E0-0ECEB3BB87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EB5E20E-30E2-4236-99A3-AE4B02C97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8DEA4E50-2D2B-4A39-B3A5-7CC8CDFE2C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B8E1FE8-3FB7-43B8-97D7-A192F3D23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517C57B-A328-4B64-8BB5-3B4F74015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7DC2824-C1EC-424E-A3DA-E62BBDBD4D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7A961AA8-D30A-4FD8-9857-D6FF3959E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75CFC02-6116-4671-B251-490DF6006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A0836D68-BD35-45E9-AFF7-3EE8426BC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8137277-9527-4CFE-AB8D-990D0F5A7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89BE7D8D-AB60-4489-AA13-B440A309B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C0AADAB-3170-45AA-B0F8-475D28574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766-DC09-44EC-913E-5E7389A2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6BB-E683-448B-80A5-74CF1C0F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26A-A89B-472C-8FF1-1C361386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40A-E6D6-4B67-B42B-88D2C9AB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783-E6C4-450E-8646-A001263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523-CC30-4E1F-9A5A-8D7B2E77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C0D-BBC3-4970-903C-3763952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09D-30F6-45F2-97B5-DB8AA6B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F0C-EBB5-40C7-8D21-D21AB71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672-07B8-483C-BDBA-56543E0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A70-E7B3-41EF-A93D-64CA48D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611-F9FE-4ED0-8685-EF54714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5A1532-F9D0-4B68-A046-BE406515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0943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37-02-000m-proposed-pre-ballot-changes-related-to-11ad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2-000m-revmc-mac-comments.xls" TargetMode="External"/><Relationship Id="rId2" Type="http://schemas.openxmlformats.org/officeDocument/2006/relationships/hyperlink" Target="https://mentor.ieee.org/802.11/dcn/13/11-13-0562-10-000m-gen-adhoc-lb193-comment-resolutions.xlsx" TargetMode="External"/><Relationship Id="rId3" Type="http://schemas.openxmlformats.org/officeDocument/2006/relationships/hyperlink" Target="https://mentor.ieee.org/802.11/dcn/13/11-13-0954-01-000m-fast-link-adaptation-contradiction-resolution.docx" TargetMode="External"/><Relationship Id="rId4" Type="http://schemas.openxmlformats.org/officeDocument/2006/relationships/hyperlink" Target="https://mentor.ieee.org/802.11/dcn/13/11-13-0703-02-000m-mib-addition-in-support-of-3gpp-manageability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233-16-000m-revmc-wg-ballot-comments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361-10-000m-revmc-mac-comments.xls" TargetMode="External"/><Relationship Id="rId2" Type="http://schemas.openxmlformats.org/officeDocument/2006/relationships/hyperlink" Target="https://mentor.ieee.org/802.11/dcn/13/11-13-0562-06-000m-gen-adhoc-lb193-comment-resolutions.xlsx" TargetMode="External"/><Relationship Id="rId3" Type="http://schemas.openxmlformats.org/officeDocument/2006/relationships/hyperlink" Target="https://mentor.ieee.org/802.11/dcn/13/11-13-0123-04-000m-iso-jtc1-sc6-8802-11-2012-comments.xls" TargetMode="External"/><Relationship Id="rId4" Type="http://schemas.openxmlformats.org/officeDocument/2006/relationships/hyperlink" Target="https://mentor.ieee.org/802.11/dcn/13/11-13-1173-00-000m-gcm-is-missing-from-the-pseudocode.docx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697-00-000m-revmc-minutes-for-july-2013-geneva.docx" TargetMode="External"/><Relationship Id="rId2" Type="http://schemas.openxmlformats.org/officeDocument/2006/relationships/hyperlink" Target="https://mentor.ieee.org/802.11/dcn/13/11-13-0982-02-000m-revmc-telecon-minutes-for-aug-sept-2013.docx" TargetMode="External"/><Relationship Id="rId3" Type="http://schemas.openxmlformats.org/officeDocument/2006/relationships/hyperlink" Target="https://mentor.ieee.org/802.11/dcn/13/11-13-0095-05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B9F5610-1383-42DB-95C4-06A71D815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Sept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9-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21F40AD-7328-499C-8F86-12F6A3A8F9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4   – Geneva,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“Motion MAC-M”  tab, changing “11-13/1017r1” to “11-13/1017r2” in the resolutions to CIDs 1154, 263, 314, and 32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Geneva B”  and “Gen Motion Telecon Aug-Sept” tabs (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560" indent="-31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37-02-000m-proposed-pre-ballot-changes-related-to-11ad-text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text cor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Adrian Steph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Mike Montemur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9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E9255F8-F8D1-4356-80D8-60CAF3B45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5 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2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N”  ta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10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A”, except for CID 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0720" indent="-315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ncorporate the text changes indica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954-01-000m-fast-link-adaptation-contradiction-resolution.doc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1ad text corrections)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94644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0703-02-000m-mib-addition-in-support-of-3gpp-manageability.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Mark Hamilt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Carlos Cordi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1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CBA753A-D662-47B1-B0B4-403C24B14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6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233-16-000m-revmc-wg-ballot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Editor Motion A” and “Editor Motion B” 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Adrian Steph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Mike Montemu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1-0-0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090E22D-8A17-4D86-9801-C15F39A43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W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lvl="1"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548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361-10-000m-revmc-mac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Motion MAC-O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548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562-06-000m-gen-adhoc-lb193-comment-resolutions.xls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Gen Motion Nanjing B”, 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7560" indent="-277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 comment CH11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123-04-000m-iso-jtc1-sc6-8802-11-2012-comments.x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“Revised” with a reason of “Incorporate the text changes in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mentor.ieee.org/802.11/dcn/13/11-13-1173-00-000m-gcm-is-missing-from-the-pseudocode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 and incorporate the indicated changes into the TGmc dr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833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57CD2B2-694B-4C75-AC2E-88CCAF5BE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Thu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mentor.ieee.org/802.11/dcn/13/11-13-0361-10-000m-revmc-mac-comments.xls “Motion MAC-P” tab, (M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 the TGmc editor to prepare P802.11mc D2.0 from P802.11mc D1.6 according to changes approved by TGmc at this session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a 20 day working group technical letter ballot asking the question “Should P802.11mc_D2.0 be forwarded to Sponsor Ballot?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(Thur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BB4323-7AB8-4307-8C92-75320DCD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467A692-4E71-4076-B72B-F1B9799DF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 - Nov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 1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– n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dra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B92F26F-C76F-4428-BC5F-1738E97D9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D50C346-3373-468B-B83E-9BBEFBD83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Sept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E58EF9B-7394-4390-996E-E88863E31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: 11-13-1009 – Mark Hamil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- 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 CID 11-13-123, 11-13-1173 - 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915080"/>
            <a:ext cx="3962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,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Nov, 11mc in IEEE store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8862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C comments – Mark 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333360" y="4800600"/>
            <a:ext cx="4238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70 – Adr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R– 11-13-1178 - Nav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448r1-Ma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81952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60 GEN/J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11-13-875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1199 – CID 166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 – CID 1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954 – Solo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652r14, 703r1- Ad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1-13-0012, 0013 – G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49574F2-9165-4F75-AE55-7C33AE725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BE44C1C-2C3F-4E80-A509-92AD7F01B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DEDA37D-8981-4FD1-A0AA-183C2D927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BBF95D1E-9CF6-4569-84FF-DFBC22A7F1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3CE112C-D1F5-4CA7-BD27-E73C382EE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B00CE5FA-CADF-4A4B-9B11-2A2A3D048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0697-00-000m-revmc-minutes-for-july-2013-geneva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982-02-000m-revmc-telecon-minutes-for-aug-sept-2013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5-000m-editor-reports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F50AD191-E922-4B07-AE4B-9C0A35DCC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8A526D5-445F-4E21-A0A4-4AFC989F8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into D3.0 or D4.0/D5.0 (After initial 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pt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7A4C298-6063-45EC-BEF1-8D32CC708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the “Needs Submission” Category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comments with “Needs Submission” in Ad-Hoc status category (Column W)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1-13-0233 (latest 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CIDs that should not be so categoriz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, please notify the ch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submission to com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submission received, reject comment with “insufficient detail provided”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09-18T12:07:06Z</dcterms:modified>
  <cp:revision>1396</cp:revision>
  <dc:subject/>
  <dc:title>TGm Agenda</dc:title>
</cp:coreProperties>
</file>