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3E3745-4639-4B98-B0C9-D7B08E95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B1003EA-02D2-47DC-953F-BA4946FFC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6D73660-3AEF-41BE-A97C-0FC6E5332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3DCC08B-6306-4372-A54A-B8076E211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EFD5952-CBE8-4517-9DEC-6161B469ED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386CFCA-E441-4B9C-9C50-3BB3D2BB1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9D2021-6D7B-4DC9-B8FB-6166C4E9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C3027D2-C620-49E9-9659-29F1054F5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9420578C-C9D0-47BF-B8FA-1779852EA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E26962E-6B75-49B8-B65E-DAE980272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1014012-7EFC-456E-87F9-61D720FA4F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80318AD6-32EA-44E1-98CF-4150652B8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3AD0A46-1068-425D-ABBD-0684C5BE9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D9BCD67-FF48-43AA-A905-0A4C347CB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7E67E7AF-CD22-46ED-BF3B-ADE743BC8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1408F8A-5FD6-41B8-9B70-B9BC4A56D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EC2F91B8-EE40-4501-987F-3EC036C21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01E4E52-BA4B-48C9-85D4-9BDD6DD9DB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0E97D93-AE39-433B-B990-B87AFA73E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5CBE7F0-7A60-4A5B-B116-AA3EACFD7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4CC-8784-4814-8D4A-E4A414B1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DAF-493D-4ADD-88F8-1312C432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329-CC45-48D3-8483-ECB21800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EE5-2CF4-4A66-947A-2F0C4558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C5F-8FD8-41A6-90E7-B058160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F71-4681-4CF0-85A8-8034BC1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CA0-71D2-4FB9-80FE-93C2C59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1FA-54B3-4FD9-8838-FBDE246E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A45-7594-4D77-A4F2-9452D80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8F2-CEDF-4B68-97CA-D157EE05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379-2633-4F1A-A0EE-9FB6F2C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8FB-A943-48B1-AC75-C1D65101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6713C1-15B6-4535-897B-BB352148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54-01-000m-fast-link-adaptation-contradiction-resolution.docx" TargetMode="External"/><Relationship Id="rId4" Type="http://schemas.openxmlformats.org/officeDocument/2006/relationships/hyperlink" Target="https://mentor.ieee.org/802.11/dcn/13/11-13-0703-02-000m-mib-addition-in-support-of-3gpp-manageability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16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233-12-000m-revmc-wg-ballot-comments.xl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982-02-000m-revmc-telecon-minutes-for-aug-sept-2013.docx" TargetMode="External"/><Relationship Id="rId3" Type="http://schemas.openxmlformats.org/officeDocument/2006/relationships/hyperlink" Target="https://mentor.ieee.org/802.11/dcn/13/11-13-0095-05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305444A-D83F-42A7-99B8-AFAD7735B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6DE2FEB-885D-4507-8424-6F98E51BB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Geneva,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“Motion MAC-N”  tab, changing “11-13/1017r1” to “11-13/1017r2” in the resolutions to CIDs 1054, 263, 314, and 32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Geneva B”  and “Gen Motion Telecon Aug-Sept” tabs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DFD8568-5829-4F2E-8A2B-FF7A09BBD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N”  ta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A”, except for CID 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54-01-000m-fast-link-adaptation-contradiction-resolution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1ad text corrections)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703-02-000m-mib-addition-in-support-of-3gpp-manageability.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C327B7A-B584-4A36-ADEE-E0467CD07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16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Editor Motion A” and “Editor Motion B” 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9320B1E-A926-42F6-9062-EFADA799FE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, tab  (GEN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325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233-12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tbd” tab (Edito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782631-755E-4236-88A8-CA8D0AAF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1F3A94E-95CE-4905-84B6-D77218D28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dra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0C41CF9-BB15-4247-848C-4665AA452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7929533-0932-46DB-B229-8BB3DD78A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8EA58EE-ED56-4886-A91B-526D3E626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4479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ID 11-13-123, 11-13-1173 - 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915080"/>
            <a:ext cx="3962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,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Nov, 11mc in IEEE store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41148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4800600"/>
            <a:ext cx="4238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70 – Adr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R– 11-13-1178 - Nav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48r1-Ma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304812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11-13-875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-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ID 1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, 703r1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0012, 0013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A738145-DB1E-4145-8278-9840A7670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FF8DE6B-C726-4148-B8AE-12921444F5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8E22AC8-87F1-4DCA-B88C-CB47D05FC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AEF709B1-F3DE-4D0A-861A-D27F6179C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8ADDA29-8219-4B36-9DAB-C91153405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2CA684CC-44B3-4E64-8DBB-4ECE9709F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982-02-000m-revmc-telecon-minutes-for-aug-sept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E1E7891-8F2D-40D5-9180-1ED5199B7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8066161-9D90-4FA7-AD2C-4ABB3F0D2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into D3.0 or D4.0/D5.0 (After initial 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1E1F418-6836-4FAC-B6A0-F24C5D7F9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1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8T03:45:26Z</dcterms:modified>
  <cp:revision>1384</cp:revision>
  <dc:subject/>
  <dc:title>TGm Agenda</dc:title>
</cp:coreProperties>
</file>