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08757A-4A31-4BEA-B698-D14F33DB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9A52809-7F14-49A3-B7E2-3C452411C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CC071A2-A002-4FF8-A0B7-526E65BB5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87640F7E-BF50-4212-839A-BEC457331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69B42D7-F8B7-47FC-968F-9E06291B5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EBF13E5-91FE-464A-868E-977C22D52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4BBCA0-E75D-4B12-8B0C-82E3EEC0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DB7E03E-CE42-41C5-BFA9-E9DCABB18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583CD91-D5DB-46ED-BE3C-E928A3566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96B639C-22D4-408B-8D73-24F41FC16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8F8BDA7-63BF-448E-BF4B-E72EFDF4D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D29DA02-2090-490B-81AD-9FAB40C3C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FA41390-9170-487D-A325-9F60638A25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D208815-D4EF-4030-A2D2-E8DF9CC2E8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7682F8DB-3DCC-46E7-ABBD-1886126ED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869DB62-D838-4DC6-AAB6-7810B0390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F476554D-A8A8-42AB-B88F-DF9CB6E20A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02F0E7D-0FFB-40E2-A38F-B7618CE6B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B38161E-D4C8-4E3D-A16C-8FBE87FDB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1C8AD61-9944-4686-A51E-66EF9F56E1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9EF-04EA-46B8-A0E3-6ED8FE6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32C-CF87-485F-99F5-D943A9A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5F5-7AC8-4AB5-BE74-D4C783B4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497-6D04-430B-83C5-B14DC89D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4CB-1621-46E6-97E0-56949167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B2B-62BC-475A-9738-7A41963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FEA-FC8E-4FB2-B26A-E7D1A86A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200-66CE-410D-810A-46C23A8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CA4-6D10-474A-8A1B-E3BE529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987-035E-4497-AF91-4015008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E50-59FE-47F5-A28E-45DF270E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882-C2D8-453B-83CA-03D778A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498B63-7193-47AB-8CE8-48B4DC0A2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54-01-000m-fast-link-adaptation-contradiction-resolution.docx" TargetMode="External"/><Relationship Id="rId4" Type="http://schemas.openxmlformats.org/officeDocument/2006/relationships/hyperlink" Target="https://mentor.ieee.org/802.11/dcn/13/11-13-0703-02-000m-mib-addition-in-support-of-3gpp-manageability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16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233-12-000m-revmc-wg-ballot-comments.xl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982-02-000m-revmc-telecon-minutes-for-aug-sept-2013.docx" TargetMode="External"/><Relationship Id="rId3" Type="http://schemas.openxmlformats.org/officeDocument/2006/relationships/hyperlink" Target="https://mentor.ieee.org/802.11/dcn/13/11-13-0095-05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0A1EA36-66DC-4A83-8020-BBE1D9658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0166879-0AEC-48BB-840C-A671B2176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Geneva,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“Motion MAC-N”  tab, changing “11-13/1017r1” to “11-13/1017r2” in the resolutions to CIDs 1054, 263, 314, and 32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Geneva B”  and “Gen Motion Telecon Aug-Sept” tabs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956F545-6795-46DB-A0D7-0E5B137E2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N”  ta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A”, except for CID 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54-01-000m-fast-link-adaptation-contradiction-resolution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1ad text corrections)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703-02-000m-mib-addition-in-support-of-3gpp-manageability.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F20C5EE-39F9-43FD-AAA7-50F84CA6CC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16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Editor Motion A” and “Editor Motion B” 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764EC30-257F-4C8A-8ABF-F99579F805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, tab  (GEN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233-12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 (Edito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4AD30E-F755-4F77-80E4-A9CBCE55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E4618BE-BC64-489C-8FC8-6565906EA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dra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EEF5AE3-9B99-472D-A19B-58BD2CB92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1DB0116-4974-4002-A3E2-1DE5D3485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D4ECE76-2154-4962-92D9-A75176592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4479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ID 11-13-123, 11-13-1173 - 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915080"/>
            <a:ext cx="3962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,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Nov, 11mc in IEEE store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41148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4800600"/>
            <a:ext cx="4238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70 – Adr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R– 11-13-1178 - Nav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48r1-Ma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304812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11-13-875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-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ID 1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, 703r1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0012, 0013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4E2FED8-5DF5-43B8-8DBA-53E4D2497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187B251-6657-4BF7-8016-0920CABE8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9454CCE-F9F3-4401-A8DA-CAE45C182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30085212-10F4-4861-9E06-DCAB4214C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857C6DE-7EB4-4D32-A1D2-28B74B618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0F9074A1-15D7-4496-9D9D-B8F9A99138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982-02-000m-revmc-telecon-minutes-for-aug-sept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2C515BF-67A1-431D-A969-680D14CA4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573FEC6-85A3-43F0-9962-AF60003E89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into D3.0 or D4.0/D5.0 (After initial 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C87999A-B3B9-443D-9EEF-B42F382F29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1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8T03:45:26Z</dcterms:modified>
  <cp:revision>1384</cp:revision>
  <dc:subject/>
  <dc:title>TGm Agenda</dc:title>
</cp:coreProperties>
</file>