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DC0F50-2CFA-4FDF-995C-1A1694C9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4800C5F-7904-465C-B470-4186D97E4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7FA6A68-C874-4A3C-B7F1-00BB614FBC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2C9B58F-FB4A-4F75-AD3E-25A0474C1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E81764-CEB4-4140-B395-8019E006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66904D7-252C-4C8E-9029-7B8E5590C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2936BAD-8662-485E-A589-E7622E4F99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8D613F4-8EBF-4C3A-AC43-E3EF8571D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B664C12-599D-4653-8144-BFC92F8FB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461B2C5-2D35-4F42-859D-77DB10E61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91A9BECC-DE60-49F3-BABB-8FDE593DDD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5A3E184-B29B-4881-B9C3-2A146455A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0B513675-7791-4387-8F2F-913777174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904E140E-C1CE-43B9-97B4-5D831FC1E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FDF527D9-E531-493E-99CF-73649063A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8A7460F-1CD9-40D6-B08A-45707B3BA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8B41F598-AB85-46A1-B109-0A24224E2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E580744-D6B1-4F87-8E74-33DB0B3A7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B82-02D2-4C5C-BFCC-FD121EF3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DDA-5F45-4CE8-9FE1-FF1BAD42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7E4-79A8-432C-8E7D-7F27A9BF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30C-8505-48A0-85E7-A467B2C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1BC-FBCB-41F3-9A1E-A2B9A89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D7A-84C3-4176-9B5D-C1635166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E34-4D84-461B-94AA-7DAA1D48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3EF-1458-41CA-9C1E-4AA73A4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E4B-DA4F-4081-9B62-FE7FD2B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B24-CEEA-4DF7-BD3B-A5C9264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BB0-AA77-49C8-91AC-11ED832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2AE-C025-4518-A486-3037105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DD14D5-E4B6-4652-9B4A-514BF68E5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943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09-000m-revmc-mac-comments.xls" TargetMode="External"/><Relationship Id="rId2" Type="http://schemas.openxmlformats.org/officeDocument/2006/relationships/hyperlink" Target="https://mentor.ieee.org/802.11/dcn/13/11-13-0562-05-000m-gen-adhoc-lb193-comment-resolutions.xlsx" TargetMode="External"/><Relationship Id="rId3" Type="http://schemas.openxmlformats.org/officeDocument/2006/relationships/hyperlink" Target="https://mentor.ieee.org/802.11/dcn/13/11-13-0937-02-000m-proposed-pre-ballot-changes-related-to-11ad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0-000m-revmc-mac-comments.xls" TargetMode="External"/><Relationship Id="rId2" Type="http://schemas.openxmlformats.org/officeDocument/2006/relationships/hyperlink" Target="https://mentor.ieee.org/802.11/dcn/13/11-13-0562-06-000m-gen-adhoc-lb193-comment-resolutions.xlsx" TargetMode="External"/><Relationship Id="rId3" Type="http://schemas.openxmlformats.org/officeDocument/2006/relationships/hyperlink" Target="https://mentor.ieee.org/802.11/dcn/13/11-13-0233-12-000m-revmc-wg-ballot-comments.xl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697-00-000m-revmc-minutes-for-july-2013-geneva.docx" TargetMode="External"/><Relationship Id="rId2" Type="http://schemas.openxmlformats.org/officeDocument/2006/relationships/hyperlink" Target="https://mentor.ieee.org/802.11/dcn/13/11-13-0095-05-000m-editor-repor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E1531E1-0FB5-4DB5-8C23-AE75D71A50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Sept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9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8F5E5BE-C03E-4F20-AFD6-130030559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– Telecons, Monday CID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339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09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 tab and “tbd” tab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339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5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 tab (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339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37-02-000m-proposed-pre-ballot-changes-related-to-11ad-text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text cor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8DF585F-F0A1-48F7-BBA0-2A8EF6DEA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Tues + W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0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6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, tab  (GEN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233-12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 (Edito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 the TGmc editor to prepare P802.11mc D2.0 from P802.11mc D1.6 according to changes approved by TGmc at this session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a 20 day working group technical letter ballot asking the question “Should P802.11mc_D2.0 be forwarded to Sponsor Ballot?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(Thurs PM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40FBA7-B5EC-49FF-A85D-87729CA8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7C7D05B-12EB-4210-AB19-047F588089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 - Nov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 1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BE3419C-4B94-4B89-8EC0-545213776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80439C0-D9A8-4F19-925E-58CFD2E8FE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Sept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45A459B-9AA9-43C8-8BCD-9EC135BDA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447920"/>
            <a:ext cx="4238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: 11-13-1009 – Mark Hamil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4479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 Comments 11-13-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533840"/>
            <a:ext cx="3962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 Plans for Nov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58128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33360" y="5029200"/>
            <a:ext cx="40006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26668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600360"/>
            <a:ext cx="39718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954 – Solo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652r14- Ad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C1DF379-9640-44E4-B20A-A908E11790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F5D23AD-318A-48B0-A16C-BFE976A35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4D73835-C394-46C2-BF58-F4956CD80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C1AE6521-185B-4771-94AB-A958CE256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2DBFDC2-6F6D-4775-93C7-FBD04B958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B8673A19-3930-4438-8966-02B52E6DF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697-00-000m-revmc-minutes-for-july-2013-geneva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095-05-000m-editor-report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204B601-B0DB-42D7-8FA5-A19E7FDFA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D0FFA29-9118-4C9E-B395-859676291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B878914-886D-4FAA-910D-4A43BFDFF8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1-3-0233 (latest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9-15T10:51:16Z</dcterms:modified>
  <cp:revision>1359</cp:revision>
  <dc:subject/>
  <dc:title>TGm Agenda</dc:title>
</cp:coreProperties>
</file>