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9120" y="9000720"/>
            <a:ext cx="92412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5E01F65-E399-4D7E-BB32-963E63CC8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41520" y="29700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309077E2-9E6A-4040-9643-DE671C51FB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D60CB996-4163-47FF-B8DE-D3C5FDA8C3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AD458A7F-B05D-41AD-A3E3-DDDC878509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Date Placeholder 4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13D059-6C2C-49F9-9C30-91C103820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6DFA416B-B923-42BE-A5CD-BB8284B52F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7FD73DEF-F1A3-4E6C-BC11-28322D05B6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4DD7CC62-025B-45B5-9189-E306D28D14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F64E0A67-40E5-4A37-BBB3-D2E4EE70AA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BCFF7FC7-2004-4F02-9920-062DF286C5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C985BAD4-C081-46BA-82E1-34352AAA4C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EC31BAD1-5AD0-4693-9880-0B45C284DA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E84954B0-38B5-471A-87F5-B6855FECFB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EFFC3729-6A6A-4945-BB08-2D42D8AC9B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3A42A662-269E-405D-A7E1-8860499496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B0B28216-7F40-4645-8C8F-AA50F6579D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371556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0382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330012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068817E1-1793-47B9-9F38-09BAF7C60E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288B04DB-7B73-41B0-94F3-E56212F21C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0D59-860E-44A5-9388-93D2FA14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4687-51DF-48E5-AC8B-AA7F9D90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02B-C512-49C2-A52F-6BA26711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CF8-F343-4312-9954-C0CBADBA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8419-108E-4743-8B88-5415ABF5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326-57CF-464B-ACC7-958A8047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E3C-5A8A-45F9-ABF2-2D3D4819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497-1ABA-4F4A-9F7E-55EB3AD1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3AAF-052A-4AD1-9889-D3FF8926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75C-6157-4F6B-BE17-95B77850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765-BD4A-4CB2-ABCE-63787F3A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4F71-3CBB-4190-9B5D-C5F34DA4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C34167F-5C73-4020-98AF-81C6A3B2B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0943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361-09-000m-revmc-mac-comments.xls" TargetMode="External"/><Relationship Id="rId2" Type="http://schemas.openxmlformats.org/officeDocument/2006/relationships/hyperlink" Target="https://mentor.ieee.org/802.11/dcn/13/11-13-0562-05-000m-gen-adhoc-lb193-comment-resolutions.xlsx" TargetMode="External"/><Relationship Id="rId3" Type="http://schemas.openxmlformats.org/officeDocument/2006/relationships/hyperlink" Target="https://mentor.ieee.org/802.11/dcn/13/11-13-0937-02-000m-proposed-pre-ballot-changes-related-to-11ad-text.docx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361-10-000m-revmc-mac-comments.xls" TargetMode="External"/><Relationship Id="rId2" Type="http://schemas.openxmlformats.org/officeDocument/2006/relationships/hyperlink" Target="https://mentor.ieee.org/802.11/dcn/13/11-13-0562-06-000m-gen-adhoc-lb193-comment-resolutions.xlsx" TargetMode="External"/><Relationship Id="rId3" Type="http://schemas.openxmlformats.org/officeDocument/2006/relationships/hyperlink" Target="https://mentor.ieee.org/802.11/dcn/13/11-13-0233-12-000m-revmc-wg-ballot-comments.xl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hyperlink" Target="http://standards.ieee.org/board/pat/faq.pdf" TargetMode="External"/><Relationship Id="rId3" Type="http://schemas.openxmlformats.org/officeDocument/2006/relationships/hyperlink" Target="http://standards.ieee.org/board/pat/loa.pdf" TargetMode="External"/><Relationship Id="rId4" Type="http://schemas.openxmlformats.org/officeDocument/2006/relationships/hyperlink" Target="http://standards.ieee.org/faqs/affiliationFAQ.html" TargetMode="External"/><Relationship Id="rId5" Type="http://schemas.openxmlformats.org/officeDocument/2006/relationships/hyperlink" Target="http://standards.ieee.org/resources/antitrust-guidelines.pdf" TargetMode="External"/><Relationship Id="rId6" Type="http://schemas.openxmlformats.org/officeDocument/2006/relationships/hyperlink" Target="http://www.ieee.org/portal/cms_docs/about/CoE_poster.pdf" TargetMode="External"/><Relationship Id="rId7" Type="http://schemas.openxmlformats.org/officeDocument/2006/relationships/hyperlink" Target="https://mentor.ieee.org/802.11/public-file/07/11-07-0360-04-0000-802-11-policies-and-procedures.doc" TargetMode="External"/><Relationship Id="rId8" Type="http://schemas.openxmlformats.org/officeDocument/2006/relationships/hyperlink" Target="https://mentor.ieee.org/802-ec/dcn/09/ec-09-0007-02-00EC-draft-lmsc-wg-p-p.pdf" TargetMode="External"/><Relationship Id="rId9" Type="http://schemas.openxmlformats.org/officeDocument/2006/relationships/hyperlink" Target="https://mentor.ieee.org/802-ec/dcn/09/ec-09-0005-02-00EC-draft-revised-lmsc-p-p-for-wg-p-p-ballot.pdf" TargetMode="External"/><Relationship Id="rId10" Type="http://schemas.openxmlformats.org/officeDocument/2006/relationships/hyperlink" Target="https://mentor.ieee.org/802-ec/dcn/09/ec-09-0006-02-00EC-draft-revision-of-the-lmsc-om-for-wg-p-p.pdf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" TargetMode="External"/><Relationship Id="rId2" Type="http://schemas.openxmlformats.org/officeDocument/2006/relationships/hyperlink" Target="http://mentor.ieee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697-00-000m-revmc-minutes-for-july-2013-geneva.docx" TargetMode="External"/><Relationship Id="rId2" Type="http://schemas.openxmlformats.org/officeDocument/2006/relationships/hyperlink" Target="https://mentor.ieee.org/802.11/dcn/13/11-13-0095-05-000m-editor-reports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B5332E89-497E-412D-97D2-A4306A7D25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TGmc September 2013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09-1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"/>
          <p:cNvGraphicFramePr/>
          <p:nvPr/>
        </p:nvGraphicFramePr>
        <p:xfrm>
          <a:off x="519120" y="2273400"/>
          <a:ext cx="822960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2273400"/>
                    <a:ext cx="82296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F48535F1-3FDB-42DE-B679-E00691AAD5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 – Telecons, Monday CID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s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78600" indent="-339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361-09-000m-revmc-mac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tbd”  tab and “tbd” tab (MA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78600" indent="-339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562-05-000m-gen-adhoc-lb193-comment-resolutions.xls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tbd”  tab (G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78600" indent="-339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incorporate the text changes indicated in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937-02-000m-proposed-pre-ballot-changes-related-to-11ad-text.doc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11ad text corre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639CFF31-2418-4999-B15C-8DDB8963ED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– Tues + We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 to comment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325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361-10-000m-revmc-mac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tbd” tab, (MA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325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562-06-000m-gen-adhoc-lb193-comment-resolutions.xls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tbd”, tab  (GEN)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325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233-12-000m-revmc-wg-ballot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tbd” tab (Edito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ruct the TGmc editor to prepare P802.11mc D2.0 from P802.11mc D1.6 according to changes approved by TGmc at this session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a 20 day working group technical letter ballot asking the question “Should P802.11mc_D2.0 be forwarded to Sponsor Ballot?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 (Thurs PM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E437FA6-1F14-4E4E-89A2-0DD6AC984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1CEC38C1-BF73-4738-BD49-3AB749284E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pt - Nov Meeting Plan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Calls 10am Eastern  2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 1,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-Hoc meeting – n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e revie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72DECEA3-8FFF-46B5-94F0-93C3BE3B2E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0594-02-0000-revision-par-proposal-for-802-11-2012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09/11-09-0002-12-0000-802-11-operations-manual.do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1082-17-0000-revmc-pre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3/11-13-0233-13-000m-revmc-wg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33A0BE9D-7B07-417C-8079-6CA0C20D28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contains the IEEE 802.11 TGmc agenda for the September 2013 s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9AD01483-7D78-4F4D-B044-D7E6950696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mc Ag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80880" y="6019920"/>
            <a:ext cx="83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tendance reminder: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s://murphy.events.ieee.org/ima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cuments: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2"/>
              </a:rPr>
              <a:t>https://mentor.ieee.org/802.11/documen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333360" y="1447920"/>
            <a:ext cx="4238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on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hair’s Welcome, Status, Review of Objectives, Approve agenda,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ditor’s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imeline and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: 11-13-1009 – Mark Hamil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4724280" y="14479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7000"/>
          </a:bodyPr>
          <a:p>
            <a:pPr marL="160920" indent="-160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edne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342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342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342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SO Comments 11-13-1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4734000" y="4533840"/>
            <a:ext cx="39621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ursday P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 Plans for Nov, 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djo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4714920" y="358128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ur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333360" y="5029200"/>
            <a:ext cx="40006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u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4714920" y="2666880"/>
            <a:ext cx="420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edn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352440" y="3600360"/>
            <a:ext cx="397188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ues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954 – Solo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652r14- Adr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38D22EF3-0D4A-400B-9796-0B6AA1212B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685800" y="-2286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80880" y="8380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180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mc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1852560"/>
            <a:ext cx="80773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all Meeting to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olicies and Procedures, Attendance re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*IEEE Patent Policy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://standards.ieee.org/board/pat/pat-slideset.p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re there any patent claim(s)/patent application claim(s) and/or the holder of patent claim(s)/patent application claim(s) that the participant believes may be essential for the use of that standard? Minute any responses that were given, specifically the patent claim(s)/patent application claim(s) and/or the holder of the patent claim(s)/patent application claim(s) that were identified (if any) and by wh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22720" y="5989680"/>
            <a:ext cx="23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* Read slide d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** Note especially items #7 &amp; #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6643FC97-7748-4764-B053-83C7FD2343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documents at the following link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  IEEE Patent Polic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board/pat/pat-slideset.p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en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board/pat/faq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 For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standards.ieee.org/board/pat/loa.pd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filiation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://standards.ieee.org/faqs/affiliationFAQ.htm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-Trus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://standards.ieee.org/resources/antitrust-guidelines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://www.ieee.org/portal/cms_docs/about/CoE_poster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802.11 Working Group P&amp;P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  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https://mentor.ieee.org/802.11/public-file/07/11-07-0360-04-0000-802-11-policies-and-procedures.do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WG P&amp;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https://mentor.ieee.org/802-ec/dcn/09/ec-09-0007-02-00EC-draft-lmsc-wg-p-p.pd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P&amp;P: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https://mentor.ieee.org/802-ec/dcn/09/ec-09-0005-02-00EC-draft-revised-lmsc-p-p-for-wg-p-p-ballot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OM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https://mentor.ieee.org/802-ec/dcn/09/ec-09-0006-02-00EC-draft-revision-of-the-lmsc-om-for-wg-p-p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AB186F40-D71F-4712-9635-F41FCE8CD3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55D9B154-7554-4F6A-8CE3-E786181A19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endance recording proced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11-09/0246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urphy.events.ieee.org/i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register before logging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log attendance during each 2 hour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mentor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TGm” for documents relating to the Revision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AD62AFEF-EBDE-49BD-B9D0-CA9D312D23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C576660F-3E1E-4805-8C9E-5306B6868F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 (continued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prior meeting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697-00-000m-revmc-minutes-for-july-2013-geneva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or’s Report (Adrian Stephe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095-05-000m-editor-reports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9717D2D5-9656-46C0-95E3-3483E569FF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F9EA25AD-5221-47AA-861E-DD1D7039C1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mc Plan of Recor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July 2012 – 12 Sept 2012 – Call for Comment/Inpu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9-30 Aug 2012 – NesCom, SASB PAR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Begin to process inpu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11aa, 11ae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 – First WG Letter ballot  - without 11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2 – March/May 2013  – 11ad integration 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ept 2013 – Letter ballot on D2.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3 – March 2014 – 11ac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 2014 – Mandatory Draft Revie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-March 2014 – Form Sponsor Pool (45 days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ril/May – Initial Sponsor Ballo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BD – integration of additional completed amendments (e.g. 11af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v 2014 – WG/EC Final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ch 2015 – RevCom/SASB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30941987-9259-4E3D-A838-30868E209D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cing the “Needs Submission” Category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comments with “Needs Submission” in Ad-Hoc status category (Column W)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11-3-0233 (latest ver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there any CIDs that should not be so categorize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o, please notify the ch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submission to comm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submission received, reject comment with “insufficient detail provided” 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1:26:55Z</dcterms:created>
  <dc:creator>Dorothy Stanley</dc:creator>
  <dc:description/>
  <dc:language>en-US</dc:language>
  <cp:lastModifiedBy>Dorothy Stanley</cp:lastModifiedBy>
  <cp:lastPrinted>1998-02-10T13:28:06Z</cp:lastPrinted>
  <dcterms:modified xsi:type="dcterms:W3CDTF">2013-09-15T10:51:16Z</dcterms:modified>
  <cp:revision>1359</cp:revision>
  <dc:subject/>
  <dc:title>TGm Agenda</dc:title>
</cp:coreProperties>
</file>