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90BFF2-AB54-40C2-9FAA-508689319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A9F92D-D166-438C-82E8-C217798C7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6C8EC2-4A11-4F09-B54B-2807F3CDE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E1BEBE-4F81-4ED8-A76D-88A5C7742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4656C7-DF66-45C4-9A11-FE2F131C3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26D487-764C-4239-A02D-BCC49EFF4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1C06C3-981C-42EB-8A64-0712A7EAD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D254AE-3E50-4C46-9C9A-E6FFA3DD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83FE1E-F443-431F-B8D0-B7ED86661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45E262-B7AD-4104-8F59-7807236BB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83A2F5-E04B-4130-8768-9C4CBA6E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CAD44A58-F435-4FC4-AACE-F4215D20EF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867931E-A2D0-4E36-8A4C-DBF69CFC3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62FE64E1-E885-4CAD-8A2D-7EF2C17AD7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8E0BCC-C002-46DE-BC0C-DEE11DB6D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2465C8-42DF-41CB-8176-D9455A8F3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2AB5DF-29DD-40F4-8B29-F13C0EFD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910-E9BD-40F8-9A2F-C806C367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EB4-4199-4AAF-9B1B-B66B8688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21B-DBE4-4BB7-861C-C31A3FAC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DD1-7A3B-4133-9AF4-719971A5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F85-4B2D-481E-A752-EA29B336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158-B13C-46C2-95A1-8E028EDD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F0C-951F-4CC7-8DA6-F37EC1CB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B3E-DCF0-4DCB-8110-972FAC8D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7DE-06B1-472B-92C0-3AE65BAC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85B-1FBA-4F9A-B5BB-8B467338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652-9108-4B78-B58F-71633C6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C5B-F3A6-40C2-AB48-036D3252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9AF943-0196-4F43-9887-5D510F74B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40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07-000m-revmc-mac-comments.xls" TargetMode="External"/><Relationship Id="rId2" Type="http://schemas.openxmlformats.org/officeDocument/2006/relationships/hyperlink" Target="https://mentor.ieee.org/802.11/dcn/13/11-13-0361-07-000m-revmc-mac-comments.xls" TargetMode="External"/><Relationship Id="rId3" Type="http://schemas.openxmlformats.org/officeDocument/2006/relationships/hyperlink" Target="https://mentor.ieee.org/802.11/dcn/13/11-13-0562-01-000m-gen-adhoc-lb193-comment-resolutions.xls" TargetMode="External"/><Relationship Id="rId4" Type="http://schemas.openxmlformats.org/officeDocument/2006/relationships/hyperlink" Target="https://mentor.ieee.org/802.11/dcn/13/11-13-0562-01-000m-gen-adhoc-lb193-comment-resolutions.xl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188-00-000m-revmc-minutes-for-march-2013-orlando.docx" TargetMode="External"/><Relationship Id="rId2" Type="http://schemas.openxmlformats.org/officeDocument/2006/relationships/hyperlink" Target="https://mentor.ieee.org/802.11/dcn/13/11-13-0402-03-000m-tgmc-april-2013-telecon-minutes.docx" TargetMode="External"/><Relationship Id="rId3" Type="http://schemas.openxmlformats.org/officeDocument/2006/relationships/hyperlink" Target="https://mentor.ieee.org/802.11/dcn/13/11-13-0095-04-000m-editor-repor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233-07-000m-revmc-wg-ballot-comments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723983-4390-4371-B595-5427A3F10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May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5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9D0FE3-F27F-46BB-92D3-502953CDB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Telecons, Mon, Tues CID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mentor.ieee.org/802.11/dcn/13/11-13-0361-07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Motion - MAC-H” t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mentor.ieee.org/802.11/dcn/13/11-13-0562-01-000m-gen-adhoc-lb193-comment-resolution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Gen Motion May A” and “Gen Motion May B” t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E86865-26C8-47BB-B270-38AC7D20D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 &lt;doc name&gt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 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9F361A2-D24C-4C22-9C40-54E4E9FBD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- July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e 7,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AB829F-238E-496E-BC6E-49DA0B83D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08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07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1F5BF9E-59DA-4BF8-AF5E-34A28FDB3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May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71FA7F-B202-4CD4-915B-CF70C58E9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endance reminder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s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6444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439r1, 466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6765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- PHY (Vink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686480"/>
            <a:ext cx="3962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 - Dan CIDs 1709, 1710, 1711, CID 2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July, 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6576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Graham CIDs 1458, 1136, 1118 – 415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90600" y="3514680"/>
            <a:ext cx="39718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33360" y="5210280"/>
            <a:ext cx="40006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M. Fischer - 448r0, 449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5"/>
          <p:cNvSpPr/>
          <p:nvPr/>
        </p:nvSpPr>
        <p:spPr>
          <a:xfrm>
            <a:off x="4714920" y="2819520"/>
            <a:ext cx="420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TFS, Sleep Mode, DMS - Qi W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380880" y="4200480"/>
            <a:ext cx="39718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CID 287  -Menzo, David Hunter CI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4F40EB-6B9D-4732-ACBF-A246D6C8D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7BA715-84C8-47CB-B21F-792A616E4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AE6F99-F1D8-4066-80D0-BDA97E37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2650A01E-8B22-4228-A512-BD17EB6D5C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83B167-FF67-452A-BF25-31FDABD10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86DF823A-056A-4B4D-961C-EC11F4A497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188-00-000m-revmc-minutes-for-march-2013-orlando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402-03-000m-tgmc-april-2013-telecon-minutes.do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095-04-000m-editor-reports.p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C1B2CC-122C-4E21-87A3-B2609AF58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5767E5-DEA1-4462-9044-97468D303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 July/Sept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BD87B7-1067-4325-8172-0A7557CE3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with “Needs Submission” in Ad-Hoc status category (Column W)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233-07-000m-revmc-wg-ballot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CIDs that should not be so categoriz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5-15T21:10:48Z</dcterms:modified>
  <cp:revision>1286</cp:revision>
  <dc:subject/>
  <dc:title>TGm Agenda</dc:title>
</cp:coreProperties>
</file>