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289120" y="9000720"/>
            <a:ext cx="92412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13F1457-9871-40FF-AC26-974798E06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41520" y="29700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89FF07-D80F-4C06-A05B-69E781392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19F1F82-6566-4953-8C29-20DB26082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B0D7A58-4E50-4021-807C-9378651C4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E3A131C-F9F8-4483-85FE-62ACED50A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9BB8651-0630-4E48-B5DF-64DB06782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99036B8-7E58-4548-B2E3-4E9FD9425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3235F33-D6D5-4B5B-A021-B45D2A360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CB7C781-54F8-4295-A7FF-424837B05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93C4B26-D72C-4014-B91B-B168ECAB3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368B161E-3B3E-4159-B61E-0E0B8B5A57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B66416A-079A-4F2D-9E79-422B99201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A1EEF9C6-DD43-4648-8A5A-4E657EF7FF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75B634F-CCCF-4540-9FA3-1BD2A5D67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71556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382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30012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810CF9E-7853-44CE-8778-B8C7455F7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6D9CF65-C975-4184-ABA0-806EAD9DB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C8D2-2C81-42A3-8D2C-DBFC4990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E0D-8E2C-4D66-8689-329EC248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73E-E591-4D2E-B21E-30ECA441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0CA-D2BC-4812-ACF5-D8CFBF1C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01B-A18F-4431-9993-7E371425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C24E-070E-4DEC-BE5F-3B5DA757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3885-5522-44C8-8015-5D58E994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317B-7B40-4833-B463-168528F4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CD85-CF43-46CF-B0F2-2B80988E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995-9E89-485F-8DB2-F8D5C605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44B3-B88C-4B22-837F-8DF456FC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6B7-01C2-4A3B-A3F5-C4D9A8DD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893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5643842-11D2-4264-8E4B-DD9D173B2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0283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233-05-000m-revmc-wg-ballot-comments.x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hyperlink" Target="http://standards.ieee.org/board/pat/faq.pdf" TargetMode="External"/><Relationship Id="rId3" Type="http://schemas.openxmlformats.org/officeDocument/2006/relationships/hyperlink" Target="http://standards.ieee.org/board/pat/loa.pdf" TargetMode="External"/><Relationship Id="rId4" Type="http://schemas.openxmlformats.org/officeDocument/2006/relationships/hyperlink" Target="http://standards.ieee.org/faqs/affiliationFAQ.html" TargetMode="External"/><Relationship Id="rId5" Type="http://schemas.openxmlformats.org/officeDocument/2006/relationships/hyperlink" Target="http://standards.ieee.org/resources/antitrust-guidelines.pdf" TargetMode="External"/><Relationship Id="rId6" Type="http://schemas.openxmlformats.org/officeDocument/2006/relationships/hyperlink" Target="http://www.ieee.org/portal/cms_docs/about/CoE_poster.pdf" TargetMode="External"/><Relationship Id="rId7" Type="http://schemas.openxmlformats.org/officeDocument/2006/relationships/hyperlink" Target="https://mentor.ieee.org/802.11/public-file/07/11-07-0360-04-0000-802-11-policies-and-procedures.doc" TargetMode="External"/><Relationship Id="rId8" Type="http://schemas.openxmlformats.org/officeDocument/2006/relationships/hyperlink" Target="https://mentor.ieee.org/802-ec/dcn/09/ec-09-0007-02-00EC-draft-lmsc-wg-p-p.pdf" TargetMode="External"/><Relationship Id="rId9" Type="http://schemas.openxmlformats.org/officeDocument/2006/relationships/hyperlink" Target="https://mentor.ieee.org/802-ec/dcn/09/ec-09-0005-02-00EC-draft-revised-lmsc-p-p-for-wg-p-p-ballot.pdf" TargetMode="External"/><Relationship Id="rId10" Type="http://schemas.openxmlformats.org/officeDocument/2006/relationships/hyperlink" Target="https://mentor.ieee.org/802-ec/dcn/09/ec-09-0006-02-00EC-draft-revision-of-the-lmsc-om-for-wg-p-p.pdf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" TargetMode="External"/><Relationship Id="rId2" Type="http://schemas.openxmlformats.org/officeDocument/2006/relationships/hyperlink" Target="http://mentor.ieee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022-00-000m-minutes-for-jan-2013-interim-vancouver.docx" TargetMode="External"/><Relationship Id="rId2" Type="http://schemas.openxmlformats.org/officeDocument/2006/relationships/hyperlink" Target="https://mentor.ieee.org/802.11/dcn/13/11-13-0022-00-000m-minutes-for-jan-2013-interim-vancouver.docx" TargetMode="External"/><Relationship Id="rId3" Type="http://schemas.openxmlformats.org/officeDocument/2006/relationships/hyperlink" Target="https://mentor.ieee.org/802.11/dcn/13/11-13-0236-01-000m-minutes-for-tg-revmc-teleconferences-feb-and-march-2013.docx" TargetMode="External"/><Relationship Id="rId4" Type="http://schemas.openxmlformats.org/officeDocument/2006/relationships/hyperlink" Target="https://mentor.ieee.org/802.11/dcn/13/11-13-0236-01-000m-minutes-for-tg-revmc-teleconferences-feb-and-march-2013.docx" TargetMode="External"/><Relationship Id="rId5" Type="http://schemas.openxmlformats.org/officeDocument/2006/relationships/hyperlink" Target="https://mentor.ieee.org/802.11/dcn/13/11-13-0236-01-000m-minutes-for-tg-revmc-teleconferences-feb-and-march-2013.docx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233-03-000m-revmc-wg-ballot-comments.x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F12A4B7-AB85-45E9-B6D6-3FBF4326A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TGmc Mar 2013 Agen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03-1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"/>
          <p:cNvGraphicFramePr/>
          <p:nvPr/>
        </p:nvGraphicFramePr>
        <p:xfrm>
          <a:off x="519120" y="2273400"/>
          <a:ext cx="8229600" cy="25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2273400"/>
                    <a:ext cx="82296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E1FA530-58DA-4B9D-BC19-7B84B99B0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comment resolutions to comments in Documen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tor Tab, Column “W – Ad-hoc Status” blank, and Column “N-Resolution  Status”  non-blank, except CID 15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Editor Tab, Column “W – Ad-hoc Status” Ready for Motion, and Column “N-Resolution  Status”  non-blank, except CID 1595  in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233-05-000m-revmc-wg-ballot-comments.x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87E7A05-A8C6-49D0-B4C3-4D7B86249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ch – May Meeting Plan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ence Calls 10am Eastern  2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ril 5, 12, 19, 26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-Hoc meeting – n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e revie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6A389BD-2881-4905-A4A5-A52E7CBF3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0594-02-0000-revision-par-proposal-for-802-11-2012.do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09/11-09-0002-12-0000-802-11-operations-manual.do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1082-08-0000-revmc-pre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3/11-13-0233-04-000m-revmc-wg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E9FA6E3-6B23-47F0-921B-1105D1793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contains the IEEE 802.11 TGmc agenda for the March 2013 se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10665E6-28E5-4D60-BCA4-49A506272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mc Ag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80880" y="6019920"/>
            <a:ext cx="83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tendance reminder: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urphy.events.ieee.org/ima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s: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ocumen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333360" y="1644480"/>
            <a:ext cx="42386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hair’s Welcome, Status, Review of Objectives, Approve agenda,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ditor’s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imeline and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 Editor discu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4724280" y="16765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dne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CID 1394, MAC com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4734000" y="4876920"/>
            <a:ext cx="3962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ursday PM1, PM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, LB 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lans for M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4714920" y="369576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ur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, Comment Resolution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ditorial Discuss and Review, 13/33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371520" y="3581280"/>
            <a:ext cx="397188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ues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3/293– Yaron Alp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Editor Review, “Trivial technical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343080" y="4952880"/>
            <a:ext cx="4000320" cy="14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u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- Ashle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cope of editorial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5"/>
          <p:cNvSpPr/>
          <p:nvPr/>
        </p:nvSpPr>
        <p:spPr>
          <a:xfrm>
            <a:off x="4714920" y="2895480"/>
            <a:ext cx="420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dn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- Security, Mesh, 13/0012, 13/0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2D8D19B-72BC-4C11-9276-87DF89666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685800" y="-228600"/>
            <a:ext cx="7772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80880" y="8380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180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mc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1852560"/>
            <a:ext cx="80773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 Meeting to 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ies and Procedures, Attendance re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*IEEE Patent Policy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://standards.ieee.org/board/pat/pat-slideset.p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re there any patent claim(s)/patent application claim(s) and/or the holder of patent claim(s)/patent application claim(s) that the participant believes may be essential for the use of that standard? Minute any responses that were given, specifically the patent claim(s)/patent application claim(s) and/or the holder of the patent claim(s)/patent application claim(s) that were identified (if any) and by wh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22720" y="5989680"/>
            <a:ext cx="23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Read slide d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 Note especially items #7 &amp; #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CE667B7-0D2A-4322-85C9-7C9CE6A60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documents at the following link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  IEEE Patent Polic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board/pat/pat-slideset.p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en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board/pat/faq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 For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standards.ieee.org/board/pat/loa.pd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filiation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://standards.ieee.org/faqs/affiliationFAQ.htm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-Trus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://standards.ieee.org/resources/antitrust-guidelines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://www.ieee.org/portal/cms_docs/about/CoE_poster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802.11 Working Group P&amp;P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   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https://mentor.ieee.org/802.11/public-file/07/11-07-0360-04-0000-802-11-policies-and-procedures.do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 WG P&amp;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8"/>
              </a:rPr>
              <a:t>https://mentor.ieee.org/802-ec/dcn/09/ec-09-0007-02-00EC-draft-lmsc-wg-p-p.pd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P&amp;P: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9"/>
              </a:rPr>
              <a:t>https://mentor.ieee.org/802-ec/dcn/09/ec-09-0005-02-00EC-draft-revised-lmsc-p-p-for-wg-p-p-ballot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OM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0"/>
              </a:rPr>
              <a:t>https://mentor.ieee.org/802-ec/dcn/09/ec-09-0006-02-00EC-draft-revision-of-the-lmsc-om-for-wg-p-p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143F891-5EAE-43C9-8400-822C56B72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DC8D41BC-9529-415A-A85D-764A466ACB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endance recording proced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11-09/0246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urphy.events.ieee.org/i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register before logging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log attendance during each 2 hour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mentor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“TGm” for documents relating to the Revision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5CFEDE1-E348-4738-B6A1-EF8EAA598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07080527-A899-46EB-8F76-37898F4E2C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 (continued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prior meeting min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mentor.ieee.org/802.11/dcn/13/11-13-0022-00-000m-minutes-for-jan-2013-interim-vancouver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:/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mentor.ieee.org/802.11/dcn/13/11-13-0236-01-000m-minutes-for-tg-revmc-teleconferences-feb-and-march-2013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on to approve: Moved: Jon Rosdahl, Second: Mike Montemurro, Result: Approved by unanimous con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or’s Report (Adrian Stephe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f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C102263-FEAB-4B28-B1D4-48BA669F3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53AD1C7-F17E-45CD-85A2-D24B50645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mc Plan of Recor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 July 2012 – 12 Sept 2012 – Call for Comment/Inpu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9-30 Aug 2012 – NesCom, SASB PAR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Begin to process inpu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11aa, 11ae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 – First WG Letter ballot  - without 11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2 – March/May 2013  – 11ad integration – May/July ballot on D2.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3 – March 2014 – 11ac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 2014 – Mandatory Draft Revie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-March 2014 – Form Sponsor Pool (45 days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ril/May – Initial Sponsor Ballo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BD – integration of additional completed amendments (e.g. 11af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v 2014 – WG/EC Final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ch 2015 – RevCom/SASB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B8EF5FF-4E05-4399-8F93-FAC80B417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ancing the “Needs Submission” Category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comments with “Needs Submission” in Ad-Hoc status category (Column W)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233-03-000m-revmc-wg-ballot-comments.x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there any CIDs that should not be so categorize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o, please notify the ch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al is t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 submission to comm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submission received, reject comment with “insufficient detail provided” 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itionally mark CIDs 1010, 1078, 1640, 1417(same as 1640) as “Needs Submission”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disagreement, please notify the ch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1:26:55Z</dcterms:created>
  <dc:creator>Dorothy Stanley</dc:creator>
  <dc:description/>
  <dc:language>en-US</dc:language>
  <cp:lastModifiedBy>Dorothy Stanley</cp:lastModifiedBy>
  <cp:lastPrinted>1998-02-10T13:28:06Z</cp:lastPrinted>
  <dcterms:modified xsi:type="dcterms:W3CDTF">2013-03-20T19:38:45Z</dcterms:modified>
  <cp:revision>1244</cp:revision>
  <dc:subject/>
  <dc:title>TGm Agenda</dc:title>
</cp:coreProperties>
</file>