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5572080" y="-755280"/>
            <a:ext cx="641520" cy="10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45840" y="97200"/>
            <a:ext cx="8269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1420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5289120" y="9000720"/>
            <a:ext cx="92412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181320" y="900072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6286BA6-1C02-44DE-AA31-4B8A965B66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710640" y="900108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9"/>
          <p:cNvSpPr/>
          <p:nvPr/>
        </p:nvSpPr>
        <p:spPr>
          <a:xfrm>
            <a:off x="716040" y="8999640"/>
            <a:ext cx="542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0"/>
          <p:cNvSpPr/>
          <p:nvPr/>
        </p:nvSpPr>
        <p:spPr>
          <a:xfrm>
            <a:off x="641520" y="297000"/>
            <a:ext cx="5574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A599E5C-77D4-43EB-A114-BF967DBACE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3CF982A-F512-40FB-9556-AF43109C54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D62170F-94E8-4079-BF1A-1BF16F0079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5605338-4A37-404E-8F2C-4DB12FC047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242750E-0AA9-45F0-A7B8-D059CE234F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0AD18CC-9C0D-4147-9010-F28BEE43C5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42BC5A2-1A9F-4A78-84B0-B0448A2E14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3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594F5B0-92CA-4A0C-BDCA-EA5F939797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44BFF54-FF91-4A4D-86A0-0E46ABAA45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47962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0/0503r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67968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a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4235760" y="9001080"/>
            <a:ext cx="3041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ichael Montemurro, Research in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295596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age </a:t>
            </a:r>
            <a:fld id="{81DD7B9F-A430-4E9A-A33E-D426AFACDF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8749B10-B128-4826-9290-E88E667544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47962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0/0503r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67968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a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4235760" y="9001080"/>
            <a:ext cx="3041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ichael Montemurro, Research in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295596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age </a:t>
            </a:r>
            <a:fld id="{3B6FCF82-3B47-4876-9679-D95FFF10665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E682CDA-4B2D-4CEC-A330-3154E92950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371556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0/0503r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0382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a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3300120" y="9001080"/>
            <a:ext cx="3041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ichael Montemurro, Research in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295596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AC7717D-ED42-4662-982E-88D8D256A7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E8BD57D-2A73-4776-9C43-63C9C16C64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635C-D910-4EA1-87C3-841F875E3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B0CC-B2DE-4A0A-8087-8750B4021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BAB0-7C1A-4E83-AE9E-600EFBEBA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61A4-D4F5-4173-B4B4-95CCE7C52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E50C-8F2C-4982-98F4-E774F53F9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6449-BAD9-4B7B-A54F-5A349DFB4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70B0-B3F5-4824-A470-1ADD59B74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AE4C-1992-429F-98D5-4CAB585EA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89BC-F1BA-45F8-A078-D7EDF1642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A3E9-2B57-4ADF-9ED5-AE12B31C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2EC2-C01B-48AD-AB06-DB91F468E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F901-19D0-4E53-A1D2-BF48CB92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600" y="334440"/>
            <a:ext cx="18939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077320" y="6474960"/>
            <a:ext cx="4665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58A6188-CAF2-4C6A-B15D-030D5E4688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3/0283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mentor.ieee.org/802.11/dcn/13/11-13-0233-05-000m-revmc-wg-ballot-comments.xls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murphy.events.ieee.org/imat/" TargetMode="External"/><Relationship Id="rId2" Type="http://schemas.openxmlformats.org/officeDocument/2006/relationships/hyperlink" Target="https://mentor.ieee.org/802.11/documen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tandards.ieee.org/board/pat/pat-slideset.pp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tandards.ieee.org/board/pat/pat-slideset.ppt" TargetMode="External"/><Relationship Id="rId2" Type="http://schemas.openxmlformats.org/officeDocument/2006/relationships/hyperlink" Target="http://standards.ieee.org/board/pat/faq.pdf" TargetMode="External"/><Relationship Id="rId3" Type="http://schemas.openxmlformats.org/officeDocument/2006/relationships/hyperlink" Target="http://standards.ieee.org/board/pat/loa.pdf" TargetMode="External"/><Relationship Id="rId4" Type="http://schemas.openxmlformats.org/officeDocument/2006/relationships/hyperlink" Target="http://standards.ieee.org/faqs/affiliationFAQ.html" TargetMode="External"/><Relationship Id="rId5" Type="http://schemas.openxmlformats.org/officeDocument/2006/relationships/hyperlink" Target="http://standards.ieee.org/resources/antitrust-guidelines.pdf" TargetMode="External"/><Relationship Id="rId6" Type="http://schemas.openxmlformats.org/officeDocument/2006/relationships/hyperlink" Target="http://www.ieee.org/portal/cms_docs/about/CoE_poster.pdf" TargetMode="External"/><Relationship Id="rId7" Type="http://schemas.openxmlformats.org/officeDocument/2006/relationships/hyperlink" Target="https://mentor.ieee.org/802.11/public-file/07/11-07-0360-04-0000-802-11-policies-and-procedures.doc" TargetMode="External"/><Relationship Id="rId8" Type="http://schemas.openxmlformats.org/officeDocument/2006/relationships/hyperlink" Target="https://mentor.ieee.org/802-ec/dcn/09/ec-09-0007-02-00EC-draft-lmsc-wg-p-p.pdf" TargetMode="External"/><Relationship Id="rId9" Type="http://schemas.openxmlformats.org/officeDocument/2006/relationships/hyperlink" Target="https://mentor.ieee.org/802-ec/dcn/09/ec-09-0005-02-00EC-draft-revised-lmsc-p-p-for-wg-p-p-ballot.pdf" TargetMode="External"/><Relationship Id="rId10" Type="http://schemas.openxmlformats.org/officeDocument/2006/relationships/hyperlink" Target="https://mentor.ieee.org/802-ec/dcn/09/ec-09-0006-02-00EC-draft-revision-of-the-lmsc-om-for-wg-p-p.pdf" TargetMode="External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murphy.events.ieee.org/imat" TargetMode="External"/><Relationship Id="rId2" Type="http://schemas.openxmlformats.org/officeDocument/2006/relationships/hyperlink" Target="http://mentor.ieee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mentor.ieee.org/802.11/dcn/13/11-13-0022-00-000m-minutes-for-jan-2013-interim-vancouver.docx" TargetMode="External"/><Relationship Id="rId2" Type="http://schemas.openxmlformats.org/officeDocument/2006/relationships/hyperlink" Target="https://mentor.ieee.org/802.11/dcn/13/11-13-0022-00-000m-minutes-for-jan-2013-interim-vancouver.docx" TargetMode="External"/><Relationship Id="rId3" Type="http://schemas.openxmlformats.org/officeDocument/2006/relationships/hyperlink" Target="https://mentor.ieee.org/802.11/dcn/13/11-13-0236-01-000m-minutes-for-tg-revmc-teleconferences-feb-and-march-2013.docx" TargetMode="External"/><Relationship Id="rId4" Type="http://schemas.openxmlformats.org/officeDocument/2006/relationships/hyperlink" Target="https://mentor.ieee.org/802.11/dcn/13/11-13-0236-01-000m-minutes-for-tg-revmc-teleconferences-feb-and-march-2013.docx" TargetMode="External"/><Relationship Id="rId5" Type="http://schemas.openxmlformats.org/officeDocument/2006/relationships/hyperlink" Target="https://mentor.ieee.org/802.11/dcn/13/11-13-0236-01-000m-minutes-for-tg-revmc-teleconferences-feb-and-march-2013.docx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mentor.ieee.org/802.11/dcn/13/11-13-0233-03-000m-revmc-wg-ballot-comments.xls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044C9F7-C7CB-4414-A123-CB1CB2C2A2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EEE 802.11 TGmc Mar 2013 Agend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13-03-19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Object 11"/>
          <p:cNvGraphicFramePr/>
          <p:nvPr/>
        </p:nvGraphicFramePr>
        <p:xfrm>
          <a:off x="519120" y="2273400"/>
          <a:ext cx="8229600" cy="252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2273400"/>
                    <a:ext cx="8229600" cy="25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Rectangle 12"/>
          <p:cNvSpPr/>
          <p:nvPr/>
        </p:nvSpPr>
        <p:spPr>
          <a:xfrm>
            <a:off x="533520" y="1940040"/>
            <a:ext cx="1447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770FC9E-F158-4CE9-AA1D-7BDF7FE828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rove comment resolutions to comments in Document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ditor Tab, Column “W – Ad-hoc Status” blank, and Column “N-Resolution  Status”  non-blank, except CID 159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Editor Tab, Column “W – Ad-hoc Status” Ready for Motion, and Column “N-Resolution  Status”  non-blank, except CID 1595  in 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mentor.ieee.org/802.11/dcn/13/11-13-0233-05-000m-revmc-wg-ballot-comments.xl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d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ed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0970CA6-2142-44AD-AD34-4B6D5160C1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rch – May Meeting Plann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ent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ference Calls 10am Eastern  2 hou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ril 5, 12, 19, 26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y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-Hoc meeting – non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hedule review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5FA7931-46D0-4928-B581-2A3276A5E5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s://mentor.ieee.org/802.11/dcn/12/11-12-0594-02-0000-revision-par-proposal-for-802-11-2012.do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s://mentor.ieee.org/802.11/dcn/09/11-09-0002-12-0000-802-11-operations-manual.doc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s://mentor.ieee.org/802.11/dcn/12/11-12-1082-08-0000-revmc-pre-ballot-comments.xls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s://mentor.ieee.org/802.11/dcn/13/11-13-0233-04-000m-revmc-wg-ballot-comments.xls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2E77856-D10A-42E5-BE12-A9E0E64E18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presentation contains the IEEE 802.11 TGmc agenda for the March 2013 sess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93E6A7A-7F98-4317-ADBA-F636146740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Gmc Agend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380880" y="6019920"/>
            <a:ext cx="8305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ttendance reminder: </a:t>
            </a:r>
            <a:r>
              <a:rPr b="0" lang="en-US" sz="12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murphy.events.ieee.org/imat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ocuments: </a:t>
            </a:r>
            <a:r>
              <a:rPr b="0" lang="en-US" sz="12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https://mentor.ieee.org/802.11/documents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19"/>
          <p:cNvSpPr/>
          <p:nvPr/>
        </p:nvSpPr>
        <p:spPr>
          <a:xfrm>
            <a:off x="333360" y="1644480"/>
            <a:ext cx="42386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nday PM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hair’s Welcome, Status, Review of Objectives, Approve agenda, min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Editor’s Repor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imeline and Sche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omment resolution – Editor discu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35"/>
          <p:cNvSpPr/>
          <p:nvPr/>
        </p:nvSpPr>
        <p:spPr>
          <a:xfrm>
            <a:off x="4724280" y="1676520"/>
            <a:ext cx="3962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ednesday PM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o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omment resolution –CID 1394, MAC comm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36"/>
          <p:cNvSpPr/>
          <p:nvPr/>
        </p:nvSpPr>
        <p:spPr>
          <a:xfrm>
            <a:off x="4734000" y="4876920"/>
            <a:ext cx="39621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ursday PM1, PM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omment, LB Mo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lans for M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35"/>
          <p:cNvSpPr/>
          <p:nvPr/>
        </p:nvSpPr>
        <p:spPr>
          <a:xfrm>
            <a:off x="4714920" y="3695760"/>
            <a:ext cx="3962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ursday PM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otion, Comment Resolution –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Editorial Discuss and Review, 13/33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1"/>
          <p:cNvSpPr/>
          <p:nvPr/>
        </p:nvSpPr>
        <p:spPr>
          <a:xfrm>
            <a:off x="371520" y="3581280"/>
            <a:ext cx="3971880" cy="14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uesday PM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13/293– Yaron Alpe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omment resolution –Editor Review, “Trivial technical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"/>
          <p:cNvSpPr/>
          <p:nvPr/>
        </p:nvSpPr>
        <p:spPr>
          <a:xfrm>
            <a:off x="343080" y="4952880"/>
            <a:ext cx="4000320" cy="14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uesday PM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omment Resolution - Ashley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cope of editorial com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35"/>
          <p:cNvSpPr/>
          <p:nvPr/>
        </p:nvSpPr>
        <p:spPr>
          <a:xfrm>
            <a:off x="4714920" y="2895480"/>
            <a:ext cx="4200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ednesday PM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omment Resolution - Security, Mesh, 13/0012, 13/00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CE5C40F-67B0-4916-BB9F-16DB75FD26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685800" y="-228600"/>
            <a:ext cx="777240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380880" y="838080"/>
            <a:ext cx="84582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18072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28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Gmc –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nday PM1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380880" y="1852560"/>
            <a:ext cx="807732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l Meeting to Ord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icies and Procedures, Attendance remi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**IEEE Patent Policy </a:t>
            </a: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ea typeface="Arial"/>
                <a:hlinkClick r:id="rId1"/>
              </a:rPr>
              <a:t>http://standards.ieee.org/board/pat/pat-slideset.pp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300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re there any patent claim(s)/patent application claim(s) and/or the holder of patent claim(s)/patent application claim(s) that the participant believes may be essential for the use of that standard? Minute any responses that were given, specifically the patent claim(s)/patent application claim(s) and/or the holder of the patent claim(s)/patent application claim(s) that were identified (if any) and by wh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522720" y="5989680"/>
            <a:ext cx="2372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 Read slide de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* Note especially items #7 &amp; #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ACAE15E-A559-4A3D-B177-746052F568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ease review the documents at the following links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  IEEE Patent Polic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 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://standards.ieee.org/board/pat/pat-slideset.pp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tent FAQ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 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http://standards.ieee.org/board/pat/faq.pdf</a:t>
            </a:r>
            <a:br>
              <a:rPr sz="18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A For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 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3"/>
              </a:rPr>
              <a:t>http://standards.ieee.org/board/pat/loa.pd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ffiliation FAQ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4"/>
              </a:rPr>
              <a:t>http://standards.ieee.org/faqs/affiliationFAQ.htm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ti-Trust FAQ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 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5"/>
              </a:rPr>
              <a:t>http://standards.ieee.org/resources/antitrust-guidelines.pdf</a:t>
            </a:r>
            <a:br>
              <a:rPr sz="18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thic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 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6"/>
              </a:rPr>
              <a:t>http://www.ieee.org/portal/cms_docs/about/CoE_poster.pdf</a:t>
            </a:r>
            <a:br>
              <a:rPr sz="18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EEE 802.11 Working Group P&amp;P 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     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7"/>
              </a:rPr>
              <a:t>https://mentor.ieee.org/802.11/public-file/07/11-07-0360-04-0000-802-11-policies-and-procedures.doc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02 WG P&amp;P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1600" spc="-1" strike="noStrike" u="sng">
                <a:solidFill>
                  <a:srgbClr val="0066ff"/>
                </a:solidFill>
                <a:uFillTx/>
                <a:latin typeface="Times New Roman"/>
                <a:hlinkClick r:id="rId8"/>
              </a:rPr>
              <a:t>https://mentor.ieee.org/802-ec/dcn/09/ec-09-0007-02-00EC-draft-lmsc-wg-p-p.pdf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 802 LMSC P&amp;P: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9"/>
              </a:rPr>
              <a:t>https://mentor.ieee.org/802-ec/dcn/09/ec-09-0005-02-00EC-draft-revised-lmsc-p-p-for-wg-p-p-ballot.pd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 802 LMSC OM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10"/>
              </a:rPr>
              <a:t>https://mentor.ieee.org/802-ec/dcn/09/ec-09-0006-02-00EC-draft-revision-of-the-lmsc-om-for-wg-p-p.pd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Date Placeholder 1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ooter Placeholder 2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30D078A-C138-4F2E-B599-E90529F4FC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Slide Number Placeholder 5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lide </a:t>
            </a:r>
            <a:fld id="{6A848940-EDE0-4937-B66E-E396EA6ED86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gistics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tendance recording procedur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11-09/0246r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murphy.events.ieee.org/i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register before logging attend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log attendance during each 2 hour 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http://mentor.ieee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“TGm” for documents relating to the Revision P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Date Placeholder 1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Footer Placeholder 2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6190A86-239F-4DE5-9CFB-A92935CF9A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Slide Number Placeholder 5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lide </a:t>
            </a:r>
            <a:fld id="{771F115B-B5EC-48C8-8B8F-4BDB22793C8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nday PM1 (continued)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ent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rove prior meeting minut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mentor.ieee.org/802.11/dcn/13/11-13-0022-00-000m-minutes-for-jan-2013-interim-vancouver.doc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3"/>
              </a:rPr>
              <a:t>https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4"/>
              </a:rPr>
              <a:t>://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5"/>
              </a:rPr>
              <a:t>mentor.ieee.org/802.11/dcn/13/11-13-0236-01-000m-minutes-for-tg-revmc-teleconferences-feb-and-march-2013.doc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6240" indent="-203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tion to approve: Moved: Jon Rosdahl, Second: Mike Montemurro, Result: Approved by unanimous cons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ditor’s Report (Adrian Stephen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aft 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ent 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Date Placeholder 1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Footer Placeholder 2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D9FEB36-AC79-4481-A909-5C10F49B12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6C94A75-51D2-490C-B913-75FFDA4494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Gmc Plan of Recor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0 July 2012 – 12 Sept 2012 – Call for Comment/Inpu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9-30 Aug 2012 – NesCom, SASB PAR Approv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pt 2012 – Begin to process input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pt 2012 – 11aa, 11ae integra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an – First WG Letter ballot  - without 11a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c 2012 – March/May 2013  – 11ad integration – May/July ballot on D2.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c 2013 – March 2014 – 11ac integra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eb 2014 – Mandatory Draft Review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eb-March 2014 – Form Sponsor Pool (45 days)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ril/May – Initial Sponsor Ballot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BD – integration of additional completed amendments (e.g. 11af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v 2014 – WG/EC Final Approv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rch 2015 – RevCom/SASB Approv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46787BF-E8D1-44EB-B222-BB513A39FE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vancing the “Needs Submission” Category Comme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 marL="260640" indent="-260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ease review the comments with “Needs Submission” in Ad-Hoc status category (Column W) i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mentor.ieee.org/802.11/dcn/13/11-13-0233-03-000m-revmc-wg-ballot-comments.xl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e there any CIDs that should not be so categorized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so, please notify the ch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posal is to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gn submission to comm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no submission received, reject comment with “insufficient detail provided” rea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itionally mark CIDs 1010, 1078, 1640, 1417(same as 1640) as “Needs Submission”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y disagreement, please notify the ch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21:26:55Z</dcterms:created>
  <dc:creator>Dorothy Stanley</dc:creator>
  <dc:description/>
  <dc:language>en-US</dc:language>
  <cp:lastModifiedBy>Dorothy Stanley</cp:lastModifiedBy>
  <cp:lastPrinted>1998-02-10T13:28:06Z</cp:lastPrinted>
  <dcterms:modified xsi:type="dcterms:W3CDTF">2013-03-20T19:38:45Z</dcterms:modified>
  <cp:revision>1244</cp:revision>
  <dc:subject/>
  <dc:title>TGm Agenda</dc:title>
</cp:coreProperties>
</file>