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F61B43-049F-4D42-AB7C-9AFB5AA34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29B404C-AAF2-4A8F-9595-6ED61679D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E1EB60-632E-4FCF-A272-47BB824FE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FB70B3-97A5-47ED-8E75-28B63BE18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6871B3-CB51-4921-900E-F24F189F0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6BCA30-116E-46E8-B4E1-A88215EE9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B88AE5-1594-49A4-9530-BB180684D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8B7235-2F0B-4AAF-B9E1-DB0F4F130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6F2D81-6359-4192-8427-DE7E59D5C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6C459F-2CAC-46DB-822F-48D47DA75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83C66ED1-4D13-433D-BB37-2B171E88A3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24ECCC-E52E-4A85-ABE6-8F92853DD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7CB99633-ECF5-4E82-BF20-2E2269FFE0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B893D2-C01B-4D51-8892-110BC3C95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E5228F-47DC-49A0-83C5-35988C02F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71A7E21-78FD-4EB7-8A63-CD09A912F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044-BEBB-4CCC-AD28-4B4C1FB9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096-DEFF-48BA-9D68-C27B340B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782-38F5-4157-A662-2933C59E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DAC-8D36-4A19-A688-45C0A665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B3F-D487-41B9-A7AB-DF4CEC5E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99F-6C8D-491B-8132-AE18463A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8CF-58D4-4B46-A307-CF629704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D3E-96D9-47DD-8C66-4577C31A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FCF-4190-4A54-B6FF-32312FC6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B8E-E6BB-43C6-A6C5-7996D28C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2DC-08F2-4186-B995-EDE0840D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FBD-B6D0-4478-AC52-205868E9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D243E1-4EDB-49A6-B203-2A0086DA6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0283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022-00-000m-minutes-for-jan-2013-interim-vancouver.docx" TargetMode="External"/><Relationship Id="rId2" Type="http://schemas.openxmlformats.org/officeDocument/2006/relationships/hyperlink" Target="https://mentor.ieee.org/802.11/dcn/13/11-13-0022-00-000m-minutes-for-jan-2013-interim-vancouver.docx" TargetMode="External"/><Relationship Id="rId3" Type="http://schemas.openxmlformats.org/officeDocument/2006/relationships/hyperlink" Target="https://mentor.ieee.org/802.11/dcn/13/11-13-0236-01-000m-minutes-for-tg-revmc-teleconferences-feb-and-march-2013.docx" TargetMode="External"/><Relationship Id="rId4" Type="http://schemas.openxmlformats.org/officeDocument/2006/relationships/hyperlink" Target="https://mentor.ieee.org/802.11/dcn/13/11-13-0236-01-000m-minutes-for-tg-revmc-teleconferences-feb-and-march-2013.docx" TargetMode="External"/><Relationship Id="rId5" Type="http://schemas.openxmlformats.org/officeDocument/2006/relationships/hyperlink" Target="https://mentor.ieee.org/802.11/dcn/13/11-13-0236-01-000m-minutes-for-tg-revmc-teleconferences-feb-and-march-2013.docx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233-03-000m-revmc-wg-ballot-comments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9CC6AA-B543-4FD4-872B-28C4DE9C0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Ma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3-1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7F9F3A9-C036-4270-BF3D-5C9AD7A9D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comment resolutions to comments in Documen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y for Motion” 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82F989-D51F-493A-B351-BDD71EA1B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ch – May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 5, 12, 19, 2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– n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496DFE-B91F-4F9E-8818-7F336521A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08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04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03F4BB-B454-4B63-9577-1A9684FDF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March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E50416-C978-4D7A-A300-40C11D101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endance reminder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s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644480"/>
            <a:ext cx="4238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Editor discu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6765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CID 13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876920"/>
            <a:ext cx="3962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1,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, LB 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M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96252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, Comment Resolution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371520" y="3581280"/>
            <a:ext cx="397188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3/102, 13/131 13/293– Yaron Alp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Ashley, Editor Review, “Trivial technical”, 118, 284, 1555, 1556, 1585, 16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43080" y="5105520"/>
            <a:ext cx="3390840" cy="14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cope of editori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5"/>
          <p:cNvSpPr/>
          <p:nvPr/>
        </p:nvSpPr>
        <p:spPr>
          <a:xfrm>
            <a:off x="4714920" y="2895480"/>
            <a:ext cx="420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- Security, Mesh, 13/0012, 13/0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478AF9-C247-41E0-8A00-7DE7098C6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184949A-9776-4656-83BC-FE94C68B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7B092D3-CDB1-4C42-B069-47BA42F1A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3A4422E4-F513-404B-9186-9275E43A39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BD1AD1-3A42-49CB-A810-722C00B41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4C21EB18-0D24-4212-B56C-B91654196D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mentor.ieee.org/802.11/dcn/13/11-13-0022-00-000m-minutes-for-jan-2013-interim-vancouver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mentor.ieee.org/802.11/dcn/13/11-13-0236-01-000m-minutes-for-tg-revmc-teleconferences-feb-and-march-2013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on to approve: Moved: Jon Rosdahl, Second: Mike Montemurro, Result: Approved by unanimous con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84AD95-4378-4777-A194-6662FFD4E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35BFDF-33C1-4159-AE56-B64D1AA71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 May/July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858ECF9-8D44-42DA-B7F5-B2A6824D0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the “Needs Submission” Category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comments with “Needs Submission” in Ad-Hoc status category (Column W)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233-03-000m-revmc-wg-ballot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CIDs that should not be so categoriz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o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is 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ubmission to com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bmission received, reject comment with “insufficient detail provided”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itionally mark CIDs 1010, 1078, 1640 as “Needs Submission”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disagreement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03-18T20:12:10Z</dcterms:modified>
  <cp:revision>1239</cp:revision>
  <dc:subject/>
  <dc:title>TGm Agenda</dc:title>
</cp:coreProperties>
</file>