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572080" y="-755280"/>
            <a:ext cx="64152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142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5289120" y="9000720"/>
            <a:ext cx="92412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181320" y="90007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35F5BE8-0BA0-43FE-A4BF-838645495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710640" y="90010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"/>
          <p:cNvSpPr/>
          <p:nvPr/>
        </p:nvSpPr>
        <p:spPr>
          <a:xfrm>
            <a:off x="716040" y="89996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0"/>
          <p:cNvSpPr/>
          <p:nvPr/>
        </p:nvSpPr>
        <p:spPr>
          <a:xfrm>
            <a:off x="641520" y="297000"/>
            <a:ext cx="55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D211249-022F-4649-94A1-67857AFDD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765E6A3-0C49-41CD-AB86-6D9C44039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54FEF4E-9C50-4EA4-8F32-26EC557F7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282E04E-96F6-4C03-9AFA-C63B5D81B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5AE2DA5-E814-48FA-9724-07D6268C7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022BD58-F660-4DF1-BCB3-02F1F9E6E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6DAACE1-0C9B-4B2E-AFFC-F843D7F0B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3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7509089-5FAB-4DC7-AE2C-4C536D226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66C4494-5FD4-4C48-8A20-F2F5B4FC3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47962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0/0503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67968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4235760" y="9001080"/>
            <a:ext cx="30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chael Montemurro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295596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</a:t>
            </a:r>
            <a:fld id="{88713FFB-DA25-488D-B249-F4C5C4ABE5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355B8BD-BA48-4ADD-BB43-27F8C0985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47962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0/0503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67968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235760" y="9001080"/>
            <a:ext cx="30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chael Montemurro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295596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</a:t>
            </a:r>
            <a:fld id="{D0337C20-35B7-4D0C-AE6C-F5C9430BC0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AC291ED-27E3-46C7-B503-749879FA6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371556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0/0503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382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300120" y="9001080"/>
            <a:ext cx="30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chael Montemurro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295596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5A362A7-64B7-4A37-B61E-9CFF95E9D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D837D0B-8DC2-49D9-A24E-E9FCAA179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7AAF-E192-496D-A316-CBE37FAAB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9D3B-DBF6-45D9-8580-974941EE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2C1D-A135-45CD-B4A8-33E5F666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D634-3122-45DD-8854-62B9432F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86C5-6C2C-4956-9572-F6F7A6D6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6E71-FEF8-4F2B-89F4-D694E0FB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DC90-4387-4C77-A280-AD26D60E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68E0-4E7E-4A9C-AF5A-5154F9F9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AC40-3152-450D-8477-299D6CB2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A6A3-5989-4379-8965-BC39E14D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F7C6-A76F-4E60-87C9-3F396A3C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2683-CD09-46E1-A95E-65B2ABB4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4440"/>
            <a:ext cx="1893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F2FCEF4-C35A-41FE-9EBA-8D6F97DF9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3/0283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urphy.events.ieee.org/imat/" TargetMode="External"/><Relationship Id="rId2" Type="http://schemas.openxmlformats.org/officeDocument/2006/relationships/hyperlink" Target="https://mentor.ieee.org/802.11/documen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tandards.ieee.org/board/pat/pat-slideset.pp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tandards.ieee.org/board/pat/pat-slideset.ppt" TargetMode="External"/><Relationship Id="rId2" Type="http://schemas.openxmlformats.org/officeDocument/2006/relationships/hyperlink" Target="http://standards.ieee.org/board/pat/faq.pdf" TargetMode="External"/><Relationship Id="rId3" Type="http://schemas.openxmlformats.org/officeDocument/2006/relationships/hyperlink" Target="http://standards.ieee.org/board/pat/loa.pdf" TargetMode="External"/><Relationship Id="rId4" Type="http://schemas.openxmlformats.org/officeDocument/2006/relationships/hyperlink" Target="http://standards.ieee.org/faqs/affiliationFAQ.html" TargetMode="External"/><Relationship Id="rId5" Type="http://schemas.openxmlformats.org/officeDocument/2006/relationships/hyperlink" Target="http://standards.ieee.org/resources/antitrust-guidelines.pdf" TargetMode="External"/><Relationship Id="rId6" Type="http://schemas.openxmlformats.org/officeDocument/2006/relationships/hyperlink" Target="http://www.ieee.org/portal/cms_docs/about/CoE_poster.pdf" TargetMode="External"/><Relationship Id="rId7" Type="http://schemas.openxmlformats.org/officeDocument/2006/relationships/hyperlink" Target="https://mentor.ieee.org/802.11/public-file/07/11-07-0360-04-0000-802-11-policies-and-procedures.doc" TargetMode="External"/><Relationship Id="rId8" Type="http://schemas.openxmlformats.org/officeDocument/2006/relationships/hyperlink" Target="https://mentor.ieee.org/802-ec/dcn/09/ec-09-0007-02-00EC-draft-lmsc-wg-p-p.pdf" TargetMode="External"/><Relationship Id="rId9" Type="http://schemas.openxmlformats.org/officeDocument/2006/relationships/hyperlink" Target="https://mentor.ieee.org/802-ec/dcn/09/ec-09-0005-02-00EC-draft-revised-lmsc-p-p-for-wg-p-p-ballot.pdf" TargetMode="External"/><Relationship Id="rId10" Type="http://schemas.openxmlformats.org/officeDocument/2006/relationships/hyperlink" Target="https://mentor.ieee.org/802-ec/dcn/09/ec-09-0006-02-00EC-draft-revision-of-the-lmsc-om-for-wg-p-p.pdf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murphy.events.ieee.org/imat" TargetMode="External"/><Relationship Id="rId2" Type="http://schemas.openxmlformats.org/officeDocument/2006/relationships/hyperlink" Target="http://mentor.ieee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0022-00-000m-minutes-for-jan-2013-interim-vancouver.docx" TargetMode="External"/><Relationship Id="rId2" Type="http://schemas.openxmlformats.org/officeDocument/2006/relationships/hyperlink" Target="https://mentor.ieee.org/802.11/dcn/13/11-13-0022-00-000m-minutes-for-jan-2013-interim-vancouver.docx" TargetMode="External"/><Relationship Id="rId3" Type="http://schemas.openxmlformats.org/officeDocument/2006/relationships/hyperlink" Target="https://mentor.ieee.org/802.11/dcn/13/11-13-0236-01-000m-minutes-for-tg-revmc-teleconferences-feb-and-march-2013.docx" TargetMode="External"/><Relationship Id="rId4" Type="http://schemas.openxmlformats.org/officeDocument/2006/relationships/hyperlink" Target="https://mentor.ieee.org/802.11/dcn/13/11-13-0236-01-000m-minutes-for-tg-revmc-teleconferences-feb-and-march-2013.docx" TargetMode="External"/><Relationship Id="rId5" Type="http://schemas.openxmlformats.org/officeDocument/2006/relationships/hyperlink" Target="https://mentor.ieee.org/802.11/dcn/13/11-13-0236-01-000m-minutes-for-tg-revmc-teleconferences-feb-and-march-2013.docx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0233-03-000m-revmc-wg-ballot-comments.xl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49AF7DA-ED64-477E-9A9A-8B7A72AAF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11 TGmc Mar 2013 Agend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3-03-1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11"/>
          <p:cNvGraphicFramePr/>
          <p:nvPr/>
        </p:nvGraphicFramePr>
        <p:xfrm>
          <a:off x="519120" y="2273400"/>
          <a:ext cx="8229600" cy="252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2273400"/>
                    <a:ext cx="8229600" cy="25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12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892D9E7-3901-465C-9452-96B3B1E4D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rove comment resolutions to comments in Document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y for Motion” T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E4F25CF-79E3-4F29-93C3-CEB3EE0BD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ch – May Meeting Plann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erence Calls 10am Eastern  2 hou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ril 5, 12, 19, 26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-Hoc meeting – no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edule review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58316AE-960C-43DF-AF23-3DD08173A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12/11-12-0594-02-0000-revision-par-proposal-for-802-11-2012.do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09/11-09-0002-12-0000-802-11-operations-manual.doc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12/11-12-1082-08-0000-revmc-pre-ballot-comments.xl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13/11-13-0233-04-000m-revmc-wg-ballot-comments.xl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DAF51A6-7424-4C5B-B68D-B2E0498B0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presentation contains the IEEE 802.11 TGmc agenda for the March 2013 sess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871D61F-FDB4-4768-995B-196C03B23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Gmc Agend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80880" y="6019920"/>
            <a:ext cx="830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ttendance reminder: </a:t>
            </a:r>
            <a:r>
              <a:rPr b="0" lang="en-US" sz="12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urphy.events.ieee.org/imat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s: </a:t>
            </a:r>
            <a:r>
              <a:rPr b="0" lang="en-US" sz="12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ocumen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9"/>
          <p:cNvSpPr/>
          <p:nvPr/>
        </p:nvSpPr>
        <p:spPr>
          <a:xfrm>
            <a:off x="333360" y="1644480"/>
            <a:ext cx="42386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nday P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hair’s Welcome, Status, Review of Objectives, Approve agenda, min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Editor’s Rep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imeline and Sche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 – Editor discu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5"/>
          <p:cNvSpPr/>
          <p:nvPr/>
        </p:nvSpPr>
        <p:spPr>
          <a:xfrm>
            <a:off x="4724280" y="1676520"/>
            <a:ext cx="396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dnesday PM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o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 –CID 13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6"/>
          <p:cNvSpPr/>
          <p:nvPr/>
        </p:nvSpPr>
        <p:spPr>
          <a:xfrm>
            <a:off x="4734000" y="4876920"/>
            <a:ext cx="39621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ursday PM1, PM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, LB Mo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lans for M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5"/>
          <p:cNvSpPr/>
          <p:nvPr/>
        </p:nvSpPr>
        <p:spPr>
          <a:xfrm>
            <a:off x="4714920" y="3962520"/>
            <a:ext cx="3962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ursday PM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otion, Comment Resolution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"/>
          <p:cNvSpPr/>
          <p:nvPr/>
        </p:nvSpPr>
        <p:spPr>
          <a:xfrm>
            <a:off x="371520" y="3581280"/>
            <a:ext cx="397188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uesday P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13/102, 13/131 13/293– Yaron Alp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 – Ashley, Editor Review, “Trivial technical”, 118, 284, 1555, 1556, 1585, 16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"/>
          <p:cNvSpPr/>
          <p:nvPr/>
        </p:nvSpPr>
        <p:spPr>
          <a:xfrm>
            <a:off x="343080" y="5105520"/>
            <a:ext cx="3390840" cy="14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uesday P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cope of editorial com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5"/>
          <p:cNvSpPr/>
          <p:nvPr/>
        </p:nvSpPr>
        <p:spPr>
          <a:xfrm>
            <a:off x="4714920" y="2895480"/>
            <a:ext cx="4200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dnesday P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 - Security, Mesh, 13/0012, 13/0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FF2E2BD-F245-4381-972B-9BCFFC5B8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685800" y="-228600"/>
            <a:ext cx="77724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380880" y="83808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1807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mc 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day PM1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80880" y="1852560"/>
            <a:ext cx="80773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l Meeting to Or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icies and Procedures, Attendance rem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**IEEE Patent Policy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ea typeface="Arial"/>
                <a:hlinkClick r:id="rId1"/>
              </a:rPr>
              <a:t>http://standards.ieee.org/board/pat/pat-slideset.pp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300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re there any patent claim(s)/patent application claim(s) and/or the holder of patent claim(s)/patent application claim(s) that the participant believes may be essential for the use of that standard? Minute any responses that were given, specifically the patent claim(s)/patent application claim(s) and/or the holder of the patent claim(s)/patent application claim(s) that were identified (if any) and by wh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522720" y="5989680"/>
            <a:ext cx="23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Read slide d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* Note especially items #7 &amp; #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5D1DB47-7CC7-4CB5-969C-0C1A80501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ease review the documents at the following links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  IEEE Patent Polic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standards.ieee.org/board/pat/pat-slideset.pp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tent FA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standards.ieee.org/board/pat/faq.pdf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A For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://standards.ieee.org/board/pat/loa.pd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filiation FA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http://standards.ieee.org/faqs/affiliationFAQ.htm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ti-Trust FA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5"/>
              </a:rPr>
              <a:t>http://standards.ieee.org/resources/antitrust-guidelines.pdf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hi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6"/>
              </a:rPr>
              <a:t>http://www.ieee.org/portal/cms_docs/about/CoE_poster.pdf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802.11 Working Group P&amp;P 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   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7"/>
              </a:rPr>
              <a:t>https://mentor.ieee.org/802.11/public-file/07/11-07-0360-04-0000-802-11-policies-and-procedures.do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2 WG P&amp;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8"/>
              </a:rPr>
              <a:t>https://mentor.ieee.org/802-ec/dcn/09/ec-09-0007-02-00EC-draft-lmsc-wg-p-p.pdf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802 LMSC P&amp;P: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9"/>
              </a:rPr>
              <a:t>https://mentor.ieee.org/802-ec/dcn/09/ec-09-0005-02-00EC-draft-revised-lmsc-p-p-for-wg-p-p-ballot.pd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802 LMSC OM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0"/>
              </a:rPr>
              <a:t>https://mentor.ieee.org/802-ec/dcn/09/ec-09-0006-02-00EC-draft-revision-of-the-lmsc-om-for-wg-p-p.pd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1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2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C425F04-20F4-4F27-AF56-C215E9FD6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lide </a:t>
            </a:r>
            <a:fld id="{972D7B5A-CF34-4711-91B0-F2ACD1E141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tendance recording procedu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11-09/0246r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urphy.events.ieee.org/i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register before logging atten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log attendance during each 2 hour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mentor.iee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“TGm” for documents relating to the Revision P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1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ooter Placeholder 2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B6C877A-CCF5-4398-80AB-EDD3DF9C8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lide </a:t>
            </a:r>
            <a:fld id="{D93E78EC-BC1D-4CF7-BC61-FDCFD5343B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day PM1 (continued)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rove prior meeting minu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mentor.ieee.org/802.11/dcn/13/11-13-0022-00-000m-minutes-for-jan-2013-interim-vancouver.doc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://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5"/>
              </a:rPr>
              <a:t>mentor.ieee.org/802.11/dcn/13/11-13-0236-01-000m-minutes-for-tg-revmc-teleconferences-feb-and-march-2013.doc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624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on to approve: Moved: Jon Rosdahl, Second: Mike Montemurro, Result: Approved by unanimous cons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itor’s Report (Adrian Stephe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ft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1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ooter Placeholder 2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4B37EED-3F7B-475A-A243-E755450D0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DBC172B-A0EF-4322-A886-A9CCD8F6A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mc Plan of Recor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 July 2012 – 12 Sept 2012 – Call for Comment/Inpu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9-30 Aug 2012 – NesCom, SASB PAR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t 2012 – Begin to process input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t 2012 – 11aa, 11ae integr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n – First WG Letter ballot  - without 11a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 2012 – March/May 2013  – 11ad integration – May/July ballot on D2.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 2013 – March 2014 – 11ac integr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b 2014 – Mandatory Draft Review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b-March 2014 – Form Sponsor Pool (45 days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ril/May – Initial Sponsor Ballot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BD – integration of additional completed amendments (e.g. 11af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v 2014 – WG/EC Final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ch 2015 – RevCom/SASB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508BDF1-BC26-463B-92EC-B359D938B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vancing the “Needs Submission” Category Com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ease review the comments with “Needs Submission” in Ad-Hoc status category (Column W) i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0233-03-000m-revmc-wg-ballot-comments.x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there any CIDs that should not be so categorized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so, please notify the ch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osal is to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 submission to comm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 submission received, reject comment with “insufficient detail provided” rea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itionally mark CIDs 1010, 1078, 1640 as “Needs Submission”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disagreement, please notify the ch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21:26:55Z</dcterms:created>
  <dc:creator>Dorothy Stanley</dc:creator>
  <dc:description/>
  <dc:language>en-US</dc:language>
  <cp:lastModifiedBy>Dorothy Stanley</cp:lastModifiedBy>
  <cp:lastPrinted>1998-02-10T13:28:06Z</cp:lastPrinted>
  <dcterms:modified xsi:type="dcterms:W3CDTF">2013-03-18T20:12:10Z</dcterms:modified>
  <cp:revision>1239</cp:revision>
  <dc:subject/>
  <dc:title>TGm Agenda</dc:title>
</cp:coreProperties>
</file>