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131911-7CBD-4B7B-8BE5-9FDDAF346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E6F5BB-0D94-4C6A-A8CF-E97836504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BB0A3E-6C57-4D90-ACF8-1DA59E91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1CE2E1-7660-4E87-AB70-89A896AB9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D975BF-7BEF-49A6-8A1D-853025183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B5F135-F67B-4FBF-94CF-550177247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FD2986-A49D-4CA0-8CD5-6908DEDB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F69952-FC0E-4FD0-9E51-C4159936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6320BB-7DA2-4F46-8748-B6B3B634B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863258-307C-445C-BD48-7BDE5FA2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CB3F762E-E3E7-481C-B593-0449AD8C7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94F248-5D67-400B-898D-DFF44C84A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5DC6F810-2295-4FAB-B8CC-730A1BEF28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CD3ED0-C4AE-416A-B448-BD27AF9F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705E34-1CF6-40CC-8D16-0292AD520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9B5F4E-1848-4AE9-85AB-F80F989A6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074-1240-4B50-9AE9-4631D345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A25-92EE-4531-A7CB-A65A791B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92E-58DB-4283-A58A-85741FB3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D04-82BD-4FE5-9FC0-C35F5738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F72-EE84-4240-AB22-29E51DF0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8AA-0170-44BE-A7D4-D8478EA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C7B-B825-4E7C-A1A8-B47DD3A6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757-C1BC-4968-99AA-0FC8F436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459-656E-4E3A-90D1-9B9B9B4C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AE9-4170-4409-82C4-1687A3B6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BB3-5D17-4112-8001-A4BDA2D8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982-D8F8-4540-85E6-7CB6233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36684A-61DA-4177-913A-9D7B512E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00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283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022-00-000m-minutes-for-jan-2013-interim-vancouver.docx" TargetMode="External"/><Relationship Id="rId2" Type="http://schemas.openxmlformats.org/officeDocument/2006/relationships/hyperlink" Target="https://mentor.ieee.org/802.11/dcn/13/11-13-0022-00-000m-minutes-for-jan-2013-interim-vancouver.docx" TargetMode="External"/><Relationship Id="rId3" Type="http://schemas.openxmlformats.org/officeDocument/2006/relationships/hyperlink" Target="https://mentor.ieee.org/802.11/dcn/13/11-13-0236-01-000m-minutes-for-tg-revmc-teleconferences-feb-and-march-2013.docx" TargetMode="External"/><Relationship Id="rId4" Type="http://schemas.openxmlformats.org/officeDocument/2006/relationships/hyperlink" Target="https://mentor.ieee.org/802.11/dcn/13/11-13-0236-01-000m-minutes-for-tg-revmc-teleconferences-feb-and-march-2013.docx" TargetMode="External"/><Relationship Id="rId5" Type="http://schemas.openxmlformats.org/officeDocument/2006/relationships/hyperlink" Target="https://mentor.ieee.org/802.11/dcn/13/11-13-0236-01-000m-minutes-for-tg-revmc-teleconferences-feb-and-march-2013.docx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9B70D6-BB58-468B-9354-C5773188F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Ma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3-1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49AF5F-1E91-4E5D-B8EF-EC13023AA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comment resolutions to comments in Docum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y for Motion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E169C3-3439-447B-BAC2-A81A1654A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– 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5, 12, 19, 2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59AA0E-51E0-405E-8C50-6B910D887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08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0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1F3DA4-539A-4183-9AFD-C98268ED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March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9B3206-6CF5-48FA-AA1F-4350C7750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s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644480"/>
            <a:ext cx="4238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Editor discuss, Alex Ashley, “Review” 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676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87692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,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, LB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96252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 – Security, 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71520" y="3821040"/>
            <a:ext cx="397188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3/102, 13/131 13/293– Dan C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Continued, + “Trivial technic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43080" y="4971960"/>
            <a:ext cx="32382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714920" y="28954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BB04DE-E191-417D-8C3E-2A7096CB2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EAD5F1-3455-42F8-9D19-0A518F6DA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42CDCE-0A44-450B-930F-DEE96D661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78F1ACBD-D4D2-4B9C-955A-8326B7CE6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74624D-3FF9-4DCA-AE5E-154D778C1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A4B72E96-6D87-4F65-8F9B-085C486DBA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022-00-000m-minutes-for-jan-2013-interim-vancouver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mentor.ieee.org/802.11/dcn/13/11-13-0236-01-000m-minutes-for-tg-revmc-teleconferences-feb-and-march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 to approv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27AFDC-E618-4178-B0DC-509FA626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140777-F9C1-410D-BD1F-50F6C8CDA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 May/July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7ABFC3-12F6-4C69-B7EF-A5F8A90FB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in the “Needs Submission” catego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that should not be in this categor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is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3-17T22:51:49Z</dcterms:modified>
  <cp:revision>1230</cp:revision>
  <dc:subject/>
  <dc:title>TGm Agenda</dc:title>
</cp:coreProperties>
</file>