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D18B09-6B2A-4B46-9679-B2DC47379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2EA2D5-C403-42A2-B8BC-6FF3E951D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96932B-585D-40F3-9058-AC315888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4FCDB5-2AA2-429D-A36B-97959CD05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7555B8-1469-421B-9851-0D71EF9AB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D8BC59-F5FC-4A77-979C-26061A48A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C42A60-7EA2-4F48-950F-1402FF598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8FF1F2-D197-4D2C-BA69-5B4AC288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A7B57D-6095-4331-AA81-964DE4581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BB8C28-CD32-4F0A-9748-8B334932F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F7FEA7D5-0D1C-408B-ACA9-1C8E36331E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A4E845-2732-4A18-B72E-34EBFA149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06720E09-765C-4DBE-950F-618864E88A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9A92DF-8CAF-488E-80D1-767476386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35B8D7-0CAA-40B7-BF91-7ABC80B45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F9FEAF-1C4B-4381-AFE2-3BFD0765D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8FF-FAB3-416C-A09B-223C72B7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ABA-2F53-4FBE-8095-8F81FF38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502-BD5D-41D8-8707-92E75552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A77-8D1C-4C7E-A666-E183868B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3FA-68B8-409D-990E-6541CC7F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DC4-BB74-4BB2-A88E-E48E95FC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BDA-6EA8-4987-86A7-70098A45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6B6-E318-4B72-99BB-DA258AB2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FEB-CF25-4F8D-B6FA-6DA4A3AD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5CF-2762-48C7-BE86-88562231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300-F7F2-4AA0-820C-695F9DF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51A-8E20-4995-B820-072AFD85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31DAC0-D197-4DC4-8C25-C348DDB8C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00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283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022-00-000m-minutes-for-jan-2013-interim-vancouver.docx" TargetMode="External"/><Relationship Id="rId2" Type="http://schemas.openxmlformats.org/officeDocument/2006/relationships/hyperlink" Target="https://mentor.ieee.org/802.11/dcn/13/11-13-0022-00-000m-minutes-for-jan-2013-interim-vancouver.docx" TargetMode="External"/><Relationship Id="rId3" Type="http://schemas.openxmlformats.org/officeDocument/2006/relationships/hyperlink" Target="https://mentor.ieee.org/802.11/dcn/13/11-13-0236-01-000m-minutes-for-tg-revmc-teleconferences-feb-and-march-2013.docx" TargetMode="External"/><Relationship Id="rId4" Type="http://schemas.openxmlformats.org/officeDocument/2006/relationships/hyperlink" Target="https://mentor.ieee.org/802.11/dcn/13/11-13-0236-01-000m-minutes-for-tg-revmc-teleconferences-feb-and-march-2013.docx" TargetMode="External"/><Relationship Id="rId5" Type="http://schemas.openxmlformats.org/officeDocument/2006/relationships/hyperlink" Target="https://mentor.ieee.org/802.11/dcn/13/11-13-0236-01-000m-minutes-for-tg-revmc-teleconferences-feb-and-march-2013.docx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562A9F-68BE-429D-AD85-5CE9B07C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Ma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3-1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EC3C8F-B96A-43AE-8A6D-43E626067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comment resolutions to comments in Docume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y for Motion”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71FCC2-DC97-4D4F-AEF7-91D89B751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– May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5, 12, 19, 2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C997C2-2D6C-4D74-AA93-C670D5586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08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03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528DE6-E401-4D1B-B367-8FDB618D6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March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EA06DE-75AC-4A93-A606-6742BB856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endance reminder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s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644480"/>
            <a:ext cx="4238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Editor discuss, Alex Ashley, “Review” 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6765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876920"/>
            <a:ext cx="396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,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, LB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96252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, Comment Resolution – Security, 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71520" y="3821040"/>
            <a:ext cx="397188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3/102, 13/131 13/293– Dan C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Continued, + “Trivial technica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43080" y="4971960"/>
            <a:ext cx="32382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5"/>
          <p:cNvSpPr/>
          <p:nvPr/>
        </p:nvSpPr>
        <p:spPr>
          <a:xfrm>
            <a:off x="4714920" y="2895480"/>
            <a:ext cx="420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366A50-A664-4175-B512-9AEDA52F2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EE3F36-62C5-4587-B8DB-BD67BF4D4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6B79B4-A280-46A6-8259-61B754EF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E76E1860-C315-4B46-8748-FA3716A2E2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68C5FF-D19E-4447-ACB8-7323350E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6AE61510-96F2-45F0-BB5A-C9F0CBE185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mentor.ieee.org/802.11/dcn/13/11-13-0022-00-000m-minutes-for-jan-2013-interim-vancouver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mentor.ieee.org/802.11/dcn/13/11-13-0236-01-000m-minutes-for-tg-revmc-teleconferences-feb-and-march-2013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on to approv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6B3117-BE47-474A-996B-47D55BFCD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D3B90D-1EBC-4593-9D41-E628760E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 May/July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45EB77-B3EB-4ED6-9243-93120E52D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in the “Needs Submission” catego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that should not be in this categor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is 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3-17T22:51:49Z</dcterms:modified>
  <cp:revision>1230</cp:revision>
  <dc:subject/>
  <dc:title>TGm Agenda</dc:title>
</cp:coreProperties>
</file>