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5572080" y="-755280"/>
            <a:ext cx="641520" cy="106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645840" y="97200"/>
            <a:ext cx="82692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12400" y="701280"/>
            <a:ext cx="4635720" cy="34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5287680" y="9000720"/>
            <a:ext cx="925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181320" y="900072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3BF21226-7236-48FB-8910-7E90007EB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10640" y="900108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716040" y="8999640"/>
            <a:ext cx="5425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639720" y="297000"/>
            <a:ext cx="557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4793040" y="9756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11/0051r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683640" y="97560"/>
            <a:ext cx="75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y 201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4451400" y="9001080"/>
            <a:ext cx="2599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2952720" y="900108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6EE0905-7547-4EBF-91AB-926D74B9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12760" y="701640"/>
            <a:ext cx="4635720" cy="3476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4164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218-47FF-4AB4-9BF1-B7949A1D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353-EFA8-427E-8E4D-95CC31708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A61-BBB0-4661-BE61-38526872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8373-DB07-4CC8-A2D0-2EB49F91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80BC-B1FF-40C2-B90D-B834B303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ACFF-C043-4D57-98C2-BC35A9AD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42B4-EF3B-4991-B558-41869311F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7AA14-1A62-4186-BB9C-894C55F6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86C1-2490-403F-8A78-BD69972D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D918F-3F0C-4D73-BF48-8267907C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5AE3-4566-4D6A-A686-4FC38808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4733-C9E7-453D-B354-42350B04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C437-B5BF-4D66-926F-763A92B3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87C8-BEB7-48A2-84C7-10E3E28D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FCDB-2055-462F-BA1C-A9128AB1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C0F6-679A-4D2F-9782-DC702952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1F16-305E-4B0F-9370-475F78139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C9EFB-6C8D-47C2-BB4C-B5E0D9AA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B128F-3660-4BCF-B17F-2524C07E9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05FEB-169D-4F35-B046-F0AFC88C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EAAFA-2D7F-4EB1-9D0D-4A0C99B98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99B3-D5AD-4203-95A1-D5C8CFE8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283F-FEB9-4D80-A772-1FD8202B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393F5-6F67-4DBD-A55C-6C9FBF02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7B3E4-05D9-4D6F-992F-5516C429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1069-E121-489A-8AD5-2860A7D4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57DE4-9C11-49C9-A6EB-AEE9BAB9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6613A-590E-453D-AFBF-7302E75B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4F5CC-B2A1-4FA5-9F32-011D24CB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A6B47-C71E-406A-B012-49AB1B69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FCF-90C6-4760-9215-387F64330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0D21-C250-4808-AB38-8BBAEDC0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557-DFBF-438C-9684-DD0360DD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788-5323-4DFC-9B3B-C1B08F92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81E-01D5-4B50-8113-A0DCD676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B625-F360-42BD-9C9A-40555ADA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0120"/>
            <a:ext cx="93024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234872-CE1B-441A-847B-7F848E685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095440" y="334800"/>
            <a:ext cx="341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25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arch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DF9A-99C3-4445-BC31-2B2CE39BB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5095440" y="334800"/>
            <a:ext cx="341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3/025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760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traight Connector 11"/>
          <p:cNvSpPr/>
          <p:nvPr/>
        </p:nvSpPr>
        <p:spPr>
          <a:xfrm>
            <a:off x="685800" y="609480"/>
            <a:ext cx="785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96600" y="60120"/>
            <a:ext cx="95580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8077320" y="6474960"/>
            <a:ext cx="466560" cy="10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D3E663B-23D2-440D-A50E-2F4D7DE00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BF603C2-1AFE-49C7-AA60-6A8D0C8DB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2.11 Members:  how to set up an IEEE-SA web ac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3-03-0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Object 11"/>
          <p:cNvGraphicFramePr/>
          <p:nvPr/>
        </p:nvGraphicFramePr>
        <p:xfrm>
          <a:off x="523800" y="2276640"/>
          <a:ext cx="7772400" cy="260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2276640"/>
                    <a:ext cx="77724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Rectangle 12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cord an interest in C/LM/WG802.11 -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5CDA67-90A0-4E3F-AF6B-DC2FBC36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ou will then be asked to indicate your affiliation for 802.11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hoose the name of the company or other entity that is paying for you to attend 802.11 sessions.   If you are a contractor,  paid to attend by one or more of your clients,  you need to list them he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ess “continue”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mail adrian.p.stephens@intel.com with your SA Pin,  this makes sure that any imminent votes or meetings will use the right credentia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ccess – you are now don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w to change my email address -1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ven though your email address is used to sign in to your web account,  you can change 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gn into to MyProject. And select the “Account” icon on the righ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croll down to the bottom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press “click to change” under the Email categor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590891-92AD-4B3C-9504-D7915791C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9001080" cy="285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2"/>
          <a:stretch/>
        </p:blipFill>
        <p:spPr>
          <a:xfrm>
            <a:off x="1066680" y="4419720"/>
            <a:ext cx="66200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w to change my email address -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ign in to the popup.  Takes you to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s://www.ieee.org/profile/personalprofile/showProfileHome.ht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ere you can change the primary email address.  You can change this to anything you like, even if you have no access to the original accou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ou can now sign in using this new email address.  You will get the same SA Pin as previous,  showing that this is still the same accou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1F64DCE-07C4-4357-A2C5-DAEC8AF9A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w to change your affili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 in to MyProjec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s://development.standards.ieee.org/my-site/h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lect “account” from right hand sid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lick on “Affiliation Information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Review affiliations for all groups you have registered an interest in (or attended at an 802.11 meeting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ke any necessary changes and press “OK”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4254B4B-0DA5-4D9A-B8EB-46230BEC4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553080" y="2438280"/>
            <a:ext cx="1295640" cy="639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647640" y="4238640"/>
            <a:ext cx="781992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w to delete your IEEE-SA web accoun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20024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ou need to chat with an agent at IEEE to ask them to delete the accoun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 on to your IEEE profil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s://www.ieee.org/profile/personalprofile/showProfileHome.ht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cc"/>
                </a:solidFill>
                <a:latin typeface="Times New Roman"/>
              </a:rPr>
              <a:t>Click on “Personal Profile” 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cc"/>
                </a:solidFill>
                <a:latin typeface="Times New Roman"/>
              </a:rPr>
              <a:t>record your customer num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cc"/>
                </a:solidFill>
                <a:latin typeface="Times New Roman"/>
              </a:rPr>
              <a:t>Click on IEEE Support Center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ubmit a question and chat to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upport staff online.  Expect 1 day turnarou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 delete account.  They will respond with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Thank you for your recent chat. I wish to confirm with you that the above account number was purged by the IEEE Data Quality Control department.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36FB35F-F41D-4F81-B8B2-7D847515E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5943600" y="4152960"/>
            <a:ext cx="2476440" cy="1219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"/>
          <p:cNvPicPr/>
          <p:nvPr/>
        </p:nvPicPr>
        <p:blipFill>
          <a:blip r:embed="rId2"/>
          <a:stretch/>
        </p:blipFill>
        <p:spPr>
          <a:xfrm>
            <a:off x="4549680" y="2971800"/>
            <a:ext cx="339084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y do we need an IEEE-SA web accoun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record attendance to an authenticated individual (IMA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determine who can vote on ePoll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authenticate the person getting document numbers and uploading docu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o record indicated interest in joining a sponsor ballot poo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656B507-BD29-4997-9E34-88E606E08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at is the IEEE web account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account associates an individual with the various roles that individual plays in 802.11 (voter,  officer).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account is actually split into two halves,  managed by different organizations within IEEE.  The IEEE web account stores your primary email address and authentication data.  The IEEE</a:t>
            </a:r>
            <a:r>
              <a:rPr b="1" lang="en-GB" sz="2000" spc="-1" strike="noStrike">
                <a:solidFill>
                  <a:srgbClr val="ff3300"/>
                </a:solidFill>
                <a:latin typeface="Times New Roman"/>
              </a:rPr>
              <a:t>-SA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web account stores your membership status in 802.11,  and your attendanc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e IEEE-SA account is uniquely identified by an “SA pin” number.  You can see this when you log 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You only ever need one IEEE-SA web account,  regardless of changes in name, position, employment or email addres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4C4973E-CE73-4D0C-8C7C-72DC7AF7B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Times New Roman"/>
              </a:rPr>
              <a:t>I’ll say it again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You need only </a:t>
            </a:r>
            <a:r>
              <a:rPr b="1" lang="en-GB" sz="6600" spc="-1" strike="noStrike">
                <a:solidFill>
                  <a:srgbClr val="ff00ff"/>
                </a:solidFill>
                <a:latin typeface="Times New Roman"/>
              </a:rPr>
              <a:t>On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ccount.  Ever.  Perio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you have mo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en-GB" sz="2400" spc="-1" strike="noStrike">
                <a:solidFill>
                  <a:srgbClr val="ff00ff"/>
                </a:solidFill>
                <a:latin typeface="Times New Roman"/>
              </a:rPr>
              <a:t>you’re 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Times New Roman"/>
              </a:rPr>
              <a:t>doing something wro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  (Some people have 5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aving multiple accounts make it difficult go ensure you get voting tokens on your badges, 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kes it very easy for your attendance or voting credit to go to the “wrong version of you”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39C814A-B93C-41A2-A9C5-73DC0F3F1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-3.88529E-007 L 0 -0.07216 E">
                                      <p:cBhvr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tep by Step instru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ollow this URL: http://www.ieee.org/go/create_web_accou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Which sho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lick on “Create Account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swer ques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9B09DD3-28B1-49C8-9190-A635B4518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809880" y="2819520"/>
            <a:ext cx="4114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is takes you to the IEEE account management p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700A498-4EBE-4986-BDF1-0C6FB1751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106960" cy="40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Now supply IEEE-SA additional informa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90512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s://development.standards.ieee.org/my-site/h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sks for additional information to be provid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ll in all mandatory field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D17DEB6-712B-4FD7-AD7C-A1D0C3AF7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4419720" y="1449360"/>
            <a:ext cx="4376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cord an interest in C/LM/WG802.11 - 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og on to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s://development.standards.ieee.org/my-site/h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ould se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A7D2DBD-643D-46C0-87A1-B39F8F39E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2286000" y="3429000"/>
            <a:ext cx="57150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cord an interest in C/LM/WG802.11 - 2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elect “Manage activity profile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pand list at “Computer society,  LAN/MAN standards”,  should see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o ahead and select C/LM/802.1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nd press “continue” at botto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Date Placeholder 3"/>
          <p:cNvSpPr/>
          <p:nvPr/>
        </p:nvSpPr>
        <p:spPr>
          <a:xfrm>
            <a:off x="586440" y="334800"/>
            <a:ext cx="117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rch 201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7240320" y="6475320"/>
            <a:ext cx="21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ian Stephens, Intel Corporati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31C28E9-F941-4358-BADD-D00A4A447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271520" y="3276720"/>
            <a:ext cx="5524560" cy="13348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1143000" y="4964040"/>
            <a:ext cx="6172200" cy="239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3"/>
          <a:stretch/>
        </p:blipFill>
        <p:spPr>
          <a:xfrm>
            <a:off x="5605560" y="5551560"/>
            <a:ext cx="2381040" cy="2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Adrian Stephens</dc:creator>
  <dc:description/>
  <dc:language>en-US</dc:language>
  <cp:lastModifiedBy>Adrian Stephens, 207</cp:lastModifiedBy>
  <cp:lastPrinted>1998-02-10T13:28:06Z</cp:lastPrinted>
  <dcterms:modified xsi:type="dcterms:W3CDTF">2013-03-05T21:00:05Z</dcterms:modified>
  <cp:revision>1304</cp:revision>
  <dc:subject/>
  <dc:title>802.11 Vice Chair's Report 2012</dc:title>
</cp:coreProperties>
</file>