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EF8D9D-82CC-4B25-91BB-4B0DA28E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E5EAD8-5A9F-466A-98E7-683B89D5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A28-5EDB-42FF-B425-FD840F58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910-CE42-448F-9F27-8CB01C1D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291-D002-4A9F-A9CE-8EA0C380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26B-8595-4218-A67D-807FDC0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225-3F27-4D61-A121-09D57C3E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E56-2D37-4FDA-AB59-D80DE0D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CD95-8922-432D-8396-03D9CBD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97E-0444-43A8-B7B7-6B8D032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4E36-F1DD-4727-B33D-77F01F3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C9D-409D-4D26-B0E1-BEFCF30C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1707-E612-43A7-B829-DC08835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3C3-3071-4DFC-B2FE-B5A7C807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1E4-DC76-4FEF-85E9-ACCA971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69B-7E39-48A6-AEC0-5624BFB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772-0E12-4298-823C-09AE94E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A52E-5E86-42CB-94B9-EED0C193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70A-639C-4068-ADBF-7A050609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A934-E945-4739-83F9-C9A2E0BC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5765-B9D3-4429-953C-EAB9DA9B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0062-B98F-4DB0-8D39-8A44DD4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E0BE-829C-4B32-8641-CA226815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B3F0-D029-491A-99EE-C0119C05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8D8-3BCD-4619-A326-D0EB3A5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C041-CA1C-4E66-8395-E8373A0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A7AD-739A-4F4C-8D5F-24E69361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B294-C2BF-488B-BEB2-C449854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8CDF-BD13-4332-B158-45A8BD8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AAA0-1A17-4CD1-8C52-A838A2F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1511-61C0-4C25-AB21-06F8104E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5100-00A8-42E0-B17B-94E32A3D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B2D-AF46-42B7-BB29-261986E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116-8FA4-4684-83E0-96D74B4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BAF-96C5-48A5-BF01-14A4E256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19E-02CB-485C-B684-84AEB7E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B0C-E62F-45AB-B9BE-83F5682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094-E479-49EE-981C-2134AEE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477A4A-5019-4ADA-84C1-E43E3BBF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27E7-921A-495D-9826-38DFEE632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91D100-691C-4E05-B0D5-8B46A5730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2AAEA4-9673-4EF8-A056-8FBAAEAF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June 20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6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d speculative editing has star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363C53-4FF6-4877-992B-E669C3EB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33720" y="1600200"/>
          <a:ext cx="4952880" cy="4675320"/>
        </p:xfrm>
        <a:graphic>
          <a:graphicData uri="http://schemas.openxmlformats.org/drawingml/2006/table">
            <a:tbl>
              <a:tblPr/>
              <a:tblGrid>
                <a:gridCol w="1938240"/>
                <a:gridCol w="1123920"/>
                <a:gridCol w="865080"/>
                <a:gridCol w="1025640"/>
              </a:tblGrid>
              <a:tr h="260280"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edit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it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30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IEEE St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837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rework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05 approve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_A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0280">
                <a:tc>
                  <a:txBody>
                    <a:bodyPr lIns="11700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7000" marR="129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2960" rIns="1296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960" marR="12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 of 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0763F1-F678-44C8-BC0E-BC09DB75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90920" y="1219320"/>
          <a:ext cx="4038480" cy="5181480"/>
        </p:xfrm>
        <a:graphic>
          <a:graphicData uri="http://schemas.openxmlformats.org/drawingml/2006/table">
            <a:tbl>
              <a:tblPr/>
              <a:tblGrid>
                <a:gridCol w="1811160"/>
                <a:gridCol w="855720"/>
                <a:gridCol w="406440"/>
                <a:gridCol w="434880"/>
                <a:gridCol w="530280"/>
              </a:tblGrid>
              <a:tr h="6620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IT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56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f Kas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ni Malin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MONTEMUR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elsi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 Wa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 McCa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esh Venkates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urd Schelstrae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0440" rIns="10440" tIns="104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104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2B696C-D455-4DEE-8B8A-C47FDFC6D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733920" y="587520"/>
          <a:ext cx="3733560" cy="586260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6280"/>
                <a:gridCol w="747720"/>
                <a:gridCol w="745920"/>
              </a:tblGrid>
              <a:tr h="187200">
                <a:tc gridSpan="5">
                  <a:txBody>
                    <a:bodyPr lIns="43920" rIns="43920" tIns="21960" bIns="21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 of assignments by adhoc and comment group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ee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ing Ad-ho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Group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OfCID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920" rIns="43920" tIns="21960" bIns="21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 6707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 Stephe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9, 515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f KASHE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6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an Hart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49, 5177, 5179, 5182, 5223, 5339, 6049, 6244, 6283, 6316, 6330, 6354, 6356, 6417, 641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3, 677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Aldana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74, 518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6, 5037, 504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9, 5987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 Cordeiro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0, 5164, 627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8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098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 Harkin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2, 5068, 5728, 6106, 6183, 6184, 6190, 6275, 6276, 6277, 6278, 6280, 6285, 6293, 6345, 6349, 6358, 6359, 6367, 6393, 6394, 6398, 6412, 6421, 6455, 6459, 6507, 6509, 6510, 6511, 6512, 6513, 6521, 6576, 6625, 682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3, 672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0, 5311, 5318, 531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Au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9, 5693, 5694, 569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esh Venkatesa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7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ni Maline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4, 6239, 6240, 656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500"/>
                      </a:b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2, 5033, 5034, 5035, 5039, 5060, 5398, 6340, 6341, 6342, 6407, 6503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MPDU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0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4, 5585, 5586, 5587, 5571, 5573, 5596, 5617, 5620, 5621, 5622, 5623, 5625, 5628, 563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4, 5362, 5542, 5566, 6658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7, 514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3840"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Hamilt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21960" bIns="21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29</a:t>
                      </a:r>
                      <a:endParaRPr b="1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2210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804ACC-6472-463D-8D6D-26344395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57600" y="685800"/>
          <a:ext cx="4886280" cy="5486400"/>
        </p:xfrm>
        <a:graphic>
          <a:graphicData uri="http://schemas.openxmlformats.org/drawingml/2006/table">
            <a:tbl>
              <a:tblPr/>
              <a:tblGrid>
                <a:gridCol w="977760"/>
                <a:gridCol w="976320"/>
                <a:gridCol w="978120"/>
                <a:gridCol w="976320"/>
                <a:gridCol w="977760"/>
              </a:tblGrid>
              <a:tr h="255960">
                <a:tc gridSpan="5">
                  <a:txBody>
                    <a:bodyPr lIns="57600" rIns="5760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 of assignments by adhoc and comment group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e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ing Ad-ho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Group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OfCI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s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6, 6404, 673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logy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5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Erro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5, 6337, 6338, 633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08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26, 6442, 6452, 6482, 6490, 649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 Ris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1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er management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opera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thew Fischer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HT 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3, 5866, 5868, 5873, 5874, 5885, 5886, 5892, 5894, 5900, 5901, 6221, 6242, 6250, 6251, 6388, 6471, 6492, 6655, 670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 Frame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7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zo Wentink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 management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6, 619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08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MONTEMURRO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descrip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8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F &amp; HCF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am Torab Jahroni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 operatio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0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el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ex 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9, 5314, 5556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er Ecclesin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5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 Wang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8, 6687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urd Schelstraete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formats 8.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9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4520"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 McCann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working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Discuss/Re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04FD26-F62B-4655-894B-BEE1EAA09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iscuss = “input from TGmc needed before a resolution can be written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eview = “resolution written,  but TGmc needs to pay special attention to it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uss:  5300,  5344,  5536,  6114,  6318,  6319,  6517,  6634,  6740,  6776,  6836,  684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iew:  5308,  5357,  6248 + all the “Style” comment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people have kindly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7AD624-4BBC-4A84-B140-7E6AAEB9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570CB8-B627-4548-BD21-CD33283C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839880" y="1143000"/>
          <a:ext cx="769608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143000"/>
                    <a:ext cx="7696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C12043-7F53-4B79-94BD-4EC53A50E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1260360" y="1119240"/>
          <a:ext cx="669924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c D4.0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6 comments start at CID 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0 is shown as “LB1000”, comments start at CID 5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5AA7B0-DF12-4073-8692-B9181083F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9400" y="990720"/>
            <a:ext cx="291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62FE99-6F26-40E2-8160-DFEA7FFA8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29000" y="611280"/>
          <a:ext cx="4800600" cy="5848200"/>
        </p:xfrm>
        <a:graphic>
          <a:graphicData uri="http://schemas.openxmlformats.org/drawingml/2006/table">
            <a:tbl>
              <a:tblPr/>
              <a:tblGrid>
                <a:gridCol w="1512720"/>
                <a:gridCol w="443160"/>
                <a:gridCol w="228600"/>
                <a:gridCol w="299880"/>
                <a:gridCol w="546120"/>
                <a:gridCol w="300240"/>
                <a:gridCol w="228600"/>
                <a:gridCol w="298440"/>
                <a:gridCol w="528480"/>
                <a:gridCol w="414360"/>
              </a:tblGrid>
              <a:tr h="31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, Dav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s, Adri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lstraete, Sigur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ertz, Guid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, Doroth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, Angel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lake 3rd, Donal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dana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bJahromi, Pay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, Solom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g, Yunso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atthew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deiro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k, Yongh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wynne, Glo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clesine, Pet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jko, Gab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chi, Tomok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nen, Joun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, Em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ink, Menz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e, Jam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Cann, Stephe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th, Grah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koda, Kazuyuk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sher, Assa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h, Rain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an, Alecsand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, Robe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tion by ad-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D4D789-1A19-4F1F-929D-13B979FE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Table 7" descr=""/>
          <p:cNvPicPr/>
          <p:nvPr/>
        </p:nvPicPr>
        <p:blipFill>
          <a:blip r:embed="rId1"/>
          <a:stretch/>
        </p:blipFill>
        <p:spPr>
          <a:xfrm>
            <a:off x="371520" y="1974960"/>
            <a:ext cx="84376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ADC4B2-64E4-45F7-8EAC-6CB6027D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able 3" descr=""/>
          <p:cNvPicPr/>
          <p:nvPr/>
        </p:nvPicPr>
        <p:blipFill>
          <a:blip r:embed="rId1"/>
          <a:stretch/>
        </p:blipFill>
        <p:spPr>
          <a:xfrm>
            <a:off x="828720" y="1212840"/>
            <a:ext cx="77248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Resolutions by Resn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68220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76211B-7E99-4DE8-A4B2-314326203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28800" y="1523880"/>
          <a:ext cx="5638680" cy="4903920"/>
        </p:xfrm>
        <a:graphic>
          <a:graphicData uri="http://schemas.openxmlformats.org/drawingml/2006/table">
            <a:tbl>
              <a:tblPr/>
              <a:tblGrid>
                <a:gridCol w="3363840"/>
                <a:gridCol w="409680"/>
                <a:gridCol w="342720"/>
                <a:gridCol w="343080"/>
                <a:gridCol w="623880"/>
                <a:gridCol w="555480"/>
              </a:tblGrid>
              <a:tr h="4906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blan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3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IEEE St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ilar to CID 58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objected, submission-requi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rewo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objec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05 approv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12240" rIns="12240" tIns="12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240" rIns="12240" tIns="12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240" marR="12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5-06-17T13:22:43Z</dcterms:modified>
  <cp:revision>1366</cp:revision>
  <dc:subject/>
  <dc:title>802.11 Vice Chair's Report 2012</dc:title>
</cp:coreProperties>
</file>