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ED1BC0-659B-4AE7-B885-A1553E03A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9DFC3E-81C8-4870-97FB-855BFF6DB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B61-F234-44B1-8C59-AF96E9BA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648-92C1-46DB-A8FB-270E9961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1AA-BC06-4937-B10F-3F7B278A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BFA-57A4-480F-8ADD-2B5E0041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3840-CA62-4C76-B427-5D9F22DA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3AFC-C72F-4409-88CE-C5234102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7FED-7BB9-409B-AC3E-218F90A6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AF75-2018-44C6-89F7-9221C52F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0819-219E-44E2-8B67-9C3D90E5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C01D-2AA2-4919-9225-E5148AAF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1990-D401-4D5F-9E8B-12ED085B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914-1504-4D16-8D47-BA8A54FE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1245-0CD5-41CE-AE31-9F2B0095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4251-C191-420C-823C-3FDBC82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6806-950A-4B39-A31B-F7F8413B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5D22-CF1F-448B-856D-1B11C1D6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F90B-9D35-4AFE-84D7-77523389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8218-CA2D-40CA-BB77-36AB5A3C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AA97-2E0B-4187-9587-AB608860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EF73-C0AD-4ED4-A4AA-A6941C56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EFA4-98C9-41D4-8D07-0C32C7B7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9C55-5720-4614-A541-74C4621A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F2F-0F22-49B3-A22D-71FF780C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215E-35F2-48BA-83EC-547EB71F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E471-7611-492B-BB8C-C02650B4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3B40-0AFA-4397-ACF4-09FB7CB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7DF1-8205-4E6B-9E8B-5F390B9A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32B1-8BFF-46A5-A109-7E7F5576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FF911-035F-44FF-976C-D74ABBE5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0C0B-F973-4FB4-8A53-99603758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AE3-B38D-4D69-A06B-56B9CE28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96A-8C12-4413-AD8B-820F3702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EA2-04B7-4A6C-B500-61D8DF44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87C-2E87-4358-9D7E-F9715932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858-7DF2-4432-BECA-DFDB9D70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637-5675-44F6-BA1B-E4BD5FC0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FC0806-F038-443C-B334-A25ED7A05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7DA6-9256-48E4-AF67-CCF2F0926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60120"/>
            <a:ext cx="955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8B551F-990D-42E3-A855-BE1B5F44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272951F-85C6-4380-B7EE-0253011F9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c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June 201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5-06-1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d speculative editing has start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D29AAB4-3288-47E3-8369-7A76DF42A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133720" y="1600200"/>
          <a:ext cx="4952880" cy="4675320"/>
        </p:xfrm>
        <a:graphic>
          <a:graphicData uri="http://schemas.openxmlformats.org/drawingml/2006/table">
            <a:tbl>
              <a:tblPr/>
              <a:tblGrid>
                <a:gridCol w="1938240"/>
                <a:gridCol w="1123920"/>
                <a:gridCol w="865080"/>
                <a:gridCol w="1025640"/>
              </a:tblGrid>
              <a:tr h="260280"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edited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ited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8840">
                <a:tc>
                  <a:txBody>
                    <a:bodyPr lIns="1296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of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for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for a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1.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contents of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 to CID 530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IEEE Std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 to CID 583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 - rework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05 approved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296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_A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296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mmary of Assign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E0B00B-AE14-4FD9-9D32-9DA54B4C2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90920" y="1219320"/>
          <a:ext cx="4038480" cy="5181480"/>
        </p:xfrm>
        <a:graphic>
          <a:graphicData uri="http://schemas.openxmlformats.org/drawingml/2006/table">
            <a:tbl>
              <a:tblPr/>
              <a:tblGrid>
                <a:gridCol w="1811160"/>
                <a:gridCol w="855720"/>
                <a:gridCol w="406440"/>
                <a:gridCol w="434880"/>
                <a:gridCol w="530280"/>
              </a:tblGrid>
              <a:tr h="66204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IT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564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 Stephen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af Kash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an H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Ald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Cordeir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 Harkin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ward A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ni Malin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thew Fisch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zo Wentin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 MONTEMURR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Eccelsi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Ecclesi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i Wa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hen McCa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esh Venkatesa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urd Schelstrae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am Torab Jahr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2286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sign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8A504AD-5E5F-4C14-81BB-238EE82FE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733920" y="587520"/>
          <a:ext cx="3733560" cy="5862600"/>
        </p:xfrm>
        <a:graphic>
          <a:graphicData uri="http://schemas.openxmlformats.org/drawingml/2006/table">
            <a:tbl>
              <a:tblPr/>
              <a:tblGrid>
                <a:gridCol w="745920"/>
                <a:gridCol w="747720"/>
                <a:gridCol w="746280"/>
                <a:gridCol w="747720"/>
                <a:gridCol w="745920"/>
              </a:tblGrid>
              <a:tr h="187200">
                <a:tc gridSpan="5">
                  <a:txBody>
                    <a:bodyPr lIns="43920" rIns="43920" tIns="21960" bIns="21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ary of assignments by adhoc and comment group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ee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920" rIns="43920" tIns="21960" bIns="21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ing Ad-ho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920" rIns="43920" tIns="21960" bIns="21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 Group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920" rIns="43920" tIns="21960" bIns="21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OfCID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920" rIns="43920" tIns="21960" bIns="21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 Stephen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13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6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 Stephen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 6707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 Stephen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49, 515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af KASHE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G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96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an Hart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 Frame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8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an Hart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49, 5177, 5179, 5182, 5223, 5339, 6049, 6244, 6283, 6316, 6330, 6354, 6356, 6417, 6419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Aldana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3, 6778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6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Aldana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me formats 8.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74, 518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Cordeiro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G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3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Cordeiro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 Frame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6, 5037, 5040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Cordeiro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F &amp; HCF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09, 5987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Cordeiro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G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10, 5164, 627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 Harkin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80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0980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 Harkin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62, 5068, 5728, 6106, 6183, 6184, 6190, 6275, 6276, 6277, 6278, 6280, 6285, 6293, 6345, 6349, 6358, 6359, 6367, 6393, 6394, 6398, 6412, 6421, 6455, 6459, 6507, 6509, 6510, 6511, 6512, 6513, 6521, 6576, 6625, 682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ward Au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3, 6728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ward Au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Extensibility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10, 5311, 5318, 5319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ward Au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WNM-Notific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49, 5693, 5694, 5695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esh Venkatesa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7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ni Maline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24, 6239, 6240, 656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500"/>
                      </a:b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Err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 Frame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2, 5033, 5034, 5035, 5039, 5060, 5398, 6340, 6341, 6342, 6407, 6503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MPDU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0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F &amp; HCF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5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640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F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84, 5585, 5586, 5587, 5571, 5573, 5596, 5617, 5620, 5621, 5622, 5623, 5625, 5628, 563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44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4, 5362, 5542, 5566, 6658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me formats 8.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6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CF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7, 514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29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2210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sign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070949-A4B0-4AA6-B7D0-E370333FE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657600" y="685800"/>
          <a:ext cx="4886280" cy="5486400"/>
        </p:xfrm>
        <a:graphic>
          <a:graphicData uri="http://schemas.openxmlformats.org/drawingml/2006/table">
            <a:tbl>
              <a:tblPr/>
              <a:tblGrid>
                <a:gridCol w="977760"/>
                <a:gridCol w="976320"/>
                <a:gridCol w="978120"/>
                <a:gridCol w="976320"/>
                <a:gridCol w="977760"/>
              </a:tblGrid>
              <a:tr h="255960">
                <a:tc gridSpan="5">
                  <a:txBody>
                    <a:bodyPr lIns="57600" rIns="576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ary of assignments by adhoc and comment group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e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ing Ad-ho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 Group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OfCI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s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6, 6404, 673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Erro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inology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5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Erro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 Frame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5, 6337, 6338, 6339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08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F &amp; HCF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26, 6442, 6452, 6482, 6490, 6496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8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CF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1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thew Fische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er management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59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thew Fische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operati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0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thew Fische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HT 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3, 5866, 5868, 5873, 5874, 5885, 5886, 5892, 5894, 5900, 5901, 6221, 6242, 6250, 6251, 6388, 6471, 6492, 6655, 670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zo Wentink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 Frame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8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zo Wentink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me formats 8.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7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zo Wentink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CF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6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zo Wentink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management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86, 6199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08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 MONTEMURRO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descripti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8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am Torab Jahroni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F &amp; HCF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9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am Torab Jahroni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G operati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90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Eccelsine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ex E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Ecclesine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89, 5314, 5556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Ecclesine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35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i Wang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8, 6687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urd Schelstraete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me formats 8.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9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hen McCan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working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9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orial Discuss/Re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E2C759-4ED1-4605-9595-FF6D74099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iscuss = “input from TGmc needed before a resolution can be written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Review = “resolution written,  but TGmc needs to pay special attention to it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cuss:  5300,  5344,  5536,  6114,  6318,  6319,  6517,  6634,  6740,  6776,  6836,  684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view:  5308,  5357,  6248 + all the “Style” comment grou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following people have kindly aided the technical editor in one way or another during the development of REVmc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rothy Stanley, Jon Rosdahl,  Mark Hamilton,  Mark Rison, Peter Ecclesine, Mike Montemurro, Liwen Chu, Eldad Perahia, Brian Hart, Sai Shankar, James {Yee|Wang|P.K. Gilb}, Assaf Kasher, Carlos Cordeiro, Edward Au, Kaberi Banerjee, Rich Kennedy, Yongho Seok, Carlos Aldana, Gabor Baj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thank you to Edward Au and Emily Qi, who are sub-edit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F917E1-E302-4105-9EA1-DE8B8CF37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B8B4C1-1B0B-48B9-B3B5-D22824699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839880" y="1143000"/>
          <a:ext cx="7696080" cy="547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143000"/>
                    <a:ext cx="769608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0080" y="325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ge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17F45D-88F4-47BF-8AB9-CC313F34D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"/>
          <p:cNvGraphicFramePr/>
          <p:nvPr/>
        </p:nvGraphicFramePr>
        <p:xfrm>
          <a:off x="1260360" y="1119240"/>
          <a:ext cx="6699240" cy="52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119240"/>
                    <a:ext cx="669924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320840"/>
            <a:ext cx="77724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raft:  P802.11REVmc D4.0 (members’ are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G Ballot composite com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5/05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193 comments start at CID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199 comments start at CID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202 comments start at CID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206 comments start at CID 4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0 is shown as “LB1000”, comments start at CID 5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ludes pre-ballot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C comment resol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5/05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EN comment resol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5/0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C/GEN sheets usually used for motioning tech resolutions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osite SS may lag contents of these sheets during a session,  but is the eventual resting place of approved resoluti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037D38-E8C3-41A5-899A-252365FC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9400" y="990720"/>
            <a:ext cx="2919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8BA60EE-9C8B-437C-94DE-279DB0723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429000" y="611280"/>
          <a:ext cx="4800600" cy="5848200"/>
        </p:xfrm>
        <a:graphic>
          <a:graphicData uri="http://schemas.openxmlformats.org/drawingml/2006/table">
            <a:tbl>
              <a:tblPr/>
              <a:tblGrid>
                <a:gridCol w="1512720"/>
                <a:gridCol w="443160"/>
                <a:gridCol w="228600"/>
                <a:gridCol w="299880"/>
                <a:gridCol w="546120"/>
                <a:gridCol w="300240"/>
                <a:gridCol w="228600"/>
                <a:gridCol w="298440"/>
                <a:gridCol w="528480"/>
                <a:gridCol w="414360"/>
              </a:tblGrid>
              <a:tr h="31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5760">
                      <a:solidFill>
                        <a:srgbClr val="b8cce4"/>
                      </a:solidFill>
                    </a:lnR>
                    <a:lnT w="5760">
                      <a:solidFill>
                        <a:srgbClr val="b8cce4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b8cce4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SON, Mar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ter, Dav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hens, Adri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lstraete, Sigur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ilton, Mar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cher, Micha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ertz, Guid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ley, Doroth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omas, Angel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lake 3rd, Donal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hr, Micha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dana, Carlo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abJahromi, Paya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, Solom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ng, Yunson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cher, Matthew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deiro, Carlo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k, Yongh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wynne, Glori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clesine, Pet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jko, Gab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chi, Tomok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nen, Joun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i, Emil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ntink, Menz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e, Jam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cCann, Stephe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ith, Graha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koda, Kazuyuk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sher, Assa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ch, Rain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an, Alecsand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, Robe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rtition by ad-ho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93B5F9-4691-4FAF-BAD8-991C36172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Table 7" descr=""/>
          <p:cNvPicPr/>
          <p:nvPr/>
        </p:nvPicPr>
        <p:blipFill>
          <a:blip r:embed="rId1"/>
          <a:stretch/>
        </p:blipFill>
        <p:spPr>
          <a:xfrm>
            <a:off x="371520" y="1974960"/>
            <a:ext cx="84376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orial Comment res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C1C88F-214F-41B7-AC49-E9A502FB9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able 3" descr=""/>
          <p:cNvPicPr/>
          <p:nvPr/>
        </p:nvPicPr>
        <p:blipFill>
          <a:blip r:embed="rId1"/>
          <a:stretch/>
        </p:blipFill>
        <p:spPr>
          <a:xfrm>
            <a:off x="828720" y="1212840"/>
            <a:ext cx="77248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orial Resolutions by Resn Statu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0A3CC8-ACC9-4CA0-9538-FCB778F4C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828800" y="1523880"/>
          <a:ext cx="5638680" cy="4903920"/>
        </p:xfrm>
        <a:graphic>
          <a:graphicData uri="http://schemas.openxmlformats.org/drawingml/2006/table">
            <a:tbl>
              <a:tblPr/>
              <a:tblGrid>
                <a:gridCol w="3363840"/>
                <a:gridCol w="409680"/>
                <a:gridCol w="342720"/>
                <a:gridCol w="343080"/>
                <a:gridCol w="623880"/>
                <a:gridCol w="555480"/>
              </a:tblGrid>
              <a:tr h="49068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blank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o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f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for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contents o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WNM-Notifi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Extensibil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 to CID 53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IEEE St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 to CID 58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 - objected, submission-requir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 - rewor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 - objec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05 approv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Stephens, Adrian P</cp:lastModifiedBy>
  <cp:lastPrinted>1998-02-10T13:28:06Z</cp:lastPrinted>
  <dcterms:modified xsi:type="dcterms:W3CDTF">2015-06-17T13:22:43Z</dcterms:modified>
  <cp:revision>1366</cp:revision>
  <dc:subject/>
  <dc:title>802.11 Vice Chair's Report 2012</dc:title>
</cp:coreProperties>
</file>