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5572080" y="-755280"/>
            <a:ext cx="64152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.: IEEE 802.11-11/0051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64584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y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12400" y="701280"/>
            <a:ext cx="4635720" cy="34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5287680" y="9000720"/>
            <a:ext cx="925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181320" y="90007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5920B32-F2EC-47BB-BD98-4AC047775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710640" y="90010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9"/>
          <p:cNvSpPr/>
          <p:nvPr/>
        </p:nvSpPr>
        <p:spPr>
          <a:xfrm>
            <a:off x="716040" y="89996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0"/>
          <p:cNvSpPr/>
          <p:nvPr/>
        </p:nvSpPr>
        <p:spPr>
          <a:xfrm>
            <a:off x="639720" y="297000"/>
            <a:ext cx="557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051r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6836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4451400" y="9001080"/>
            <a:ext cx="259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91BE421-03BA-4CE5-B96F-C3E86E7D0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4684-8497-48E0-BCFD-A74D54634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23FC-DB53-4A43-A9A7-9F151E19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B57B-6BCA-4D8E-9097-86C299662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E4E7-1464-45DA-8DFA-8536CA86F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1320-7C3F-4881-A37E-8ABA9E1E0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3397-8AC1-4F11-9B1A-85C48FD7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94EA-DC2C-43A8-8B4F-EC39CD17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352F-E220-4E04-9AC6-744EACC3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FE55-4BFC-4F72-8704-B24E7D26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9D70-94E5-4E0A-A335-AA5552E7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EBE3-4A14-47FF-B60A-0F099D99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E9BB-17D6-4D9F-AE89-D85AA4E0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6B54-791A-48C9-960E-BFA49519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D073-7F08-40C1-8765-8432290B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1C84-2CC8-4A86-BA50-0822A27C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614D-F23E-4832-ACDE-E3351069C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6D76-63E3-4889-A094-EC7B183A0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51206-E751-48BD-9F90-04A847832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5FF35-8910-4C8A-84F0-5940CA2A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8A64B-14C0-4809-8C24-5E42D770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8DF6F-314B-4D5A-9944-239CA381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20A85-EE4B-4766-8ADA-61170922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52EB-392E-4747-AEAC-4AE9F0D1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9499E-F44B-428E-A2E8-B636D1D9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15015-9FCB-4EA2-89BE-39A4B049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32E56-E81B-4367-A932-32190A80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75267-8AC6-422E-98E3-810AA6A3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0E35E-DAF8-4F2D-BAEC-00AFB7DE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3BA35-9C65-43CC-89F0-C0046A274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B4377-46C0-40C3-AF94-B2CA5FF2C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2101-C043-439E-8948-CC2FC753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B792-3403-4F3C-98F2-42A3048F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9759-ED97-48BC-B4FF-31B51E28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8907-426E-4E58-B8F9-66A8C816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4C0E-F916-4E7F-B8D8-067205D7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1905-D8D8-4B90-92C2-A49D303F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60120"/>
            <a:ext cx="93024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FD5BDDD-2B63-4F86-B383-911D4E30D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054760" y="334800"/>
            <a:ext cx="338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3/0095r2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8680" y="6475320"/>
            <a:ext cx="41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ay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9162-73A0-4067-A2CB-6C1A99C6FD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5054760" y="334800"/>
            <a:ext cx="338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3/0095r2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688680" y="6475320"/>
            <a:ext cx="41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traight Connector 11"/>
          <p:cNvSpPr/>
          <p:nvPr/>
        </p:nvSpPr>
        <p:spPr>
          <a:xfrm>
            <a:off x="685800" y="609480"/>
            <a:ext cx="785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96600" y="60120"/>
            <a:ext cx="9558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C09D155-9457-475D-B9D7-85136E0A3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69444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DDD72AE-00D0-4B3E-9EDD-D35EBCD80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2.11REVmc Editor’s Repor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 May 201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5-05-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Object 11"/>
          <p:cNvGraphicFramePr/>
          <p:nvPr/>
        </p:nvGraphicFramePr>
        <p:xfrm>
          <a:off x="523800" y="2276640"/>
          <a:ext cx="7772400" cy="260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2276640"/>
                    <a:ext cx="777240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Rectangle 12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ditorial Comment resolution has starte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Date Placeholder 3"/>
          <p:cNvSpPr/>
          <p:nvPr/>
        </p:nvSpPr>
        <p:spPr>
          <a:xfrm>
            <a:off x="69444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94C627B-3E6F-4E70-933C-F1F2D4810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71520" y="1295280"/>
          <a:ext cx="8086680" cy="4973760"/>
        </p:xfrm>
        <a:graphic>
          <a:graphicData uri="http://schemas.openxmlformats.org/drawingml/2006/table">
            <a:tbl>
              <a:tblPr/>
              <a:tblGrid>
                <a:gridCol w="2371680"/>
                <a:gridCol w="952560"/>
                <a:gridCol w="952560"/>
                <a:gridCol w="952560"/>
                <a:gridCol w="952200"/>
                <a:gridCol w="952560"/>
                <a:gridCol w="952560"/>
              </a:tblGrid>
              <a:tr h="11980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wning Ad-hoc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nassign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bmission Requir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cus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olution Draft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fe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and Tota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2212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</a:tr>
              <a:tr h="222120">
                <a:tc>
                  <a:txBody>
                    <a:bodyPr lIns="770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ial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70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770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70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770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urit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70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770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rminolog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70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770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lank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70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770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70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770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ufficient Detai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70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770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me Control fiel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70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770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ials - Hunte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70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770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 - value of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70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770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 - value fo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70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770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 - for 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70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770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 - 1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70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770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 - contents of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70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770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 - WNM-Notifica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70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770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 - Extensibilit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70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cknowledgeme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following people have kindly aided the technical editor in one way or another during the development of REVmc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orothy Stanley, Jon Rosdahl,  Mark Hamilton,  Mark Rison, Peter Ecclesine, Mike Montemurro, Liwen Chu, Eldad Perahia, Brian Hart, Sai Shankar, James {Yee|Wang|P.K. Gilb}, Assaf Kasher, Carlos Cordeiro, Edward Au, Kaberi Banerjee, Rich Kennedy, Yongho Seok, Carlos Aldana, Gabor Bajk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nd thank you to Edward Au and Emily Qi, who are sub-editor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Date Placeholder 3"/>
          <p:cNvSpPr/>
          <p:nvPr/>
        </p:nvSpPr>
        <p:spPr>
          <a:xfrm>
            <a:off x="69444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003DC7A-3548-4173-A6AF-7374E64CE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tatus of Draf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Date Placeholder 3"/>
          <p:cNvSpPr/>
          <p:nvPr/>
        </p:nvSpPr>
        <p:spPr>
          <a:xfrm>
            <a:off x="69444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3EEB6C0-8700-4B89-8165-BADF87E60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Object 6"/>
          <p:cNvGraphicFramePr/>
          <p:nvPr/>
        </p:nvGraphicFramePr>
        <p:xfrm>
          <a:off x="839880" y="1143000"/>
          <a:ext cx="7696080" cy="547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1143000"/>
                    <a:ext cx="7696080" cy="547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30080" y="3250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age Cou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Date Placeholder 3"/>
          <p:cNvSpPr/>
          <p:nvPr/>
        </p:nvSpPr>
        <p:spPr>
          <a:xfrm>
            <a:off x="69444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2ACE297-0D67-4DDB-9E9D-A4A87773C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Object 1"/>
          <p:cNvGraphicFramePr/>
          <p:nvPr/>
        </p:nvGraphicFramePr>
        <p:xfrm>
          <a:off x="1260360" y="1119240"/>
          <a:ext cx="6699240" cy="52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360" y="1119240"/>
                    <a:ext cx="6699240" cy="52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ference Docu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320840"/>
            <a:ext cx="77724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raft:  P802.11REVmc D4.0 (members’ area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WG Ballot composite commen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1-15/05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B193 comments start at CID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B199 comments start at CID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B202 comments start at CID 3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B206 comments start at CID 4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B0 is shown as “LB1000”, comments start at CID 5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cludes pre-ballot com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AC comment resol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1-13/03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GEN comment resol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1-14/09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AC/GEN sheets usually used for motioning tech resolutions.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mposite SS may lag contents of these sheets during a session,  but is the eventual resting place of approved resolution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Date Placeholder 3"/>
          <p:cNvSpPr/>
          <p:nvPr/>
        </p:nvSpPr>
        <p:spPr>
          <a:xfrm>
            <a:off x="69444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71E5281-87C0-4349-957B-5077DAED9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9400" y="990720"/>
            <a:ext cx="29192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mments by comment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Date Placeholder 3"/>
          <p:cNvSpPr/>
          <p:nvPr/>
        </p:nvSpPr>
        <p:spPr>
          <a:xfrm>
            <a:off x="69444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A57A515-9168-4E2C-8665-8FE91BA7D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429000" y="611280"/>
          <a:ext cx="4800600" cy="5848200"/>
        </p:xfrm>
        <a:graphic>
          <a:graphicData uri="http://schemas.openxmlformats.org/drawingml/2006/table">
            <a:tbl>
              <a:tblPr/>
              <a:tblGrid>
                <a:gridCol w="1512720"/>
                <a:gridCol w="443160"/>
                <a:gridCol w="228600"/>
                <a:gridCol w="299880"/>
                <a:gridCol w="546120"/>
                <a:gridCol w="300240"/>
                <a:gridCol w="228600"/>
                <a:gridCol w="298440"/>
                <a:gridCol w="528480"/>
                <a:gridCol w="414360"/>
              </a:tblGrid>
              <a:tr h="3103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b8cce4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Total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5760">
                      <a:solidFill>
                        <a:srgbClr val="b8cce4"/>
                      </a:solidFill>
                    </a:lnL>
                    <a:lnR w="5760">
                      <a:solidFill>
                        <a:srgbClr val="b8cce4"/>
                      </a:solidFill>
                    </a:lnR>
                    <a:lnT w="5760">
                      <a:solidFill>
                        <a:srgbClr val="b8cce4"/>
                      </a:solidFill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5760">
                      <a:solidFill>
                        <a:srgbClr val="b8cce4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b8cce4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 Total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5760">
                      <a:solidFill>
                        <a:srgbClr val="b8cce4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b8cce4"/>
                      </a:solidFill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and Total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wning Ad-hoc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b8cce4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5760">
                      <a:solidFill>
                        <a:srgbClr val="b8cce4"/>
                      </a:solidFill>
                    </a:lnL>
                    <a:lnR w="5760">
                      <a:solidFill>
                        <a:srgbClr val="b8cce4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5760">
                      <a:solidFill>
                        <a:srgbClr val="b8cce4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b8cce4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5760">
                      <a:solidFill>
                        <a:srgbClr val="b8cce4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SON, Mark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nter, Davi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phens, Adria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lstraete, Sigur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milton, Mark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scher, Michael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ertz, Guid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nley, Dorothy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omas, Angela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tlake 3rd, Donal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hr, Michael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dana, Carlo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rabJahromi, Payam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, Solomo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ang, Yunsong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scher, Matthew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deiro, Carlo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ok, Yongh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wynne, Gloria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clesine, Peter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jko, Gabor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achi, Tomok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inen, Jouni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i, Emily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ntink, Menz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e, Jame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cCann, Stephe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ith, Graham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koda, Kazuyuki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sher, Assaf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ch, Rainer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itan, Alecsander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w, Rober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 Total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9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9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9" descr=""/>
          <p:cNvPicPr/>
          <p:nvPr/>
        </p:nvPicPr>
        <p:blipFill>
          <a:blip r:embed="rId1"/>
          <a:stretch/>
        </p:blipFill>
        <p:spPr>
          <a:xfrm>
            <a:off x="227160" y="609480"/>
            <a:ext cx="7088040" cy="45529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181120" y="914040"/>
            <a:ext cx="3659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revious Comment Resolution Performan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Date Placeholder 3"/>
          <p:cNvSpPr/>
          <p:nvPr/>
        </p:nvSpPr>
        <p:spPr>
          <a:xfrm>
            <a:off x="69444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A83481A-EECD-474F-8B61-E841CEE2B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006560" y="4572000"/>
          <a:ext cx="7070760" cy="1828800"/>
        </p:xfrm>
        <a:graphic>
          <a:graphicData uri="http://schemas.openxmlformats.org/drawingml/2006/table">
            <a:tbl>
              <a:tblPr/>
              <a:tblGrid>
                <a:gridCol w="1646280"/>
                <a:gridCol w="1888920"/>
                <a:gridCol w="1158840"/>
                <a:gridCol w="1238400"/>
                <a:gridCol w="1138320"/>
              </a:tblGrid>
              <a:tr h="609480">
                <a:tc>
                  <a:txBody>
                    <a:bodyPr lIns="15120" rIns="15120" tIns="15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en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ent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-Ed Comment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ration (d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15120" rIns="15120" tIns="15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/01/201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B193 Star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15120" rIns="15120" tIns="15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/10/201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B19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560">
                <a:tc>
                  <a:txBody>
                    <a:bodyPr lIns="15120" rIns="15120" tIns="15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/03/201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B20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15120" rIns="15120" tIns="15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/01/201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B20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redicted Comment Resolution dur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ased on the number of non-editorial comments received,  and the performance during WG ballot,  the predicted duration of comment resolution is 445 days,  which equates to a completion date of June 2016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plan,  on which our timeline is based, assumes a period of 186 day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ased on the two previous points,  we might expect to slip approval of REVmc by about 8 months into 2017.  Furthermore,  802.11ah and 802.11ai might need to be “put on ice” while REVmc complet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Date Placeholder 3"/>
          <p:cNvSpPr/>
          <p:nvPr/>
        </p:nvSpPr>
        <p:spPr>
          <a:xfrm>
            <a:off x="69444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A0ED99E-4DDD-41E1-BD64-934E4D72C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itial Partition of com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Date Placeholder 3"/>
          <p:cNvSpPr/>
          <p:nvPr/>
        </p:nvSpPr>
        <p:spPr>
          <a:xfrm>
            <a:off x="69444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4A98196-50A2-4A69-A891-7CFE0EE60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544680" y="1766880"/>
          <a:ext cx="7999200" cy="2057400"/>
        </p:xfrm>
        <a:graphic>
          <a:graphicData uri="http://schemas.openxmlformats.org/drawingml/2006/table">
            <a:tbl>
              <a:tblPr/>
              <a:tblGrid>
                <a:gridCol w="1938240"/>
                <a:gridCol w="1247760"/>
                <a:gridCol w="1225440"/>
                <a:gridCol w="903240"/>
                <a:gridCol w="1420920"/>
                <a:gridCol w="612720"/>
                <a:gridCol w="650880"/>
              </a:tblGrid>
              <a:tr h="619200"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wning Ad-hoc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nassigned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bmission Required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cus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olution Drafted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fer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and Total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87280">
                <a:tc>
                  <a:txBody>
                    <a:bodyPr lIns="14400" rIns="14400" tIns="14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4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2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4400" rIns="14400" tIns="14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_A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6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6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4400" rIns="14400" tIns="14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6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6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14400" rIns="14400" tIns="14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3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5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4400" rIns="14400" tIns="14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 Total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69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99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Adrian Stephens</dc:creator>
  <dc:description/>
  <dc:language>en-US</dc:language>
  <cp:lastModifiedBy>Adrian Stephens 6</cp:lastModifiedBy>
  <cp:lastPrinted>1998-02-10T13:28:06Z</cp:lastPrinted>
  <dcterms:modified xsi:type="dcterms:W3CDTF">2015-05-01T10:21:28Z</dcterms:modified>
  <cp:revision>1356</cp:revision>
  <dc:subject/>
  <dc:title>802.11 Vice Chair's Report 2012</dc:title>
</cp:coreProperties>
</file>