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8FD63B-A713-4A47-A6A7-DD5B987D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27DF0-F439-4222-84B1-6FD1ADE71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F88-E68D-4600-9B6A-CA881E14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B8F-0C24-46C6-99A5-4BFF4C44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A0B-4B8B-42DC-8EA2-0F2EEBA1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5A6-77F5-41CA-B89B-BC75005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F779-4543-401A-A4B5-1BD83BC0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1006-6326-40F3-BD1B-8EF01AB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21E5-D813-4A62-91C3-C4E318C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71A9-D683-4EFE-AE5B-D2DDCBF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457-5154-4768-86E4-2B488C20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903-B8D6-4F43-BCBA-CE1FC23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BB5A-827A-410B-966D-175A29B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438-5B83-4F5B-AE0B-6EC376C8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1ABC-83B4-407F-8FA0-CCCCD1C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46BD-26D8-417A-AFA2-AE64EEAD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D1E-6C34-46C5-8E84-587B7862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B296-9315-4BD6-B3D2-104A0E7A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1DB9-D10B-4BE0-8031-3E8BB84D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83B6-51D0-412B-AEC0-7D1FC434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9247-49FF-4CAF-847A-FD34E26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CD75-3A78-4233-B7B7-AF53F2B3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849D-8A7B-4338-A043-2438FC7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42D8-1833-47D5-8252-040A472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F7A-90D0-4483-A7EE-0DA93710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8C71-CF6B-468B-B345-416E189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73EE-0AD8-4502-B52D-927ADC7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0262-9781-4458-98DB-2812C829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9983-4F80-407C-9E0D-B6EEA0A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A83C-F958-43AB-B0A7-179B3BB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13E7-0E1B-442D-91AF-0324F38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04C3-4277-46DC-9068-3EDD5A7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018-5817-4E7B-9495-AF9CD85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92D-4F79-4643-8CBF-CF6C0F6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E7D-53B2-4F3E-B45C-E905E105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63C-81FC-46E5-AFEE-184B056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583-C49C-4841-BBB0-738D69C9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073-F27B-4FD1-9E83-95C25E9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3B3D57-A426-4443-8C9E-9A1D284B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3F3A-B1CF-4B9B-BB20-73482F801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54760" y="334800"/>
            <a:ext cx="33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095r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432D66-E975-444C-BA10-7CEE1FA8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2DBD59-0A58-4B94-9CBA-3575ED85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REVmc Editor’s Re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May 201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5-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ditorial Comment resolution has star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CF3FB3-2B70-4680-9209-F88E83EC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71520" y="1295280"/>
          <a:ext cx="8086680" cy="4973760"/>
        </p:xfrm>
        <a:graphic>
          <a:graphicData uri="http://schemas.openxmlformats.org/drawingml/2006/table">
            <a:tbl>
              <a:tblPr/>
              <a:tblGrid>
                <a:gridCol w="2371680"/>
                <a:gridCol w="952560"/>
                <a:gridCol w="952560"/>
                <a:gridCol w="952560"/>
                <a:gridCol w="952200"/>
                <a:gridCol w="952560"/>
                <a:gridCol w="952560"/>
              </a:tblGrid>
              <a:tr h="1198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assign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 Requir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cu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 Draf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log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lan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Det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me Control fie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ials - Hunt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value f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for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contents o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WNM-Not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70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 - Extensi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70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following people have kindly aided the technical editor in one way or another during the development of REVmc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rothy Stanley, Jon Rosdahl,  Mark Hamilton,  Mark Rison, Peter Ecclesine, Mike Montemurro, Liwen Chu, Eldad Perahia, Brian Hart, Sai Shankar, James {Yee|Wang|P.K. Gilb}, Assaf Kasher, Carlos Cordeiro, Edward Au, Kaberi Banerjee, Rich Kennedy, Yongho Seok, Carlos Aldana, Gabor Baj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thank you to Edward Au and Emily Qi, who are sub-ed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02E808-0A92-42D1-B6FD-91CE1D1D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us of Dra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89663D-D835-4599-ACF0-02F27D8F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839880" y="1143000"/>
          <a:ext cx="769608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143000"/>
                    <a:ext cx="7696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325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ge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946BEA-8C56-48C5-B7B5-26E9494D4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1260360" y="1119240"/>
          <a:ext cx="669924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119240"/>
                    <a:ext cx="669924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32084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aft:  P802.11REVmc D4.0 (members’ are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 Ballot composite com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5/05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3 comments start at CID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199 comments start at CID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2 comments start at CID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B206 comments start at CID 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0 is shown as “LB1000”, comments start at CID 5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cludes pre-ballot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C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3/03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 comment re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1-14/09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C/GEN sheets usually used for motioning tech resoluti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e SS may lag contents of these sheets during a session,  but is the eventual resting place of approved resolu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092BCA-A708-43C1-9FC2-60408E201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9400" y="990720"/>
            <a:ext cx="291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3339B2-F9E8-4E08-94F9-EE42AF3B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29000" y="611280"/>
          <a:ext cx="4800600" cy="5848200"/>
        </p:xfrm>
        <a:graphic>
          <a:graphicData uri="http://schemas.openxmlformats.org/drawingml/2006/table">
            <a:tbl>
              <a:tblPr/>
              <a:tblGrid>
                <a:gridCol w="1512720"/>
                <a:gridCol w="443160"/>
                <a:gridCol w="228600"/>
                <a:gridCol w="299880"/>
                <a:gridCol w="546120"/>
                <a:gridCol w="300240"/>
                <a:gridCol w="228600"/>
                <a:gridCol w="298440"/>
                <a:gridCol w="528480"/>
                <a:gridCol w="414360"/>
              </a:tblGrid>
              <a:tr h="310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b8cce4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b8cce4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b8cce4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, Dav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hens, Adri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lstraete, Sigur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, Mar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ertz, Guid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, Doroth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, Angel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lake 3rd, Donal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, Micha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dana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abJahromi, Pay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, Solom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ng, Yunso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atthew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deiro, Carlo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k, Yongh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wynne, Glo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clesine, Pet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jko, Gabo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chi, Tomok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nen, Joun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i, Em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ink, Menz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e, Jam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Cann, Stephe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ith, Graha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koda, Kazuyuk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sher, Assa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ch, Rain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tan, Alecsand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, Rober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7160" y="609480"/>
            <a:ext cx="7088040" cy="4552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81120" y="914040"/>
            <a:ext cx="365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vious Comment Resolution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28AD9A-C7CB-44D2-9815-D567A829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06560" y="4572000"/>
          <a:ext cx="7070760" cy="1828800"/>
        </p:xfrm>
        <a:graphic>
          <a:graphicData uri="http://schemas.openxmlformats.org/drawingml/2006/table">
            <a:tbl>
              <a:tblPr/>
              <a:tblGrid>
                <a:gridCol w="1646280"/>
                <a:gridCol w="1888920"/>
                <a:gridCol w="1158840"/>
                <a:gridCol w="1238400"/>
                <a:gridCol w="1138320"/>
              </a:tblGrid>
              <a:tr h="60948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Ed Comm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tion (d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01/20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193 Star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/10/20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1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/03/20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2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/01/20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2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dicted Comment Resolution du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 the number of non-editorial comments received,  and the performance during WG ballot,  the predicted duration of comment resolution is 445 days,  which equates to a completion date of June 201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lan,  on which our timeline is based, assumes a period of 186 day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 the two previous points,  we might expect to slip approval of REVmc by about 8 months into 2017.  Furthermore,  802.11ah and 802.11ai might need to be “put on ice” while REVmc comple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90D11D-9C00-4CD7-98D0-CA990022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l Partition of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BD4F82-2D35-491A-BFA1-20D95176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44680" y="1766880"/>
          <a:ext cx="7999200" cy="2057400"/>
        </p:xfrm>
        <a:graphic>
          <a:graphicData uri="http://schemas.openxmlformats.org/drawingml/2006/table">
            <a:tbl>
              <a:tblPr/>
              <a:tblGrid>
                <a:gridCol w="1938240"/>
                <a:gridCol w="1247760"/>
                <a:gridCol w="1225440"/>
                <a:gridCol w="903240"/>
                <a:gridCol w="1420920"/>
                <a:gridCol w="612720"/>
                <a:gridCol w="650880"/>
              </a:tblGrid>
              <a:tr h="619200"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wning Ad-hoc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assign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 Requir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cus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 Drafte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e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OR_A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4400" rIns="14400" tIns="14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4400" marR="14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 6</cp:lastModifiedBy>
  <cp:lastPrinted>1998-02-10T13:28:06Z</cp:lastPrinted>
  <dcterms:modified xsi:type="dcterms:W3CDTF">2015-05-01T10:21:28Z</dcterms:modified>
  <cp:revision>1356</cp:revision>
  <dc:subject/>
  <dc:title>802.11 Vice Chair's Report 2012</dc:title>
</cp:coreProperties>
</file>