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BB0E20-E467-4ECC-84BE-FF15DDE7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C1DAE1-CB4C-4914-8FD1-1736E46E5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89E-EE80-4623-A027-7C5D8C63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387-D80B-4D6A-AD44-2DAB18D1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C4B-B646-44D4-85F4-E4DD33C3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F7A-7334-4A36-9028-91781495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C5E5-500D-4997-81BC-17AD80AF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F82A-55F7-4228-9BA2-1F24DC1D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9F3D-ACA3-43F4-BB79-8B53A57A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29B-8D86-4C80-93B8-1DD98D3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5EBD-5781-4623-9220-5D1BD536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69EE-059B-4971-BA8C-01A0DD6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15DC-B623-4C6D-94AC-6D9417C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1E9-B393-40D6-A6DD-B6588267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A935-3766-4347-9906-68A25AA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75E-E2B3-4AC0-BD17-6B7D489A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5F87-2321-4AE9-A0F6-81EBD82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094A-93E2-41E7-821C-C3A36D11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AC8-D96D-41F4-9070-7289E3CC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BF40-4708-4FED-87A9-A435E005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F874-635C-49FA-ACBB-E02189D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1F0D-1DE4-4FBB-9396-14763846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B833-3311-4998-B56B-9FB2FDD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CC6A-D4F9-4480-9A79-F18D03FE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728-A4BB-4FC5-8D5E-A34D5BF2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5D32-99E8-42F5-9ACF-BD76C8E6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F88F-C857-4BCE-9514-8D58FC9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6341-73DC-45F5-B1E4-ADCC4D6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EE6A-DC46-4649-B8A6-B2F2F53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BD80-69AD-47ED-9C85-ABA7FE8B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1823-0708-43A5-9336-CED6A121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601D-501A-4117-B04E-9DAE071B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453-032D-489D-A1A9-035B3C4F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CB2-C6A2-4E9D-B12F-55B7821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BC7-6442-4842-B973-F96B14C0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C70-2B92-4E4A-9773-643A5BD1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D20-BFA5-4253-878B-77771C8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60E-8558-4EA5-8DE6-61C45A3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B7B049-4A2B-4571-93F8-24356921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646-2FB2-4414-A64A-B79273E11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03F080-02EE-40EE-80BE-EE2C60C26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6AED4D-3BA8-4740-ACBF-C89AA27B9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Sept 20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9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7BE751-2D97-49FF-A961-D770C23DD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59200" y="612720"/>
            <a:ext cx="46846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folks have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, Rich Kennedy, Yongho Seok, Carlos Aldana, Gabor Baj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thank you to Edward Au and Emily Qi, who are sub-ed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AEF5B5-C9EF-474A-AD9E-F8CE2FC52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 training for new sub-edi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training program has been established for Emily and Ed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e have identified a series of 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ining is now substantially compl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5ED586-AB55-431E-AB8D-7E3AE75E0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1526DA-2FCA-4832-87AD-37C01E5D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6"/>
          <p:cNvGraphicFramePr/>
          <p:nvPr/>
        </p:nvGraphicFramePr>
        <p:xfrm>
          <a:off x="762120" y="1752480"/>
          <a:ext cx="759132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913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0080" y="325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59AC3C-D91D-48EE-A6F4-546E32F4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"/>
          <p:cNvGraphicFramePr/>
          <p:nvPr/>
        </p:nvGraphicFramePr>
        <p:xfrm>
          <a:off x="1260360" y="1119240"/>
          <a:ext cx="6699240" cy="51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119240"/>
                    <a:ext cx="66992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:  P802.11REVmc D3.0 (members’ are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202 comments start at CID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4/0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EEC116-7634-4504-B057-A3C8827A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ad-h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91E2AE-9A61-4E2E-89BE-25DC9A5E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33520" y="5983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as of 2014-09-0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-28440" y="1600200"/>
            <a:ext cx="9058320" cy="28954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533520" y="472428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tor submission required: 3453 3452 3440 3420 3404 3386 33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tor discuss: 3590 3566 3560 3559 3558 3367 3126 30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tor review: 3371 32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ing Progr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C77C28-5B62-4334-932D-7B6DCF73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414440" y="6475320"/>
            <a:ext cx="28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 as of: 2014-09-0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tretch/>
        </p:blipFill>
        <p:spPr>
          <a:xfrm>
            <a:off x="1751040" y="1523880"/>
            <a:ext cx="564192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3840" y="274320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1BA2A2-985A-442F-AD5B-427A1AF4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048120" y="11160"/>
            <a:ext cx="6095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 6</cp:lastModifiedBy>
  <cp:lastPrinted>1998-02-10T13:28:06Z</cp:lastPrinted>
  <dcterms:modified xsi:type="dcterms:W3CDTF">2014-09-05T13:10:36Z</dcterms:modified>
  <cp:revision>1318</cp:revision>
  <dc:subject/>
  <dc:title>802.11 Vice Chair's Report 2012</dc:title>
</cp:coreProperties>
</file>