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A86274-2F4E-42EA-9C81-3198C2AD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C3E661-F40C-4375-8DD6-F86B2C4F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3DB-F8DD-4824-AB4F-4667B63F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3FD-D852-401D-B9D8-B20B280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D93-0E1E-482D-994D-F37734C6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501-C84F-4BF3-B069-224AFE13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B67-DB60-428C-B885-4603EF47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2F2-4276-4B9A-ACF7-705D111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2167-473D-4EC2-B6A3-DB1ADAA0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70F0-ED64-491F-BCB6-E09F4E6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9BD-5386-400A-B41A-45EF410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2A15-4D6B-46DA-B132-D84AD0AE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45C6-159B-4C19-AB25-BE1088F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751-62FF-46AC-9E52-ECC1585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320B-446A-47D9-8E82-C592C89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BBE-EFBC-4D83-9966-474A62D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4BCA-ACF0-4904-9B0C-90B0AD9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512A-E50E-4757-8CAC-6B9CA7E0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A9F5-8B48-43B5-8E2A-A0CBCD89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9174-0353-4DFB-A734-260CB936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DA74-92C0-438A-85B0-8A57A54D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11D3-1279-47ED-A6E6-E0265724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CC2A-BC3F-45EE-8065-895837D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34B9-9E26-4642-BBB8-A3DC9361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73C-F384-412C-9005-EEF2922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3AD7-C80F-4EFB-B1A6-79259F9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3B11-FA22-432B-BAF1-217F163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74A0-A6BE-4BCB-B235-4CE2B8E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D8F1-E345-4AA1-9CAF-B30F066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C99F-3237-4499-90E8-40528C3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2FE7-833F-4520-9304-D5BC43CB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C9D0-1E2C-4424-92E3-0A72224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710-474B-41BF-BDBA-B5C7171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53C-70D1-466A-902C-8A0289FF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A87-E973-4571-A960-8D3D3552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0E8-2F94-446F-9B94-AEA8DB1B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202-E922-4194-97EC-E23F84B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38F-F3E5-475E-B91C-731DEB8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2C0F0E-9971-439A-8744-EC6DA446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B4D8-2A33-4BBF-86AA-39912D504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55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74B940-EA61-43C2-8D68-8A418FE4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50F1AD-CF4A-4F0F-8960-E3F8F92B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Sept 20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9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sign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02EADC-250C-4035-916C-57915AC67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59200" y="612720"/>
            <a:ext cx="46846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folks have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, Rich Kennedy, Yongho Seok, Carlos Aldana, Gabor Baj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thank you to Edward Au and Emily Qi, who are sub-ed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E65C3F-D7C6-41B1-9A10-6512EAE9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 training for new sub-edi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training program has been established for Emily and Ed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e have identified a series of 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ining is now substantially compl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6CB932-31E7-44B6-B1F4-77F76BD0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A31303-F6D6-4079-8AE6-4F43EC04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6"/>
          <p:cNvGraphicFramePr/>
          <p:nvPr/>
        </p:nvGraphicFramePr>
        <p:xfrm>
          <a:off x="762120" y="1752480"/>
          <a:ext cx="759132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913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0080" y="325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699EC4-EAD3-4146-A551-C84C8D34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"/>
          <p:cNvGraphicFramePr/>
          <p:nvPr/>
        </p:nvGraphicFramePr>
        <p:xfrm>
          <a:off x="1260360" y="1119240"/>
          <a:ext cx="6699240" cy="51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119240"/>
                    <a:ext cx="66992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:  P802.11REVmc D3.0 (members’ are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B202 comments start at CID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-14/0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A1ADE2-26D9-46A6-A944-27180AE20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ad-ho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4329B7-7444-4A57-B6DB-1B4A205E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33520" y="5983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 as of 2014-09-0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-28440" y="1600200"/>
            <a:ext cx="9058320" cy="28954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533520" y="472428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tor submission required: 3453 3452 3440 3420 3404 3386 338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tor discuss: 3590 3566 3560 3559 3558 3367 3126 306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ditor review: 3371 323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ing Progr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7DE9EC-0C89-41CE-9C81-4F4207853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414440" y="6475320"/>
            <a:ext cx="28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 as of: 2014-09-0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tretch/>
        </p:blipFill>
        <p:spPr>
          <a:xfrm>
            <a:off x="1751040" y="1523880"/>
            <a:ext cx="564192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3840" y="274320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701280" y="334800"/>
            <a:ext cx="94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DB0187-9FBF-4D27-9299-504282FB1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048120" y="11160"/>
            <a:ext cx="6095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 6</cp:lastModifiedBy>
  <cp:lastPrinted>1998-02-10T13:28:06Z</cp:lastPrinted>
  <dcterms:modified xsi:type="dcterms:W3CDTF">2014-09-05T13:10:36Z</dcterms:modified>
  <cp:revision>1318</cp:revision>
  <dc:subject/>
  <dc:title>802.11 Vice Chair's Report 2012</dc:title>
</cp:coreProperties>
</file>