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11.png" ContentType="image/png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hdr"/>
          </p:nvPr>
        </p:nvSpPr>
        <p:spPr>
          <a:xfrm>
            <a:off x="5572080" y="-755280"/>
            <a:ext cx="641520" cy="106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216000"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oc.: IEEE 802.11-11/0051r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dt" idx="10"/>
          </p:nvPr>
        </p:nvSpPr>
        <p:spPr>
          <a:xfrm>
            <a:off x="645840" y="97200"/>
            <a:ext cx="82692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y 2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sldImg"/>
          </p:nvPr>
        </p:nvSpPr>
        <p:spPr>
          <a:xfrm>
            <a:off x="1112400" y="701280"/>
            <a:ext cx="4635720" cy="3476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body"/>
          </p:nvPr>
        </p:nvSpPr>
        <p:spPr>
          <a:xfrm>
            <a:off x="914400" y="4416480"/>
            <a:ext cx="5029200" cy="41846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ftr" idx="11"/>
          </p:nvPr>
        </p:nvSpPr>
        <p:spPr>
          <a:xfrm>
            <a:off x="5287680" y="9000720"/>
            <a:ext cx="925560" cy="10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lvl="4" marL="458640"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4" marL="458640"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rian Stephens, Intel Corpo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 type="sldNum" idx="12"/>
          </p:nvPr>
        </p:nvSpPr>
        <p:spPr>
          <a:xfrm>
            <a:off x="3181320" y="9000720"/>
            <a:ext cx="5126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7AD80519-47A9-4E32-895E-C05ACBCC8C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8"/>
          <p:cNvSpPr/>
          <p:nvPr/>
        </p:nvSpPr>
        <p:spPr>
          <a:xfrm>
            <a:off x="710640" y="900108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Line 9"/>
          <p:cNvSpPr/>
          <p:nvPr/>
        </p:nvSpPr>
        <p:spPr>
          <a:xfrm>
            <a:off x="716040" y="8999640"/>
            <a:ext cx="5425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Line 10"/>
          <p:cNvSpPr/>
          <p:nvPr/>
        </p:nvSpPr>
        <p:spPr>
          <a:xfrm>
            <a:off x="639720" y="297000"/>
            <a:ext cx="5578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2"/>
          <p:cNvSpPr/>
          <p:nvPr/>
        </p:nvSpPr>
        <p:spPr>
          <a:xfrm>
            <a:off x="479304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1/0051r2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3"/>
          <p:cNvSpPr/>
          <p:nvPr/>
        </p:nvSpPr>
        <p:spPr>
          <a:xfrm>
            <a:off x="68364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 2011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6"/>
          <p:cNvSpPr/>
          <p:nvPr/>
        </p:nvSpPr>
        <p:spPr>
          <a:xfrm>
            <a:off x="4451400" y="9001080"/>
            <a:ext cx="2599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8640"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rian Stephens, Intel Corporat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7"/>
          <p:cNvSpPr/>
          <p:nvPr/>
        </p:nvSpPr>
        <p:spPr>
          <a:xfrm>
            <a:off x="2952720" y="900108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1D70B144-3E76-4DCC-999A-C7BCCC9ECB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12760" y="701640"/>
            <a:ext cx="4635720" cy="347652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416480"/>
            <a:ext cx="502920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12760" y="701640"/>
            <a:ext cx="4635720" cy="347652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14400" y="4416480"/>
            <a:ext cx="502920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Header Placeholder 3"/>
          <p:cNvSpPr/>
          <p:nvPr/>
        </p:nvSpPr>
        <p:spPr>
          <a:xfrm>
            <a:off x="479304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1/0051r2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Date Placeholder 4"/>
          <p:cNvSpPr/>
          <p:nvPr/>
        </p:nvSpPr>
        <p:spPr>
          <a:xfrm>
            <a:off x="68364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 2011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Footer Placeholder 5"/>
          <p:cNvSpPr/>
          <p:nvPr/>
        </p:nvSpPr>
        <p:spPr>
          <a:xfrm>
            <a:off x="4451400" y="9001080"/>
            <a:ext cx="2599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8640"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rian Stephens, Intel Corporat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Slide Number Placeholder 6"/>
          <p:cNvSpPr/>
          <p:nvPr/>
        </p:nvSpPr>
        <p:spPr>
          <a:xfrm>
            <a:off x="2952720" y="900108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11683486-CBF3-46B6-9D75-4ED6E6D26E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3A802-69A4-4F0C-8688-FDF8EE2C1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79CF5-98B6-4F8D-B866-2A70C5C87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8EB44-97F3-431E-9994-E1486BBB3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EC64D-1224-41BC-BD64-C218314B5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99D0F-8990-40F9-AEBF-5E0BFE153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C2FE8-9ECF-45F7-AE77-51A6B144A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466C1-110C-4873-8855-AC68DFE20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B7665-0C76-46B8-BB6A-8E60BE111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CB886-BA0C-4554-91D4-D041EB6FB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D84CF-DB6E-413C-BA87-6E13CEDAF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B4A68-0103-4545-9AB2-A56F771FD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C11A4-866E-4F7A-88D6-B83A1AE8A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1A040-26BB-40D9-AE9B-5DDE5E411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34677-17B9-4D8B-9209-5F69B32F6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C8681-E2E0-4C95-B064-9628E59DB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F9923-F3C4-417D-B0DE-91468BA29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98064-9F3A-44A3-90A8-FDBEAD0C4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26716B-8F65-4AF2-BD55-1F367C1D6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A322C7-B3DF-4B30-A2FC-6D75F65E4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7A81B8-EEC4-4BE0-8FE1-15A6F2164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934427-746B-47DB-8081-0E231B601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B6A3C5-23D7-4E50-AE38-55D3AB7F0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862D7-0FD6-4C65-BBC6-96861AB6F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B2FA6A-3B41-4771-8BF6-2301D7420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D5794F-0492-46D1-94E1-8C9DB630D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2110FC-49AB-4E72-80B6-DB4DD83E7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988B57-F35F-4FF1-A0D2-D7587FAFB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3DA1F2-88E1-451F-BC16-11B560B5B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5CBE8C-68A5-4FDF-A02B-FE486E3FD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1B9E6C-AD69-4C45-9B7E-57013EC9F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1728E-3E7D-4607-855A-8214053DB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4DEC2-AF85-47AC-B708-489A933FC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B91F3-CCFF-4DAB-BB18-EC1E4A62C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6D7B3-FFE2-46A6-8755-1E6681A25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DECDC-64A3-4724-B601-433547880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4EA3F-E0A5-4259-B1FE-BC9068612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96960" y="333000"/>
            <a:ext cx="93024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ug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8077320" y="6474960"/>
            <a:ext cx="466560" cy="10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rian Stephens, Intel Corpo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7FEBD2DC-A7F6-43A2-A178-8956EA5D6E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5169960" y="33480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oc.: IEEE 802.11-13/0095r6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688680" y="6475320"/>
            <a:ext cx="415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ort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Aug 20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Adrian Stephens, Intel Corpo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0E3E9-1E11-4941-A4D2-A028BC6F364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5169960" y="33480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oc.: IEEE 802.11-13/0095r6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9"/>
          <p:cNvSpPr/>
          <p:nvPr/>
        </p:nvSpPr>
        <p:spPr>
          <a:xfrm>
            <a:off x="688680" y="6475320"/>
            <a:ext cx="415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ort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Straight Connector 11"/>
          <p:cNvSpPr/>
          <p:nvPr/>
        </p:nvSpPr>
        <p:spPr>
          <a:xfrm>
            <a:off x="685800" y="609480"/>
            <a:ext cx="7856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96600" y="333000"/>
            <a:ext cx="9558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ug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8077320" y="6474960"/>
            <a:ext cx="466560" cy="10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rian Stephens, Intel Corpo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08C57104-AE8B-4622-8676-207DA1611C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Date Placeholder 3"/>
          <p:cNvSpPr/>
          <p:nvPr/>
        </p:nvSpPr>
        <p:spPr>
          <a:xfrm>
            <a:off x="714240" y="334800"/>
            <a:ext cx="92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ug 2013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Footer Placeholder 4"/>
          <p:cNvSpPr/>
          <p:nvPr/>
        </p:nvSpPr>
        <p:spPr>
          <a:xfrm>
            <a:off x="7240320" y="6475320"/>
            <a:ext cx="2140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rian Stephens, Intel Corporat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24128B66-C9EA-496D-B093-A1C9654BAF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02.11REVmc Editor’s Report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 Nov 2013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ate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2013-11-01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7" name="Object 11"/>
          <p:cNvGraphicFramePr/>
          <p:nvPr/>
        </p:nvGraphicFramePr>
        <p:xfrm>
          <a:off x="523800" y="2276640"/>
          <a:ext cx="7772400" cy="2609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8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3800" y="2276640"/>
                    <a:ext cx="7772400" cy="260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" name="Rectangle 12"/>
          <p:cNvSpPr/>
          <p:nvPr/>
        </p:nvSpPr>
        <p:spPr>
          <a:xfrm>
            <a:off x="533520" y="1940040"/>
            <a:ext cx="1447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uthors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511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Impact of Editorial Resolution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Date Placeholder 3"/>
          <p:cNvSpPr/>
          <p:nvPr/>
        </p:nvSpPr>
        <p:spPr>
          <a:xfrm>
            <a:off x="714240" y="334800"/>
            <a:ext cx="92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ug 2013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Footer Placeholder 4"/>
          <p:cNvSpPr/>
          <p:nvPr/>
        </p:nvSpPr>
        <p:spPr>
          <a:xfrm>
            <a:off x="7240320" y="6475320"/>
            <a:ext cx="2140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rian Stephens, Intel Corporat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5001241D-7147-49C5-96E6-9DF7908A58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" name="Picture 7" descr=""/>
          <p:cNvPicPr/>
          <p:nvPr/>
        </p:nvPicPr>
        <p:blipFill>
          <a:blip r:embed="rId1"/>
          <a:stretch/>
        </p:blipFill>
        <p:spPr>
          <a:xfrm>
            <a:off x="1778040" y="1389240"/>
            <a:ext cx="3427200" cy="156204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8" descr=""/>
          <p:cNvPicPr/>
          <p:nvPr/>
        </p:nvPicPr>
        <p:blipFill>
          <a:blip r:embed="rId2"/>
          <a:stretch/>
        </p:blipFill>
        <p:spPr>
          <a:xfrm>
            <a:off x="6810480" y="2054160"/>
            <a:ext cx="2259000" cy="332424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0" descr=""/>
          <p:cNvPicPr/>
          <p:nvPr/>
        </p:nvPicPr>
        <p:blipFill>
          <a:blip r:embed="rId3"/>
          <a:stretch/>
        </p:blipFill>
        <p:spPr>
          <a:xfrm>
            <a:off x="195120" y="3594240"/>
            <a:ext cx="6561360" cy="2882880"/>
          </a:xfrm>
          <a:prstGeom prst="rect">
            <a:avLst/>
          </a:prstGeom>
          <a:ln w="0">
            <a:noFill/>
          </a:ln>
        </p:spPr>
      </p:pic>
      <p:sp>
        <p:nvSpPr>
          <p:cNvPr id="200" name="TextBox 11"/>
          <p:cNvSpPr/>
          <p:nvPr/>
        </p:nvSpPr>
        <p:spPr>
          <a:xfrm>
            <a:off x="6777000" y="1220760"/>
            <a:ext cx="2495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LB199 editorial edits so fa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Box 12"/>
          <p:cNvSpPr/>
          <p:nvPr/>
        </p:nvSpPr>
        <p:spPr>
          <a:xfrm>
            <a:off x="217440" y="3132000"/>
            <a:ext cx="654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LB199 editorial edits vs page numbe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Box 13"/>
          <p:cNvSpPr/>
          <p:nvPr/>
        </p:nvSpPr>
        <p:spPr>
          <a:xfrm>
            <a:off x="341280" y="13050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History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Acknowledgemen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The following folks have aided the technical editor in one way or another during the development of REVmc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Dorothy Stanley, Jon Rosdahl,  Mark Hamilton,  Mark Rison, Peter Ecclesine, Mike Montemurro, Liwen Chu, Eldad Perahia, Brian Hart, Sai Shankar, James {Yee|Wang|P.K. Gilb}, Assaf Kasher, Carlos Cordeiro, Edward Au, Kaberi Banerj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Date Placeholder 3"/>
          <p:cNvSpPr/>
          <p:nvPr/>
        </p:nvSpPr>
        <p:spPr>
          <a:xfrm>
            <a:off x="714240" y="334800"/>
            <a:ext cx="92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ug 2013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Footer Placeholder 4"/>
          <p:cNvSpPr/>
          <p:nvPr/>
        </p:nvSpPr>
        <p:spPr>
          <a:xfrm>
            <a:off x="7240320" y="6475320"/>
            <a:ext cx="2140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rian Stephens, Intel Corporat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61885C0D-7541-4A19-A4A4-353B5A9436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Status of Draf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Date Placeholder 3"/>
          <p:cNvSpPr/>
          <p:nvPr/>
        </p:nvSpPr>
        <p:spPr>
          <a:xfrm>
            <a:off x="714240" y="334800"/>
            <a:ext cx="92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ug 2013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Footer Placeholder 4"/>
          <p:cNvSpPr/>
          <p:nvPr/>
        </p:nvSpPr>
        <p:spPr>
          <a:xfrm>
            <a:off x="7240320" y="6475320"/>
            <a:ext cx="2140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rian Stephens, Intel Corporat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032B163A-0CCE-4A31-9117-41D842C1E6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9" name="Object 6"/>
          <p:cNvGraphicFramePr/>
          <p:nvPr/>
        </p:nvGraphicFramePr>
        <p:xfrm>
          <a:off x="1371600" y="1523880"/>
          <a:ext cx="6991200" cy="453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0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523880"/>
                    <a:ext cx="6991200" cy="453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Page Coun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Date Placeholder 3"/>
          <p:cNvSpPr/>
          <p:nvPr/>
        </p:nvSpPr>
        <p:spPr>
          <a:xfrm>
            <a:off x="714240" y="334800"/>
            <a:ext cx="92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ug 2013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Footer Placeholder 4"/>
          <p:cNvSpPr/>
          <p:nvPr/>
        </p:nvSpPr>
        <p:spPr>
          <a:xfrm>
            <a:off x="7240320" y="6475320"/>
            <a:ext cx="2140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rian Stephens, Intel Corporat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B73F1AD9-3DD1-424B-ACA3-74ABDBBED0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5" name="Object 1"/>
          <p:cNvGraphicFramePr/>
          <p:nvPr/>
        </p:nvGraphicFramePr>
        <p:xfrm>
          <a:off x="662040" y="1600200"/>
          <a:ext cx="7777080" cy="443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6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2040" y="1600200"/>
                    <a:ext cx="7777080" cy="443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Reference Document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Draft:  P802.11REVmc D2.1 (members’ area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WG Ballot composite comment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11-13/023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8640" indent="-2102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LB193 comments start at CID 1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98640" indent="-2102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LB199 comments start at CID 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98640" indent="-2102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Includes pre-ballot com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MAC comment resolution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11-13/036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GEN comment resolution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11-14/056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MAC/GEN sheets usually used for motioning tech resolutions. 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Composite SS may lag contents of these sheets during a session,  but is the eventual resting place of approved resolutions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Date Placeholder 3"/>
          <p:cNvSpPr/>
          <p:nvPr/>
        </p:nvSpPr>
        <p:spPr>
          <a:xfrm>
            <a:off x="714240" y="334800"/>
            <a:ext cx="92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ug 2013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Footer Placeholder 4"/>
          <p:cNvSpPr/>
          <p:nvPr/>
        </p:nvSpPr>
        <p:spPr>
          <a:xfrm>
            <a:off x="7240320" y="6475320"/>
            <a:ext cx="2140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rian Stephens, Intel Corporat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B6EFF709-CD87-4457-B6C2-D5BD66EEA4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Comments per “ballot”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Date Placeholder 3"/>
          <p:cNvSpPr/>
          <p:nvPr/>
        </p:nvSpPr>
        <p:spPr>
          <a:xfrm>
            <a:off x="714240" y="334800"/>
            <a:ext cx="92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ug 2013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Footer Placeholder 4"/>
          <p:cNvSpPr/>
          <p:nvPr/>
        </p:nvSpPr>
        <p:spPr>
          <a:xfrm>
            <a:off x="7240320" y="6475320"/>
            <a:ext cx="2140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rian Stephens, Intel Corporat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1B76F67B-BB99-4479-B85C-19A21675A5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Picture 6" descr=""/>
          <p:cNvPicPr/>
          <p:nvPr/>
        </p:nvPicPr>
        <p:blipFill>
          <a:blip r:embed="rId1"/>
          <a:stretch/>
        </p:blipFill>
        <p:spPr>
          <a:xfrm>
            <a:off x="31680" y="1944720"/>
            <a:ext cx="9034560" cy="27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Comments by commenter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Date Placeholder 3"/>
          <p:cNvSpPr/>
          <p:nvPr/>
        </p:nvSpPr>
        <p:spPr>
          <a:xfrm>
            <a:off x="714240" y="334800"/>
            <a:ext cx="92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ug 2013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Footer Placeholder 4"/>
          <p:cNvSpPr/>
          <p:nvPr/>
        </p:nvSpPr>
        <p:spPr>
          <a:xfrm>
            <a:off x="7240320" y="6475320"/>
            <a:ext cx="2140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rian Stephens, Intel Corporat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08832458-5F64-4D86-85B5-E4BF0E21B6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Picture 6" descr=""/>
          <p:cNvPicPr/>
          <p:nvPr/>
        </p:nvPicPr>
        <p:blipFill>
          <a:blip r:embed="rId1"/>
          <a:stretch/>
        </p:blipFill>
        <p:spPr>
          <a:xfrm>
            <a:off x="892080" y="1523880"/>
            <a:ext cx="6905880" cy="484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Comment Resolution History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Date Placeholder 3"/>
          <p:cNvSpPr/>
          <p:nvPr/>
        </p:nvSpPr>
        <p:spPr>
          <a:xfrm>
            <a:off x="714240" y="334800"/>
            <a:ext cx="92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ug 2013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Footer Placeholder 4"/>
          <p:cNvSpPr/>
          <p:nvPr/>
        </p:nvSpPr>
        <p:spPr>
          <a:xfrm>
            <a:off x="7240320" y="6475320"/>
            <a:ext cx="2140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rian Stephens, Intel Corporat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5412BC39-95F3-4E60-987A-0820FF9C20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Picture 1" descr=""/>
          <p:cNvPicPr/>
          <p:nvPr/>
        </p:nvPicPr>
        <p:blipFill>
          <a:blip r:embed="rId1"/>
          <a:stretch/>
        </p:blipFill>
        <p:spPr>
          <a:xfrm>
            <a:off x="582480" y="1486080"/>
            <a:ext cx="7979040" cy="49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38200" y="839520"/>
            <a:ext cx="7772400" cy="479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Status of Editorial Comment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Date Placeholder 3"/>
          <p:cNvSpPr/>
          <p:nvPr/>
        </p:nvSpPr>
        <p:spPr>
          <a:xfrm>
            <a:off x="714240" y="334800"/>
            <a:ext cx="92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ug 2013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Footer Placeholder 4"/>
          <p:cNvSpPr/>
          <p:nvPr/>
        </p:nvSpPr>
        <p:spPr>
          <a:xfrm>
            <a:off x="7240320" y="6475320"/>
            <a:ext cx="2140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rian Stephens, Intel Corporat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1524F8BA-09FB-4E3B-A877-6CC16553C4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1" name="Picture 1" descr=""/>
          <p:cNvPicPr/>
          <p:nvPr/>
        </p:nvPicPr>
        <p:blipFill>
          <a:blip r:embed="rId1"/>
          <a:stretch/>
        </p:blipFill>
        <p:spPr>
          <a:xfrm>
            <a:off x="2216160" y="1816200"/>
            <a:ext cx="4049640" cy="180180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2" descr=""/>
          <p:cNvPicPr/>
          <p:nvPr/>
        </p:nvPicPr>
        <p:blipFill>
          <a:blip r:embed="rId2"/>
          <a:stretch/>
        </p:blipFill>
        <p:spPr>
          <a:xfrm>
            <a:off x="1981080" y="3821040"/>
            <a:ext cx="4519800" cy="15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3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2-10T13:07:52Z</dcterms:created>
  <dc:creator>Adrian Stephens</dc:creator>
  <dc:description/>
  <dc:language>en-US</dc:language>
  <cp:lastModifiedBy>Adrian Stephens 6</cp:lastModifiedBy>
  <cp:lastPrinted>1998-02-10T13:28:06Z</cp:lastPrinted>
  <dcterms:modified xsi:type="dcterms:W3CDTF">2013-11-01T13:42:55Z</dcterms:modified>
  <cp:revision>1289</cp:revision>
  <dc:subject/>
  <dc:title>802.11 Vice Chair's Report 2012</dc:title>
</cp:coreProperties>
</file>