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9350AD-0313-4B96-A823-46A3EBF43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DB57DC-900B-49AB-8354-7EDA77F7D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285278-4FF3-485D-B3BF-0A7F7A62B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E5F-C3B4-412F-8958-D4BE9EA2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F4F-F5A3-4BB4-B038-167F2DDF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B62-C2DC-4186-8F2A-606F572E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EB2-7E2E-438A-A8CA-A67DE9CD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B6EE-C917-4189-ADB4-A0F831D3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30CC-3B2B-46D5-91CF-98C92EEF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B08F-A01F-46C1-9DEC-05E97384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41C5-E3DF-4B13-BECF-D02C9F10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EB7-BE9F-47C7-9EDA-CE345BA5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9255-DED7-44A3-8550-7B400C2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9C9D-3C84-4BF2-B7D7-7A4AB457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6E4-947C-4B00-928E-EC8AC1C5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A72A-DE3A-46F1-ACC2-4214D691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FF6-277A-4288-9751-279FA560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2CC4-468D-42D6-A53E-6AE60A9A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8620-C798-4A54-87BC-878B374A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8E84-90BB-40BC-B8F9-A0B80369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A819-6CB8-49AA-8B94-36090FA8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2F22-775E-4122-8590-EDDCB890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9BBE-9AF7-4C69-AD97-F116491C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F236-2E53-4D93-AE3B-C081CE2A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6A70-93EE-4B4C-AC5D-284B0085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D28-82C7-411F-B342-1878564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03645-BFBE-4BB2-AB87-8E912583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BE2C-D1B8-4B62-89DE-26649C53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1814-E0FC-4818-A976-557FF6B8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4ED0-2587-4DAA-88E5-6BFD1F9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16AF-390E-403B-B225-EF23A4E5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B842-65A7-4156-8F18-97C096F2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D7C3-C5AC-4136-863F-D623DB72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54B-CCF6-4FF3-B788-894C139A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7FA-C618-485B-ACF5-AF0640D9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FF2-3C8C-4FC8-9E2E-E8365984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26A-7B5D-475A-BD47-E52F3015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3CC-9F19-4D70-A695-3C02A00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04D-DAF7-4DB2-B24D-120B888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302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9489F6-12B2-4CB6-B0B9-30007AA02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7A7-1286-43BD-9B11-24F09DA572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55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083002-BA7C-45C5-9D21-00DF067FA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BB732F-FDE0-4240-ABC9-54D6AD65D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Nov 201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act of Editorial Resol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85B388-FB35-462B-B176-726F66A45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778040" y="1389240"/>
            <a:ext cx="3427200" cy="1562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2"/>
          <a:stretch/>
        </p:blipFill>
        <p:spPr>
          <a:xfrm>
            <a:off x="6810480" y="2054160"/>
            <a:ext cx="2259000" cy="3324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3"/>
          <a:stretch/>
        </p:blipFill>
        <p:spPr>
          <a:xfrm>
            <a:off x="195120" y="3594240"/>
            <a:ext cx="656136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1"/>
          <p:cNvSpPr/>
          <p:nvPr/>
        </p:nvSpPr>
        <p:spPr>
          <a:xfrm>
            <a:off x="6777000" y="122076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B199 editorial edits so f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217440" y="313200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B199 editorial edits vs page nu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34128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folks have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4B6A0C-EB65-45D5-A3BC-A20045DD2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16DE89-2769-4392-B426-700D5E4A3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1371600" y="1523880"/>
          <a:ext cx="699120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99120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AC53261-FF3D-4004-9001-34AF46240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662040" y="1600200"/>
          <a:ext cx="777708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600200"/>
                    <a:ext cx="777708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aft:  P802.11REVmc D2.1 (members’ are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9 comments start at CID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4/05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E0A417-479C-409B-9B82-32B3B66FA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per “ballot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709ED2-A2DD-4F44-BB4A-3E5575026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1680" y="1944720"/>
            <a:ext cx="90345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51BD08-AED8-4C81-822D-78EE29484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892080" y="1523880"/>
            <a:ext cx="69058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 Resolution Hi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CFD61E-19CB-45F8-9576-103B8EFB1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582480" y="1486080"/>
            <a:ext cx="797904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8200" y="839520"/>
            <a:ext cx="7772400" cy="47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Editorial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B90E5E-43FD-42BB-BD0E-82DA0EFD7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2216160" y="1816200"/>
            <a:ext cx="4049640" cy="180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1981080" y="3821040"/>
            <a:ext cx="45198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 6</cp:lastModifiedBy>
  <cp:lastPrinted>1998-02-10T13:28:06Z</cp:lastPrinted>
  <dcterms:modified xsi:type="dcterms:W3CDTF">2013-11-01T13:42:55Z</dcterms:modified>
  <cp:revision>1289</cp:revision>
  <dc:subject/>
  <dc:title>802.11 Vice Chair's Report 2012</dc:title>
</cp:coreProperties>
</file>