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48E33F-2D9A-4E1E-B777-4268D460B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5BC12C-5FCF-4569-ABA4-F4D537F92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Date Placeholder 4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158AAF-B6FA-47D7-878D-42E4E39AF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AB9-968B-4B33-962D-22C33C67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CC4-BACF-4D69-9C86-E979FAC2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BF2-47A0-4410-971C-83ADDE44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C02-5A3F-4BA1-BEC6-EC475E47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C9EF-806B-48B3-8946-D7EC0FD8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B8BF-0D2F-42E3-99B5-22E27CF9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0210-737B-4F87-A39F-11E2233F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E1F1-4811-4075-9FBC-1F0F3B4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DEE1-BCF8-4657-99E5-F8212787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B420-C60C-4D7F-927B-217AF839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AD9D-CA41-4883-9507-0665421F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A1D-CDB4-4691-91F0-E08F3984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413D-66F9-4C9A-8A0B-A09F188E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3131-2802-4922-AC7B-B3C1560F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CFA2-7076-454E-B138-677BCAEE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F5DA-764C-4C50-9FF7-3040879D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7E1D-6E46-4F7F-A6CD-3BE9CDA9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948E-9ECB-4A19-BCED-8D5BD21C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8B10-4683-47CB-9A83-4E2EDE77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476E-2ED7-408F-866A-89A370F0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B738-C414-41B7-8810-7E32A208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D65D-3D57-440D-941E-2FB61F0E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70C-63EA-42FA-9A07-84C8C0CE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5D63-6827-4CD4-B0DD-2D5B35BF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8DD3-D950-4E04-A62E-265F370D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B8BF-A4A5-4303-B5E0-14D6D968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4BDC9-F869-4B5E-9DE8-185A1880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25F2-0634-4589-8968-DC214F78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36B2-4317-430B-8F68-57DBECC1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DFE11-1B7C-4D9B-A83F-A82CC58E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603-E1E7-4374-9244-E4B39BC9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282-41ED-4B3F-92F4-05FE63CE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BED-3DB6-4100-8308-0EAEC1A5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5F3-FB35-4574-8CED-75A3BA09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B20-15D5-4C1B-8418-07C83E8E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87E-C425-4C59-AA0A-FAAFA220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302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2569CCE-24E5-49DA-890A-772500B8A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97F3-8AC1-4546-AD6F-2457B0356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55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EB7399-8DFF-4BE3-94ED-86463ADD5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264B17-C489-4160-826F-1B999B0C7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c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Aug 201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8-3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following folks have aided the technical editor in one way or another during the development of REVmc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rothy Stanley, Jon Rosdahl,  Mark Hamilton,  Mark Rison, Peter Ecclesine, Mike Montemurro, Liwen Chu, Eldad Perahia, Brian Hart, Sai Shankar, James {Yee|Wang|P.K. Gilb}, Assaf Kasher, Carlos Cordeiro, Edward Au, Kaberi Banerj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A38D0BD-F91E-4F9C-A714-A5A245276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4E0125-BDBA-4503-B22E-98F5B4E08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1371600" y="1523880"/>
          <a:ext cx="69912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9912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ge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A6689D-DC3A-4303-9853-7092FBBF1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"/>
          <p:cNvGraphicFramePr/>
          <p:nvPr/>
        </p:nvGraphicFramePr>
        <p:xfrm>
          <a:off x="838080" y="1905120"/>
          <a:ext cx="7777440" cy="39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777440" cy="39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raft:  P802.11REVmc D1.5 (members’ are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G Ballot composite 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193 comments start at CID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ludes pre-ballot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C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4/05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C/GEN sheets usually used for motioning tech resolutions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osite SS may lag contents of these sheets during a session,  but is the eventual resting place of approved resolu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062963-4CDF-4431-98D9-5DBF75CDC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24382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Comment Res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03D217-3DA8-4D96-BD22-61620C7B9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1459080" y="64692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ta as of 2013-08-3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306360" y="2560680"/>
            <a:ext cx="860760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 Resolution His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6B124B-65B4-4C9A-85F4-F1ECCEA54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1295280" y="1440000"/>
            <a:ext cx="65073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-2232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Editorial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C64178-DF36-40FA-9928-C8C8BC7DD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1366920" y="762120"/>
            <a:ext cx="648180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00800" y="914400"/>
            <a:ext cx="27432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sign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8770AC-3F19-41D5-A2EA-45665EFA8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Date Placeholder 1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2136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Stephens, Adrian P</cp:lastModifiedBy>
  <cp:lastPrinted>1998-02-10T13:28:06Z</cp:lastPrinted>
  <dcterms:modified xsi:type="dcterms:W3CDTF">2013-08-30T13:11:36Z</dcterms:modified>
  <cp:revision>1282</cp:revision>
  <dc:subject/>
  <dc:title>802.11 Vice Chair's Report 2012</dc:title>
</cp:coreProperties>
</file>