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.: IEEE 802.11-11/0051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64584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12400" y="701280"/>
            <a:ext cx="4635720" cy="34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5287680" y="9000720"/>
            <a:ext cx="925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B9806E9-92E3-40DB-853C-102531EFC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639720" y="297000"/>
            <a:ext cx="557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051r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6836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4451400" y="9001080"/>
            <a:ext cx="259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9D7D9EE-8781-4FC5-8BA6-31B8210BF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Header Placeholder 3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051r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Date Placeholder 4"/>
          <p:cNvSpPr/>
          <p:nvPr/>
        </p:nvSpPr>
        <p:spPr>
          <a:xfrm>
            <a:off x="6836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Footer Placeholder 5"/>
          <p:cNvSpPr/>
          <p:nvPr/>
        </p:nvSpPr>
        <p:spPr>
          <a:xfrm>
            <a:off x="4451400" y="9001080"/>
            <a:ext cx="259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6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837DB26-F793-4165-8005-B150DAF7B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3C07-47E9-49F2-911E-0D279C1B9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5278-5FE0-4293-BE95-421061D5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4C45-A21A-4999-A276-BE257764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3157-8CE1-4AF9-8B94-53F28E4BF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7078-0FEE-4DA4-9941-F640FBF37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A356-53C8-479B-91EA-A0F7A08C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72FC-44DF-4AE6-98C8-A8DB9670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ECB8-4E1F-47A8-9811-3E41D930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D9B0-9B99-4A13-963E-CCDB3D7D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F055-F4C6-4BC8-90B9-C8516568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865E-7F5F-43F1-AF5A-17664F36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DFF6-7DEB-4855-9335-36A08E5B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69B8-459D-4F0D-928E-9D43E12E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AEC8-D0C7-4819-A74C-1C561FA4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4D07-352E-44EF-86E1-723340CE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805F-8491-4249-897D-9A35C9A12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E08F-59C9-4E33-81D0-0904F7D8E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C0BE7-D7CE-49D1-812C-0DD4F959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C95DA-E6E9-4A26-B9B2-F070E22E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66762-A902-4C37-A2C0-A2BBB00A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A941D-1517-4F02-890F-BC39BBF9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9F6F0-9A4A-44DD-A0B8-7E300BFC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55F0-B6BC-408D-BB9C-EAA5994A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5EC03-CFFD-4FFE-8C57-4BEA9C62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3F7A2-F6B0-47EA-8950-450013E1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CA06E-E5CD-448E-803F-568CA6FF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655FE-06F6-4870-A89D-4D6BAD60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0E1A7-64E6-4113-8754-FE7D7400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DC9FD-EA0B-4B62-94C2-5DD03107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E3A53-83A5-44AB-914E-4696789AE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4B4F-1E76-4FF8-9FF0-EBD19EDE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3C7F-39F4-4807-B647-72361CA2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1976-2C81-4C90-83AD-421888C5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E6C2-7524-4B66-A258-10AB5F44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9C52-CD5D-4A89-8113-5DDDD8D6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6610-193F-449A-8077-C84CA2EB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9302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60F3B09-56B7-4795-AA3F-AAEDFF68D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3/0095r6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8680" y="6475320"/>
            <a:ext cx="41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ug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B096-E74E-41A3-9A58-BD7A121EEE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3/0095r6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88680" y="6475320"/>
            <a:ext cx="41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traight Connector 11"/>
          <p:cNvSpPr/>
          <p:nvPr/>
        </p:nvSpPr>
        <p:spPr>
          <a:xfrm>
            <a:off x="685800" y="609480"/>
            <a:ext cx="785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96600" y="333000"/>
            <a:ext cx="955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1FE07CE-58D8-4FD0-A6B5-50E26D491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714240" y="334800"/>
            <a:ext cx="92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B4CFF10-8612-424E-B293-919632BE1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2.11REVmc Editor’s Repor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 Aug 201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3-08-3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Object 11"/>
          <p:cNvGraphicFramePr/>
          <p:nvPr/>
        </p:nvGraphicFramePr>
        <p:xfrm>
          <a:off x="523800" y="2276640"/>
          <a:ext cx="7772400" cy="260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2276640"/>
                    <a:ext cx="777240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cknowledgem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following folks have aided the technical editor in one way or another during the development of REVmc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orothy Stanley, Jon Rosdahl,  Mark Hamilton,  Mark Rison, Peter Ecclesine, Mike Montemurro, Liwen Chu, Eldad Perahia, Brian Hart, Sai Shankar, James {Yee|Wang|P.K. Gilb}, Assaf Kasher, Carlos Cordeiro, Edward Au, Kaberi Banerj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Date Placeholder 3"/>
          <p:cNvSpPr/>
          <p:nvPr/>
        </p:nvSpPr>
        <p:spPr>
          <a:xfrm>
            <a:off x="714240" y="334800"/>
            <a:ext cx="92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97CE97A-3110-4457-A2C4-90984F97B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tatus of Draf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Date Placeholder 3"/>
          <p:cNvSpPr/>
          <p:nvPr/>
        </p:nvSpPr>
        <p:spPr>
          <a:xfrm>
            <a:off x="714240" y="334800"/>
            <a:ext cx="92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BDBB3C6-A9BF-45C8-AB87-2D7EF1D21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Object 6"/>
          <p:cNvGraphicFramePr/>
          <p:nvPr/>
        </p:nvGraphicFramePr>
        <p:xfrm>
          <a:off x="1371600" y="1523880"/>
          <a:ext cx="699120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23880"/>
                    <a:ext cx="69912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age Cou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Date Placeholder 3"/>
          <p:cNvSpPr/>
          <p:nvPr/>
        </p:nvSpPr>
        <p:spPr>
          <a:xfrm>
            <a:off x="714240" y="334800"/>
            <a:ext cx="92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FC7FE6B-D0A9-4B32-AEC0-0B7B1AFF2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Object 1"/>
          <p:cNvGraphicFramePr/>
          <p:nvPr/>
        </p:nvGraphicFramePr>
        <p:xfrm>
          <a:off x="838080" y="1905120"/>
          <a:ext cx="7777440" cy="39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777440" cy="39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ference Docu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raft:  P802.11REVmc D1.5 (members’ area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G Ballot composite com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1-13/02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B193 comments start at CID 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cludes pre-ballot com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C comment resolu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1-13/03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EN comment resolu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1-14/05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AC/GEN sheets usually used for motioning tech resolutions.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omposite SS may lag contents of these sheets during a session,  but is the eventual resting place of approved resolution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Date Placeholder 3"/>
          <p:cNvSpPr/>
          <p:nvPr/>
        </p:nvSpPr>
        <p:spPr>
          <a:xfrm>
            <a:off x="714240" y="334800"/>
            <a:ext cx="92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5C9EA33-A374-4CC4-958B-32BA3EE7E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24382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tatus of Comment Resolu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Date Placeholder 3"/>
          <p:cNvSpPr/>
          <p:nvPr/>
        </p:nvSpPr>
        <p:spPr>
          <a:xfrm>
            <a:off x="714240" y="334800"/>
            <a:ext cx="92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B4ADCA0-1E91-44E7-B706-0AB5B0168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1459080" y="646920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ata as of 2013-08-3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1" descr=""/>
          <p:cNvPicPr/>
          <p:nvPr/>
        </p:nvPicPr>
        <p:blipFill>
          <a:blip r:embed="rId1"/>
          <a:stretch/>
        </p:blipFill>
        <p:spPr>
          <a:xfrm>
            <a:off x="306360" y="2560680"/>
            <a:ext cx="860760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mment Resolution Histo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Date Placeholder 3"/>
          <p:cNvSpPr/>
          <p:nvPr/>
        </p:nvSpPr>
        <p:spPr>
          <a:xfrm>
            <a:off x="714240" y="334800"/>
            <a:ext cx="92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807F276-88B4-485A-A21D-670462E7F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1" descr=""/>
          <p:cNvPicPr/>
          <p:nvPr/>
        </p:nvPicPr>
        <p:blipFill>
          <a:blip r:embed="rId1"/>
          <a:stretch/>
        </p:blipFill>
        <p:spPr>
          <a:xfrm>
            <a:off x="1295280" y="1440000"/>
            <a:ext cx="650736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-2232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tatus of Editorial Com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Date Placeholder 3"/>
          <p:cNvSpPr/>
          <p:nvPr/>
        </p:nvSpPr>
        <p:spPr>
          <a:xfrm>
            <a:off x="714240" y="334800"/>
            <a:ext cx="92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8C713A2-579A-4CA6-B5DB-84B66165C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1" descr=""/>
          <p:cNvPicPr/>
          <p:nvPr/>
        </p:nvPicPr>
        <p:blipFill>
          <a:blip r:embed="rId1"/>
          <a:stretch/>
        </p:blipFill>
        <p:spPr>
          <a:xfrm>
            <a:off x="1366920" y="762120"/>
            <a:ext cx="6481800" cy="55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400800" y="914400"/>
            <a:ext cx="274320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ssigne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BAFC1E4-F03A-4C17-A5BB-B5F00F6D1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Date Placeholder 1"/>
          <p:cNvSpPr/>
          <p:nvPr/>
        </p:nvSpPr>
        <p:spPr>
          <a:xfrm>
            <a:off x="714240" y="334800"/>
            <a:ext cx="92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1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6213600" cy="54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Adrian Stephens</dc:creator>
  <dc:description/>
  <dc:language>en-US</dc:language>
  <cp:lastModifiedBy>Stephens, Adrian P</cp:lastModifiedBy>
  <cp:lastPrinted>1998-02-10T13:28:06Z</cp:lastPrinted>
  <dcterms:modified xsi:type="dcterms:W3CDTF">2013-08-30T13:11:36Z</dcterms:modified>
  <cp:revision>1282</cp:revision>
  <dc:subject/>
  <dc:title>802.11 Vice Chair's Report 2012</dc:title>
</cp:coreProperties>
</file>