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5513040" y="-732960"/>
            <a:ext cx="641160" cy="10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doc.: IEEE 802.11-12/13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41160" y="117360"/>
            <a:ext cx="119844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23760" y="750960"/>
            <a:ext cx="4948560" cy="3711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05040" y="4716360"/>
            <a:ext cx="4984560" cy="44719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5230800" y="9615240"/>
            <a:ext cx="92376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864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864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ephen McCann, R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146400" y="961524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6792193-8BF6-4542-B1F0-1230460A296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708480" y="961560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9"/>
          <p:cNvSpPr/>
          <p:nvPr/>
        </p:nvSpPr>
        <p:spPr>
          <a:xfrm>
            <a:off x="709560" y="9613800"/>
            <a:ext cx="5375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0"/>
          <p:cNvSpPr/>
          <p:nvPr/>
        </p:nvSpPr>
        <p:spPr>
          <a:xfrm>
            <a:off x="635040" y="317520"/>
            <a:ext cx="552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4734000" y="11988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doc.: IEEE 802.11-12/13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642240" y="119880"/>
            <a:ext cx="1197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4754520" y="9615600"/>
            <a:ext cx="187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ephen McCann, R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2917800" y="961560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1BEEC7A-C136-45B4-916A-D26EA81047E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22320" y="750960"/>
            <a:ext cx="4950000" cy="37116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05040" y="4716360"/>
            <a:ext cx="4984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6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05040" y="4716360"/>
            <a:ext cx="4984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Header Placeholder 3"/>
          <p:cNvSpPr/>
          <p:nvPr/>
        </p:nvSpPr>
        <p:spPr>
          <a:xfrm>
            <a:off x="3996720" y="11988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2/13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Date Placeholder 4"/>
          <p:cNvSpPr/>
          <p:nvPr/>
        </p:nvSpPr>
        <p:spPr>
          <a:xfrm>
            <a:off x="641880" y="119880"/>
            <a:ext cx="91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onth 20x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Footer Placeholder 5"/>
          <p:cNvSpPr/>
          <p:nvPr/>
        </p:nvSpPr>
        <p:spPr>
          <a:xfrm>
            <a:off x="4329000" y="9615600"/>
            <a:ext cx="1817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XXX, His Comp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Slide Number Placeholder 6"/>
          <p:cNvSpPr/>
          <p:nvPr/>
        </p:nvSpPr>
        <p:spPr>
          <a:xfrm>
            <a:off x="2967840" y="961560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77AC28A-1A28-4B88-812E-935183473A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734000" y="11988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doc.: IEEE 802.11-12/13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642240" y="119880"/>
            <a:ext cx="1197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4754520" y="9615600"/>
            <a:ext cx="187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ephen McCann, R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2917800" y="961560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EF2D761-2C6B-4D50-AE33-08EC7BC0CF6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22320" y="750960"/>
            <a:ext cx="4950000" cy="37116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05040" y="4716360"/>
            <a:ext cx="4984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773280" y="334800"/>
            <a:ext cx="5513400" cy="413568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05040" y="4716360"/>
            <a:ext cx="4984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Header Placeholder 3"/>
          <p:cNvSpPr/>
          <p:nvPr/>
        </p:nvSpPr>
        <p:spPr>
          <a:xfrm>
            <a:off x="3996720" y="11988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2/13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Date Placeholder 4"/>
          <p:cNvSpPr/>
          <p:nvPr/>
        </p:nvSpPr>
        <p:spPr>
          <a:xfrm>
            <a:off x="641880" y="119880"/>
            <a:ext cx="91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onth 20x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Footer Placeholder 5"/>
          <p:cNvSpPr/>
          <p:nvPr/>
        </p:nvSpPr>
        <p:spPr>
          <a:xfrm>
            <a:off x="4329000" y="9615600"/>
            <a:ext cx="1817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XXX, His Comp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6"/>
          <p:cNvSpPr/>
          <p:nvPr/>
        </p:nvSpPr>
        <p:spPr>
          <a:xfrm>
            <a:off x="2967840" y="961560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B7BFA91-F7C7-461B-9388-21B2626DF7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773280" y="334800"/>
            <a:ext cx="5513400" cy="413568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05040" y="4716360"/>
            <a:ext cx="4984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Header Placeholder 3"/>
          <p:cNvSpPr/>
          <p:nvPr/>
        </p:nvSpPr>
        <p:spPr>
          <a:xfrm>
            <a:off x="3996720" y="11988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2/13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Date Placeholder 4"/>
          <p:cNvSpPr/>
          <p:nvPr/>
        </p:nvSpPr>
        <p:spPr>
          <a:xfrm>
            <a:off x="641880" y="119880"/>
            <a:ext cx="91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onth 20x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Footer Placeholder 5"/>
          <p:cNvSpPr/>
          <p:nvPr/>
        </p:nvSpPr>
        <p:spPr>
          <a:xfrm>
            <a:off x="4329000" y="9615600"/>
            <a:ext cx="1817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XXX, His Comp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Slide Number Placeholder 6"/>
          <p:cNvSpPr/>
          <p:nvPr/>
        </p:nvSpPr>
        <p:spPr>
          <a:xfrm>
            <a:off x="2967840" y="961560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EF47063-5CC4-45E3-93C3-33B5F3916F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873000" y="806400"/>
            <a:ext cx="4967280" cy="3726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05040" y="4716360"/>
            <a:ext cx="4984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304080" y="9615600"/>
            <a:ext cx="636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084343-8745-4DF1-882B-B09C7EF0D3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6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05040" y="4716360"/>
            <a:ext cx="4984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Header Placeholder 3"/>
          <p:cNvSpPr/>
          <p:nvPr/>
        </p:nvSpPr>
        <p:spPr>
          <a:xfrm>
            <a:off x="3996720" y="11988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2/13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Date Placeholder 4"/>
          <p:cNvSpPr/>
          <p:nvPr/>
        </p:nvSpPr>
        <p:spPr>
          <a:xfrm>
            <a:off x="641880" y="119880"/>
            <a:ext cx="91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onth 20x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Footer Placeholder 5"/>
          <p:cNvSpPr/>
          <p:nvPr/>
        </p:nvSpPr>
        <p:spPr>
          <a:xfrm>
            <a:off x="4329000" y="9615600"/>
            <a:ext cx="1817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XXX, His Comp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Slide Number Placeholder 6"/>
          <p:cNvSpPr/>
          <p:nvPr/>
        </p:nvSpPr>
        <p:spPr>
          <a:xfrm>
            <a:off x="2967840" y="961560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FE7DB9C-9942-4A96-A109-A608A178D2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6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05040" y="4716360"/>
            <a:ext cx="4984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Header Placeholder 3"/>
          <p:cNvSpPr/>
          <p:nvPr/>
        </p:nvSpPr>
        <p:spPr>
          <a:xfrm>
            <a:off x="3996720" y="11988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2/13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Date Placeholder 4"/>
          <p:cNvSpPr/>
          <p:nvPr/>
        </p:nvSpPr>
        <p:spPr>
          <a:xfrm>
            <a:off x="641880" y="119880"/>
            <a:ext cx="91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onth 20x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Footer Placeholder 5"/>
          <p:cNvSpPr/>
          <p:nvPr/>
        </p:nvSpPr>
        <p:spPr>
          <a:xfrm>
            <a:off x="4329000" y="9615600"/>
            <a:ext cx="1817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XXX, His Comp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Slide Number Placeholder 6"/>
          <p:cNvSpPr/>
          <p:nvPr/>
        </p:nvSpPr>
        <p:spPr>
          <a:xfrm>
            <a:off x="2967840" y="961560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E2ACB97-1BC0-4E36-8148-6116B1E746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6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05040" y="4716360"/>
            <a:ext cx="4984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Header Placeholder 3"/>
          <p:cNvSpPr/>
          <p:nvPr/>
        </p:nvSpPr>
        <p:spPr>
          <a:xfrm>
            <a:off x="3996720" y="11988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2/13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Date Placeholder 4"/>
          <p:cNvSpPr/>
          <p:nvPr/>
        </p:nvSpPr>
        <p:spPr>
          <a:xfrm>
            <a:off x="641880" y="119880"/>
            <a:ext cx="91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onth 20x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Footer Placeholder 5"/>
          <p:cNvSpPr/>
          <p:nvPr/>
        </p:nvSpPr>
        <p:spPr>
          <a:xfrm>
            <a:off x="4329000" y="9615600"/>
            <a:ext cx="1817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XXX, His Comp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Slide Number Placeholder 6"/>
          <p:cNvSpPr/>
          <p:nvPr/>
        </p:nvSpPr>
        <p:spPr>
          <a:xfrm>
            <a:off x="2967840" y="961560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3179D7C-178A-4D2C-A589-F6BCA79024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6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05040" y="4716360"/>
            <a:ext cx="4984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Header Placeholder 3"/>
          <p:cNvSpPr/>
          <p:nvPr/>
        </p:nvSpPr>
        <p:spPr>
          <a:xfrm>
            <a:off x="3996720" y="11988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2/1391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Date Placeholder 4"/>
          <p:cNvSpPr/>
          <p:nvPr/>
        </p:nvSpPr>
        <p:spPr>
          <a:xfrm>
            <a:off x="641880" y="119880"/>
            <a:ext cx="91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onth 20x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Footer Placeholder 5"/>
          <p:cNvSpPr/>
          <p:nvPr/>
        </p:nvSpPr>
        <p:spPr>
          <a:xfrm>
            <a:off x="4329000" y="9615600"/>
            <a:ext cx="1817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XXX, His Comp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lide Number Placeholder 6"/>
          <p:cNvSpPr/>
          <p:nvPr/>
        </p:nvSpPr>
        <p:spPr>
          <a:xfrm>
            <a:off x="2967840" y="961560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411E8B4-2D8E-49D8-B02B-6B16C61533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8C71-8B2D-4D47-ADB0-BA584EE99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DFBC-31EA-4ABE-B00C-24AEEE4EE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197E-42AA-4F7D-B093-86D83391A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0541-8B40-42F9-88E6-2C966D683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B7E7-DB3B-4BEA-8289-1182D1EEF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799D-F874-4BDD-A179-2E9563EC3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B91B-EB3E-4FAB-AAC6-30F05F6E8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EEE0-031B-44CE-8C61-138BBFB3F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0F82-6473-428B-9A93-44F203A57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2A04-7894-4E1A-8D0E-718C562C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A44D-0A53-4C2C-A6AE-F5AB8914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E9EB-2DE4-4CC7-9914-F6849FF0E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960" y="333000"/>
            <a:ext cx="15415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077320" y="6474960"/>
            <a:ext cx="46656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ephen McCann, R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F852C06-F5B2-403B-905A-2EC32758222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doc.: IEEE 802.11-12/1391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Date Placeholder 3"/>
          <p:cNvSpPr/>
          <p:nvPr/>
        </p:nvSpPr>
        <p:spPr>
          <a:xfrm>
            <a:off x="701280" y="3348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E8488E7-94A4-4199-837A-94E082C4E62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PAD Study Group Response to IEEE 802.21 comments on PAR and 5C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4360" y="194004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2012-11-1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Object 5"/>
          <p:cNvGraphicFramePr/>
          <p:nvPr/>
        </p:nvGraphicFramePr>
        <p:xfrm>
          <a:off x="547560" y="2781360"/>
          <a:ext cx="8026560" cy="2260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7560" y="2781360"/>
                    <a:ext cx="8026560" cy="22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Rectangle 6"/>
          <p:cNvSpPr/>
          <p:nvPr/>
        </p:nvSpPr>
        <p:spPr>
          <a:xfrm>
            <a:off x="533520" y="2320920"/>
            <a:ext cx="1447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utho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Footer Placeholder 1"/>
          <p:cNvSpPr/>
          <p:nvPr/>
        </p:nvSpPr>
        <p:spPr>
          <a:xfrm>
            <a:off x="7601760" y="6475320"/>
            <a:ext cx="141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ephen McCann, R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5C – Technical Feasibilit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lvl="2" marL="106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) Proven technology, reasonable testing: “All of the end components of the technology are in use today, although the pre-association discovery mechanism has not been developed yet. ”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omment: Is the above statement correct? Pre-association network discovery mechanism exists today. Suggest to change  “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e-association discovery mechanism”  as “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e-association service discovery mechanism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D response: Agree in principle. Change the wording to 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 mechanism for pre-association discovery of services”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lide Number Placeholder 6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13F793C-E405-4BDC-9BD2-120DE15168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Date Placeholder 1"/>
          <p:cNvSpPr/>
          <p:nvPr/>
        </p:nvSpPr>
        <p:spPr>
          <a:xfrm>
            <a:off x="701280" y="3348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Footer Placeholder 2"/>
          <p:cNvSpPr/>
          <p:nvPr/>
        </p:nvSpPr>
        <p:spPr>
          <a:xfrm>
            <a:off x="7601760" y="6475320"/>
            <a:ext cx="141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ephen McCann, R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701280" y="3348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555C087-BA06-45E8-BA0F-F32DB79E3FA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Response to IEEE 802.21 on their comments about the IEEE 802.11aq PAR and 5 Criteria documents, created by the IEEE 802.11 PAD Study Group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Footer Placeholder 1"/>
          <p:cNvSpPr/>
          <p:nvPr/>
        </p:nvSpPr>
        <p:spPr>
          <a:xfrm>
            <a:off x="7601760" y="6475320"/>
            <a:ext cx="141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ephen McCann, R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PAR- Section 5.2.b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8686800" cy="493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2.b. Scope of the Project: “This amendment defines modifications to the IEEE 802.11 standard, above the physical layer (PHY), …”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ent: Does this mean it could be done at a layer higher than MAC layer?  Would suggest to revise the scope as follows: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amendment defines modifications to the IEEE 802.11 standard, at  the MAC layer, ….”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D Response: what we have at the moment is ok. It is not known whether the solution will be above the MAC layer or not, for example the S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1824A62-3BDF-4099-A292-E41E3ADADD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Date Placeholder 1"/>
          <p:cNvSpPr/>
          <p:nvPr/>
        </p:nvSpPr>
        <p:spPr>
          <a:xfrm>
            <a:off x="701280" y="3348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Footer Placeholder 2"/>
          <p:cNvSpPr/>
          <p:nvPr/>
        </p:nvSpPr>
        <p:spPr>
          <a:xfrm>
            <a:off x="7601760" y="6475320"/>
            <a:ext cx="141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ephen McCann, R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PAR- Section 5.2.b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86800" cy="508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2.b. Scope of the Project: “ .. enable delivery of  pre-association service information discovery by IEEE 802.11 stations (STAs).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ent#1: ‘delivery of  pre-association service information discovery’ is a bit confusing. Suggest to delete the word discovery after informat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D response: Change the words to read “Service Discovery information”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ent#2 : Will ‘pre-association service information’ be delivered securely? If not, it should state that this information will be provided in unprotected manne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D response. It is not known at the moment. This is for further consideration. It will be clearly indicated in the amendment itself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Slide Number Placeholder 6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2A16AA8-A487-444D-A10D-17EB544C8F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Date Placeholder 1"/>
          <p:cNvSpPr/>
          <p:nvPr/>
        </p:nvSpPr>
        <p:spPr>
          <a:xfrm>
            <a:off x="701280" y="3348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Footer Placeholder 2"/>
          <p:cNvSpPr/>
          <p:nvPr/>
        </p:nvSpPr>
        <p:spPr>
          <a:xfrm>
            <a:off x="7601760" y="6475320"/>
            <a:ext cx="141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ephen McCann, R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PAR- Section 5. 4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5.4 Purpose: “This standard also offers regulatory bodies a means of standardizing access to one or more frequency bands for the purpose of local area communication”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omment: The above sentence is not at all  understandable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AD response: This sentence is from the IEEE 802.11 PAR and should not be changed in this PA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Slide Number Placeholder 7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C246F04-4C83-4F89-BEFC-AF91768CD5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Date Placeholder 1"/>
          <p:cNvSpPr/>
          <p:nvPr/>
        </p:nvSpPr>
        <p:spPr>
          <a:xfrm>
            <a:off x="701280" y="3348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Footer Placeholder 2"/>
          <p:cNvSpPr/>
          <p:nvPr/>
        </p:nvSpPr>
        <p:spPr>
          <a:xfrm>
            <a:off x="7601760" y="6475320"/>
            <a:ext cx="141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ephen McCann, R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PAR- Section 5.5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lvl="2" marL="1009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ed for the Project: “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is amendment would look at basic advertising approaches for services .....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omment#1:  What are  “basic advertising approaches”?   Need some clarity her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AD response: A detailed description of the approach is not required in the PAR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omment #2: Do not understand why amendment would look at approaches rather than providing a solution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AD response: Change “This amendment would look at basic advertising approaches for services…” to “The group will evaluate advertising services…”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9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Slide Number Placeholder 6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3D3DC43-8A16-48D4-8F8F-D6FFD4E9FC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Date Placeholder 1"/>
          <p:cNvSpPr/>
          <p:nvPr/>
        </p:nvSpPr>
        <p:spPr>
          <a:xfrm>
            <a:off x="701280" y="3348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Footer Placeholder 2"/>
          <p:cNvSpPr/>
          <p:nvPr/>
        </p:nvSpPr>
        <p:spPr>
          <a:xfrm>
            <a:off x="7601760" y="6475320"/>
            <a:ext cx="141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ephen McCann, R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5C – a) Broad sets of applicabilit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lvl="2" marL="1031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road sets of applicability: “With the growth of WLAN technology,  discovery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 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ll become an increasingly larger issue in public ….”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omment: Not clear what type of discovery is mentioned here? Need to be a bit more explicit describing  the type of discovery. The PAR mentions only discovery of servic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AD response: Reword the 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paragraph to include the phrase “mechanism for pre-association discovery of services”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1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Slide Number Placeholder 6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49DB31D-7972-4EF4-9D0E-EA9392AE62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Date Placeholder 1"/>
          <p:cNvSpPr/>
          <p:nvPr/>
        </p:nvSpPr>
        <p:spPr>
          <a:xfrm>
            <a:off x="701280" y="3348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Footer Placeholder 2"/>
          <p:cNvSpPr/>
          <p:nvPr/>
        </p:nvSpPr>
        <p:spPr>
          <a:xfrm>
            <a:off x="7601760" y="6475320"/>
            <a:ext cx="141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ephen McCann, R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5C – a) Broad Sets of applicabilit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085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) Broad sets of applicability: “A pre-association discovery mechanism will increase the range of services and market reach of IEEE 802.11 devices”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omment: ‘discovery mechanism’ is a broad generic term. It should mention  discovery mechanism of what information. For example, “discovery mechanism on information related to......”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AD response: Change the start of the paragraph to “The standardized mechanism….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Slide Number Placeholder 6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0FF27E3-D63D-47B6-8E45-9A47810122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Date Placeholder 1"/>
          <p:cNvSpPr/>
          <p:nvPr/>
        </p:nvSpPr>
        <p:spPr>
          <a:xfrm>
            <a:off x="701280" y="3348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ooter Placeholder 2"/>
          <p:cNvSpPr/>
          <p:nvPr/>
        </p:nvSpPr>
        <p:spPr>
          <a:xfrm>
            <a:off x="7601760" y="6475320"/>
            <a:ext cx="141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ephen McCann, R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5C – b) Multiple vendors and numerous user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085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) Multiple vendors and numerous users: “They perceive the need to standardize a pre-association discovery mechanism for IEEE 802.11 devices.”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Comment: Again ‘discovery mechanism’ is a broad generic term. It should mention  discovery mechanism of what information. For example, “discovery mechanism on information related to......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AD response: No change necessary. The discovery mechanism is cited as for IEEE 802.11 devices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Slide Number Placeholder 6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C2F01B2-6B55-484C-8490-F8356EDF45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Date Placeholder 1"/>
          <p:cNvSpPr/>
          <p:nvPr/>
        </p:nvSpPr>
        <p:spPr>
          <a:xfrm>
            <a:off x="701280" y="3348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Footer Placeholder 2"/>
          <p:cNvSpPr/>
          <p:nvPr/>
        </p:nvSpPr>
        <p:spPr>
          <a:xfrm>
            <a:off x="7601760" y="6475320"/>
            <a:ext cx="141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ephen McCann, R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2T14:01:45Z</dcterms:created>
  <dc:creator>Stephen McCann</dc:creator>
  <dc:description/>
  <dc:language>en-US</dc:language>
  <cp:lastModifiedBy>Stephen McCann</cp:lastModifiedBy>
  <cp:lastPrinted>1998-02-10T13:28:06Z</cp:lastPrinted>
  <dcterms:modified xsi:type="dcterms:W3CDTF">2012-11-14T00:31:58Z</dcterms:modified>
  <cp:revision>943</cp:revision>
  <dc:subject/>
  <dc:title>ISD Agenda</dc:title>
</cp:coreProperties>
</file>