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-115920"/>
            <a:ext cx="8269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C674981-B33C-4ECD-A53B-9D3977CE0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2F11E1B-3556-40C0-901D-F479A821D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1141874-37DF-41E6-A390-28A775950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D1CF9C9-12B8-4031-8395-3D1A2F75F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7D9BE4-0FF7-4D48-886A-DA38842BE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00r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116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15E48BE-5CAF-4A3D-B88B-E8A72D2F0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; Adrian Stephens, Inte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B1DFA8-69BB-426D-B9ED-03DBD8165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6/0528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Date Placeholder 4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0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4776840" y="9001080"/>
            <a:ext cx="194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CCB98E-488A-4EC5-ABC8-89216E494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2214-83AA-4E20-8661-787D6D5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BB1-E143-4351-B2B6-649207F6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1D5-16CA-4B30-9455-C3C4BC57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F01A-26DA-478C-92CF-335FDAD5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1B8-07B2-4C2F-AFD5-6BE0F03B1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FEB-BB87-40A1-990E-559D09AA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B507-AA89-486A-8213-65ED7865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D96C-C069-4E1E-9E75-735D858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640-6C2F-45C4-8120-9020D43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24E2-B352-44C0-B61C-6F46F1D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C5EA-D974-418D-BD1F-859C2E4E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D5A1-A3DC-428D-90AC-E4A50DA4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3000"/>
            <a:ext cx="133992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46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172DD50-334A-42B2-98EA-284E8A086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342760" y="306360"/>
            <a:ext cx="28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oc.: IEEE 11-12/0030r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6922800" y="6475320"/>
            <a:ext cx="277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FDC454-4AAF-447C-9929-3264A4BBA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02.11ae report to EC on in support of approval to proceed to Rev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2-01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531720" y="2593800"/>
          <a:ext cx="7655040" cy="256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2593800"/>
                    <a:ext cx="765504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Rectangle 5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1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ooter Placeholder 2"/>
          <p:cNvSpPr/>
          <p:nvPr/>
        </p:nvSpPr>
        <p:spPr>
          <a:xfrm>
            <a:off x="6922800" y="6475320"/>
            <a:ext cx="277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00FAB0E-76A5-4BB4-906B-246215278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ooter Placeholder 4"/>
          <p:cNvSpPr/>
          <p:nvPr/>
        </p:nvSpPr>
        <p:spPr>
          <a:xfrm>
            <a:off x="8357040" y="64753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1F0AB98-E819-4C27-9443-8D76D722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802.11ae D8.0 has completed its third recirculation ballot, achieving 100% approv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resentation is the report to the IEEE 802 executive committee in support of forwarding P802.11ae D8.0 to RevCom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922800" y="6475320"/>
            <a:ext cx="277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4D54FE-20B7-4BB8-99E6-03C1522C7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EEE 802 Sponsor Ballot Results –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802.11a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80880" y="1828800"/>
          <a:ext cx="8229600" cy="2514600"/>
        </p:xfrm>
        <a:graphic>
          <a:graphicData uri="http://schemas.openxmlformats.org/drawingml/2006/table">
            <a:tbl>
              <a:tblPr/>
              <a:tblGrid>
                <a:gridCol w="595440"/>
                <a:gridCol w="1074600"/>
                <a:gridCol w="1086120"/>
                <a:gridCol w="528480"/>
                <a:gridCol w="530280"/>
                <a:gridCol w="455400"/>
                <a:gridCol w="457200"/>
                <a:gridCol w="455760"/>
                <a:gridCol w="455760"/>
                <a:gridCol w="457200"/>
                <a:gridCol w="455400"/>
                <a:gridCol w="457200"/>
                <a:gridCol w="463680"/>
                <a:gridCol w="757080"/>
              </a:tblGrid>
              <a:tr h="644400"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f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o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ains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stai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tur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Cm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588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401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8-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09-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0-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0-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.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.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1-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2-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-12-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01-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.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Date Placeholder 1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ooter Placeholder 2"/>
          <p:cNvSpPr/>
          <p:nvPr/>
        </p:nvSpPr>
        <p:spPr>
          <a:xfrm>
            <a:off x="6922800" y="6475320"/>
            <a:ext cx="277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718928-724D-45CC-AB20-D97A74EB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A51F097-304D-4C06-9E4D-CD3A100E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85800" y="1676520"/>
          <a:ext cx="7772400" cy="4449600"/>
        </p:xfrm>
        <a:graphic>
          <a:graphicData uri="http://schemas.openxmlformats.org/drawingml/2006/table">
            <a:tbl>
              <a:tblPr/>
              <a:tblGrid>
                <a:gridCol w="3200400"/>
                <a:gridCol w="1219320"/>
                <a:gridCol w="1409760"/>
                <a:gridCol w="1942920"/>
              </a:tblGrid>
              <a:tr h="86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7.0</a:t>
                      </a:r>
                      <a:br>
                        <a:rPr sz="2000"/>
                      </a:b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v 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  (SCC14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pproval for submission of P802.11ae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prove document 11-12/0030r1 as the report to the IEEE 802 Executive Committee on the requirements for approval to forward P802.11ae to RevCom, 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est the IEEE 802 Executive Committee to forward P802.11ae to RevCo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ved by Michael Montemurro on behalf of TGa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Gae vote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ved: Santosh Pandey,  Seconded: Alex Ashley, Result: 7-0-0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Date Placeholder 3"/>
          <p:cNvSpPr/>
          <p:nvPr/>
        </p:nvSpPr>
        <p:spPr>
          <a:xfrm>
            <a:off x="702720" y="334800"/>
            <a:ext cx="132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anuary 20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6922800" y="6475320"/>
            <a:ext cx="277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Montemurro (RIM), B.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D55EBF-694E-4C87-ABCF-169C2358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Dorothy Stanley;Adrian.P.Stephens@intel.com</dc:creator>
  <dc:description/>
  <dc:language>en-US</dc:language>
  <cp:lastModifiedBy>M. Montemurro</cp:lastModifiedBy>
  <cp:lastPrinted>1998-02-10T13:28:06Z</cp:lastPrinted>
  <dcterms:modified xsi:type="dcterms:W3CDTF">2012-01-16T21:20:52Z</dcterms:modified>
  <cp:revision>1194</cp:revision>
  <dc:subject/>
  <dc:title>TGm Report to EC</dc:title>
</cp:coreProperties>
</file>