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-115920"/>
            <a:ext cx="8269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7680" y="9000720"/>
            <a:ext cx="925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741D3A-74C9-4EAE-92CE-73A5867F6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88863CB-5C5C-4E88-848D-087824926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9C7FA7-D71E-4F78-B995-00BDAADDE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6/0528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Date Placeholder 4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124144-D7A1-4204-A668-E617D944A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673EB94-8CDE-4055-B0AC-BDFD063D4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3C0DBB-D4CC-42C7-BB19-CB8E4067D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080B9B-EC2D-4E75-9B53-B31685B65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Date Placeholder 4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5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37A4157-146F-4581-A0FF-222E7EE83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254028-1139-4757-8FA8-05C39D5F2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5F3F937-4ABC-4453-97B4-F53262FF5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6F4283B-5160-42F1-BF54-50B3A54E6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B7066D-3F3A-46A8-9C0F-A8471EBF4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Date Placeholder 4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8555D7-F50E-4026-BC79-DDBC623EC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2654665-0045-46FD-AD9D-1D5685339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1407-F84C-412B-94F1-51DAB17DB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E5B-3D9F-4DCD-8FD0-D659D0C3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7F07-3856-4AA6-ACB9-428D845B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B1C-1993-4E17-A1C8-12EAB64F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125-6ED7-4B47-9999-7BA6A872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57C-BCB0-4DE0-9C6E-80CBF399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6441-739B-447F-9D88-404FFFD6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038-3475-4003-86B9-DDDCD758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7717-5C20-4F55-A7F5-1C4F2FE9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8273-1D04-4723-8A05-2F4C1BD2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2F92-40A6-4AE1-A160-BD3E511F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2B8-2698-4E8C-9274-5425D4F7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60120"/>
            <a:ext cx="106668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FF1B97-82CA-4A12-BD71-F3B4FD945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477400" y="334800"/>
            <a:ext cx="2967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11-11-1533-0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6404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D9F4F43-368D-433F-B72A-A5CF2938D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802.11 REVmb report to EC on request for conditional approval to proceed to RevC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1-11-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531720" y="2593800"/>
          <a:ext cx="7655040" cy="25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2593800"/>
                    <a:ext cx="7655040" cy="25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5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3"/>
          <p:cNvSpPr/>
          <p:nvPr/>
        </p:nvSpPr>
        <p:spPr>
          <a:xfrm>
            <a:off x="46404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0AB507-ECAB-424F-860F-E905736F7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mb Time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676520"/>
          <a:ext cx="8229600" cy="4206600"/>
        </p:xfrm>
        <a:graphic>
          <a:graphicData uri="http://schemas.openxmlformats.org/drawingml/2006/table">
            <a:tbl>
              <a:tblPr/>
              <a:tblGrid>
                <a:gridCol w="5029200"/>
                <a:gridCol w="1676520"/>
                <a:gridCol w="1523880"/>
              </a:tblGrid>
              <a:tr h="1311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circulation (Draft 12.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11-0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11-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Recirculation (Draft 12.0 unchanged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11-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11-3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7616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Com – Submit to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nuous proces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20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Gmb Conditional Approval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rove document 11-11/1533r1 a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rt to the IEEE 802 Executive Committee (EC) on the requirements for conditional approval to forward P802.11REVmb to RevCom,  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ower the chair to make editorial changes if required, and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est the IEEE 802 Executive Committee to conditionally approve forwarding P802.11REVmb to RevCom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d: Dorothy Stanley (on behalf of TGmb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Gmb (similar motion on approval of report)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d:  Jon Rosdahl, Seconded: Mike Montemur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ion passes: Result: 13-0-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775800" y="334800"/>
            <a:ext cx="90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F21C47-4719-4220-AB7E-31FA2F37B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1"/>
          <p:cNvSpPr/>
          <p:nvPr/>
        </p:nvSpPr>
        <p:spPr>
          <a:xfrm>
            <a:off x="46404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2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056FB6-6F72-4E51-B9E6-93F19F3DF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97C4D9-0853-438C-B8F7-DC32B1241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802.11REVmb D12.0 is currently in recirculation ballo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most recently completed ballot (the 5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circulation on D11.0) achieved 94% approv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is presentation is the report to the IEEE 802 executive committee in support of a request for conditional approval to proceed to IEEE-SA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46404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CF9997-F796-4A88-81BA-07CC2C230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EEE 802 Sponsor Ballot Results –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802.11REVm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80880" y="1828800"/>
          <a:ext cx="7888320" cy="3139920"/>
        </p:xfrm>
        <a:graphic>
          <a:graphicData uri="http://schemas.openxmlformats.org/drawingml/2006/table">
            <a:tbl>
              <a:tblPr/>
              <a:tblGrid>
                <a:gridCol w="571680"/>
                <a:gridCol w="998640"/>
                <a:gridCol w="1071360"/>
                <a:gridCol w="507960"/>
                <a:gridCol w="506520"/>
                <a:gridCol w="438120"/>
                <a:gridCol w="436680"/>
                <a:gridCol w="438120"/>
                <a:gridCol w="436320"/>
                <a:gridCol w="438480"/>
                <a:gridCol w="436320"/>
                <a:gridCol w="436680"/>
                <a:gridCol w="438120"/>
                <a:gridCol w="733320"/>
              </a:tblGrid>
              <a:tr h="60948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ain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ta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Cm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444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09-2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11-0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02-0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02-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.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03-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04-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.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06-0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06-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08-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09-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10-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10-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 – 802.1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on of IEEE Std 802.11™-2007 as amended by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Std 802.11k™-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Std 802.11r™-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Std 802.11y™-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Std 802.11w™-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Std 802.11n™-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Std 802.11p™-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Std 802.11z™-20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Std 802.11v™-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Std 802.11u™-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Std 802.11s™-2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0 pages to 2910 Pa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ate Placeholder 3"/>
          <p:cNvSpPr/>
          <p:nvPr/>
        </p:nvSpPr>
        <p:spPr>
          <a:xfrm>
            <a:off x="46404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E3E01F4-353D-4AD9-AB46-752C40BD2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1"/>
          <p:cNvSpPr/>
          <p:nvPr/>
        </p:nvSpPr>
        <p:spPr>
          <a:xfrm>
            <a:off x="46404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2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8A8356-F62A-4AC8-911D-4F649B0C6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F1389E-D117-4844-9D0C-CAE76DD85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ndatory Coord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85800" y="1676520"/>
          <a:ext cx="7772400" cy="4449600"/>
        </p:xfrm>
        <a:graphic>
          <a:graphicData uri="http://schemas.openxmlformats.org/drawingml/2006/table">
            <a:tbl>
              <a:tblPr/>
              <a:tblGrid>
                <a:gridCol w="3200400"/>
                <a:gridCol w="1219320"/>
                <a:gridCol w="1409760"/>
                <a:gridCol w="194292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ordination Entit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af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at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t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EEE-SA Editorial (MEC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11.0</a:t>
                      </a:r>
                      <a:br>
                        <a:rPr sz="2000"/>
                      </a:b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v 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“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eets all editorial requirements. “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antities, Units and Letter Symbols  (SCC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rms and Definitions (SCC1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stration Authority Committee (RAC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Date Placeholder 3"/>
          <p:cNvSpPr/>
          <p:nvPr/>
        </p:nvSpPr>
        <p:spPr>
          <a:xfrm>
            <a:off x="46404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70427F9-F7C6-421C-B306-D02693312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Ballot – P802.11REVm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90720" y="1752480"/>
          <a:ext cx="6968880" cy="3006720"/>
        </p:xfrm>
        <a:graphic>
          <a:graphicData uri="http://schemas.openxmlformats.org/drawingml/2006/table">
            <a:tbl>
              <a:tblPr/>
              <a:tblGrid>
                <a:gridCol w="804600"/>
                <a:gridCol w="1352520"/>
                <a:gridCol w="1352880"/>
                <a:gridCol w="1352520"/>
                <a:gridCol w="1352520"/>
                <a:gridCol w="753840"/>
              </a:tblGrid>
              <a:tr h="560520"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llo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part of “no” vo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isfi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satisfie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Sponsor Ballo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st Recir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 Recir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rd Recir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urth Recir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fth Recir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520" rIns="11520" tIns="115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1520" marR="115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4952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e, counts are expanded here by comments received from outside the MyBallot system (late comments,  comments from ISO and “unpacked” comments from attachments to MyBallot comment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46404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F97EF98-2C53-430B-8B14-29C352A1E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828800"/>
          <a:ext cx="7620120" cy="2921040"/>
        </p:xfrm>
        <a:graphic>
          <a:graphicData uri="http://schemas.openxmlformats.org/drawingml/2006/table">
            <a:tbl>
              <a:tblPr/>
              <a:tblGrid>
                <a:gridCol w="2098800"/>
                <a:gridCol w="681120"/>
                <a:gridCol w="681120"/>
                <a:gridCol w="680760"/>
                <a:gridCol w="681120"/>
                <a:gridCol w="681120"/>
                <a:gridCol w="681120"/>
                <a:gridCol w="1434960"/>
              </a:tblGrid>
              <a:tr h="365040"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enter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8360" marR="18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8360" marR="18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1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2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3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4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5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8360" marR="18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18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8360" marR="18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cher, Matthew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ertz, Guid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ter, Davi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emer, Bru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sdahl, J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lantis, Georg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nalysis of unsatisfied comments – top categori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Date Placeholder 3"/>
          <p:cNvSpPr/>
          <p:nvPr/>
        </p:nvSpPr>
        <p:spPr>
          <a:xfrm>
            <a:off x="46404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498364-BCB1-4C09-92DB-2E9BD0A9A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se of “can” vs “may” – 290 remain unsatisfi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se of “can” in a draft has been validated with editorial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ssorted MAC – 3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clusion of the term “Wireless Distribution System (WDS)” – 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4"/>
          <p:cNvSpPr/>
          <p:nvPr/>
        </p:nvSpPr>
        <p:spPr>
          <a:xfrm>
            <a:off x="46404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ooter Placeholder 5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6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CD2230-C2A7-4001-A034-A9D1047BB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composite of all unsatisfied comments and the resolutions approved by the ballot resolution committee during sponsor ballot is attached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icons to the right to op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7010280" y="2286000"/>
          <a:ext cx="9144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22860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5"/>
          <p:cNvGraphicFramePr/>
          <p:nvPr/>
        </p:nvGraphicFramePr>
        <p:xfrm>
          <a:off x="7010280" y="3886200"/>
          <a:ext cx="91440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38862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Dorothy Stanley;Adrian.P.Stephens@intel.com</dc:creator>
  <dc:description/>
  <dc:language>en-US</dc:language>
  <cp:lastModifiedBy>Dorothy Stanley</cp:lastModifiedBy>
  <cp:lastPrinted>1998-02-10T13:28:06Z</cp:lastPrinted>
  <dcterms:modified xsi:type="dcterms:W3CDTF">2011-11-11T00:30:44Z</dcterms:modified>
  <cp:revision>1151</cp:revision>
  <dc:subject/>
  <dc:title>TGm Report to EC</dc:title>
</cp:coreProperties>
</file>