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9BF1D2-1D82-408B-871A-AB0C996FE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128E5-7BF7-47A8-9137-E64779FC3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0DE6C-EC49-4012-BAC0-E443DFF7A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B26ECB-4E41-40B7-B364-49CB0371A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A5648-B06C-4763-A103-B56CF5653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5BAC2-FD75-43F0-A424-DE99A8A4C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4FB7B-9B9A-4A05-A5DE-8EF20FB5D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7A8A1-75EC-454C-9EF9-52C74F1E0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F5D8-0AD8-488B-A703-B840CF350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980BA-8277-4268-A491-86222A19C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8BA3-AF70-49A4-9EAE-6365EE6B8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C97B7-4E4C-4C3F-A1DA-4A6D6C89E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6D40BF-B0DF-4984-9244-CC500A947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1/1530r2</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16/docs/#11_0030" TargetMode="External"/><Relationship Id="rId2" Type="http://schemas.openxmlformats.org/officeDocument/2006/relationships/hyperlink" Target="http://ieee802.org/16/docs/#11_0031" TargetMode="External"/><Relationship Id="rId3" Type="http://schemas.openxmlformats.org/officeDocument/2006/relationships/hyperlink" Target="http://ieee802.org/16/docs/#11_0032"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mentor.ieee.org/802.15/dcn/11/15-11-0613-04-0kmp-key-management-protocol-par.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Nov 2010 EC PAR proposals </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11-08</a:t>
            </a:r>
            <a:endParaRPr b="1" lang="en-US" sz="2000" spc="-1" strike="noStrike">
              <a:solidFill>
                <a:srgbClr val="000000"/>
              </a:solidFill>
              <a:latin typeface="Times New Roman"/>
            </a:endParaRPr>
          </a:p>
        </p:txBody>
      </p:sp>
      <p:graphicFrame>
        <p:nvGraphicFramePr>
          <p:cNvPr id="47" name=""/>
          <p:cNvGraphicFramePr/>
          <p:nvPr/>
        </p:nvGraphicFramePr>
        <p:xfrm>
          <a:off x="517680" y="2286000"/>
          <a:ext cx="8032680" cy="2468520"/>
        </p:xfrm>
        <a:graphic>
          <a:graphicData uri="http://schemas.openxmlformats.org/presentationml/2006/ole">
            <p:oleObj progId="Word.Document.12" r:id="rId1" spid="">
              <p:embed/>
              <p:pic>
                <p:nvPicPr>
                  <p:cNvPr id="48" name="" descr=""/>
                  <p:cNvPicPr/>
                  <p:nvPr/>
                </p:nvPicPr>
                <p:blipFill>
                  <a:blip r:embed="rId2"/>
                  <a:stretch/>
                </p:blipFill>
                <p:spPr>
                  <a:xfrm>
                    <a:off x="517680" y="2286000"/>
                    <a:ext cx="8032680" cy="246852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524AA8-450E-4EC6-9430-251021D349D8}" type="slidenum">
              <a:t>1</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on 802.15.9 (con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Comment: It is not clear what is being proposed?  Are they planning on reusing 802.1X or rolling their own? Or is that a decision the task group will tak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 big difference in broad market potential if it is based on 802.1X or X.509 or whateve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F284F15-D7ED-47B3-9900-3646C260AA98}" type="slidenum">
              <a:t>10</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On PAR Modification 802.15.6</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ase expand on the use case whether it be wired or wireles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is a use case?  Internal body monitoring via capacitive paddles.. i.e. internal organ or body function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part is wireless communication?</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here are lots of “bodies” in this world, be specific: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man, celestial, heavenly, animal, aircraft?</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indicates that you should list the "Item Number and Explanation". from the instructions when you filled in the Modified PAR form: "If any changes have been made to the Title, Scope or Purpose, please explain why. If you know of any further information that may assist NesCom in recommending approval for this project, please include this information here."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2F096C8-A789-4A73-828E-9DA65B0559D1}" type="slidenum">
              <a:t>11</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New PAR</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802.22b   "Enhanced Broadband and Monitoring" Amendment”</a:t>
            </a:r>
            <a:endParaRPr b="1" lang="en-US" sz="3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https://mentor.ieee.org/802.22/dcn/11/22-11-0118-01-rasg-par-for-enhanced-broadband-and-monitoring-amendment.pdf</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https://mentor.ieee.org/802.22/dcn/11/22-11-0119-01-rasg-5c-for-enhanced-broadband-and-monitoring-amendment.pdf</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D0B1712-44EE-41AF-8AA0-49A9A91C5B16}" type="slidenum">
              <a:t>12</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22b</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218960"/>
            <a:ext cx="777240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concern that 802.22 has only 27 voting members with 9 ex-officio members (18 802.22 members total).</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ly involved is different from interested in a topic.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as 40 determin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 Suggest change “standard” with “amendment” “MAC amendments” with “MAC enhancement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cument is an amendment and the changes are an enhance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Expand first use of Abbrevia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strike “for amendment” in last sentenc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change “can” with “are” in last sentenc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change “None of the features” to “None of the use cases” in last sentenc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 What about 1900.7?  Seems similar scop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794DD8C-0A9C-4338-BCF1-2FCD487684BE}" type="slidenum">
              <a:t>13</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22 (cont.)</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1c drop “for money”</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a no example of IEEE 802.22 based systems operating in TVWS exis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b A license being granted does not prove technology or viability of testing.  It does not demonstrate feasi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license to experi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c the assertion does not seem to have any foundation.</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5a What technologies are you implying?</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5c The first sentence has nothing to do with installation costs…delet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E0E69CF-9EBC-41CC-A173-0148ED14B6D6}" type="slidenum">
              <a:t>14</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22 (Cont)</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Add specific frequencies used by this amend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Com required the specific bands be listed for passing PARs last Sept/O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should add them now to avoid the arg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Choosing a title should follow the instruction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structions on making title are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title does not seem to meet the requir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4FA2CF9-509D-4542-8D8E-AE38B60550A6}" type="slidenum">
              <a:t>15</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ieee802.org/PARs.shtml</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9142EB1-8070-4E9F-9A02-695749036777}" type="slidenum">
              <a:t>16</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on Proposed PARs for consideration during the November 11, 2011 Plenary Session.</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s the comments received from the 802.11 PAR adho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 PM2: 1530r1</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uesday AM2: 1530r2</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E8C45C6-7796-41F7-9DE4-CE61D79CBDBF}" type="slidenum">
              <a:t>2</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st of 802.16 PARs for Consideration</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Modification to P802.16n PAR</a:t>
            </a:r>
            <a:endParaRPr b="1" lang="en-US" sz="24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u="sng">
                <a:solidFill>
                  <a:srgbClr val="0066ff"/>
                </a:solidFill>
                <a:uFillTx/>
                <a:latin typeface="Times New Roman"/>
                <a:hlinkClick r:id="rId1"/>
              </a:rPr>
              <a:t>http://ieee802.org/16/docs/#11_0030</a:t>
            </a:r>
            <a:endParaRPr b="1" lang="en-US" sz="18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es project to amend IEEE Std 802.16.</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P802.16.1a PAR</a:t>
            </a:r>
            <a:endParaRPr b="1" lang="en-US" sz="24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u="sng">
                <a:solidFill>
                  <a:srgbClr val="0066ff"/>
                </a:solidFill>
                <a:uFillTx/>
                <a:latin typeface="Times New Roman"/>
                <a:hlinkClick r:id="rId2"/>
              </a:rPr>
              <a:t>http://ieee802.org/16/docs/#11_0031</a:t>
            </a:r>
            <a:endParaRPr b="1" lang="en-US" sz="18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project to amend IEEE Std 802.16.1,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2" marL="10746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existing P802.16n.</a:t>
            </a:r>
            <a:endParaRPr b="0" lang="en-US" sz="18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Modification to P802.16p PAR</a:t>
            </a:r>
            <a:endParaRPr b="1" lang="en-US" sz="24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u="sng">
                <a:solidFill>
                  <a:srgbClr val="0066ff"/>
                </a:solidFill>
                <a:uFillTx/>
                <a:latin typeface="Times New Roman"/>
                <a:hlinkClick r:id="rId3"/>
              </a:rPr>
              <a:t>http://ieee802.org/16/docs/#11_0032</a:t>
            </a:r>
            <a:endParaRPr b="1" lang="en-US" sz="18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es project to amend IEEE Std 802.16.</a:t>
            </a:r>
            <a:endParaRPr b="1" lang="en-US" sz="2400" spc="-1" strike="noStrike">
              <a:solidFill>
                <a:srgbClr val="000000"/>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P802.16.1b PAR</a:t>
            </a:r>
            <a:endParaRPr b="1" lang="en-US" sz="2400" spc="-1" strike="noStrike">
              <a:solidFill>
                <a:srgbClr val="000000"/>
              </a:solidFill>
              <a:latin typeface="Times New Roman"/>
            </a:endParaRPr>
          </a:p>
          <a:p>
            <a:pPr marL="339480" indent="-3394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u="sng">
                <a:solidFill>
                  <a:srgbClr val="000000"/>
                </a:solidFill>
                <a:uFillTx/>
                <a:latin typeface="Times New Roman"/>
              </a:rPr>
              <a:t>http://ieee802.org/16/docs/#11_0033</a:t>
            </a:r>
            <a:endParaRPr b="1" lang="en-US" sz="1800" spc="-1" strike="noStrike">
              <a:solidFill>
                <a:srgbClr val="000000"/>
              </a:solidFill>
              <a:latin typeface="Times New Roman"/>
            </a:endParaRPr>
          </a:p>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project to amend IEEE Std 802.16.1, </a:t>
            </a:r>
            <a:endParaRPr b="1" lang="en-US" sz="2400" spc="-1" strike="noStrike">
              <a:solidFill>
                <a:srgbClr val="000000"/>
              </a:solidFill>
              <a:latin typeface="Times New Roman"/>
            </a:endParaRPr>
          </a:p>
          <a:p>
            <a:pPr lvl="2" marL="1074600" indent="-22608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ed on existing P802.16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8730CB4-F824-4A4C-89B1-70BACDA1A79F}" type="slidenum">
              <a:t>3</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16n</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 seems redundantly stat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ed text 3 times.  Delete the repetitive tex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this is not controllable –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 note to NesCom Admin to fix it.</a:t>
            </a:r>
            <a:endParaRPr b="0" lang="en-US" sz="18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31FAA90-D8EB-4B1E-8BA8-400CDB12F0D1}" type="slidenum">
              <a:t>4</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16.1a</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 Missing the “.1” on 802.16 in 2 places.  Missing “IEEE” in front of 802.16 in one plac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7BD23A2-0A6D-42F0-A394-3478F5953DE0}" type="slidenum">
              <a:t>5</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16.1b</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missing “.1” after 802.16 in one place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55D664A-A8FB-4892-A917-C80079F923FE}" type="slidenum">
              <a:t>6</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 PARs</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PAR</a:t>
            </a:r>
            <a:r>
              <a:rPr b="0" lang="en-US" sz="2800" spc="-1" strike="noStrike">
                <a:solidFill>
                  <a:srgbClr val="000000"/>
                </a:solidFill>
                <a:latin typeface="Times New Roman"/>
              </a:rPr>
              <a:t>:</a:t>
            </a:r>
            <a:endParaRPr b="1" lang="en-US" sz="28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Key Management Protocol" Recommended Practice</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s://mentor.ieee.org/802.15/dcn/11/15-11-0613-04-0kmp-key-management-protocol-par.pdf</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https://mentor.ieee.org/802.15/dcn/11/15-11-0665-04-0kmp-kmp-5c-draft.doc</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s with no comment required:</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4e – One year exten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6  – One year extension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6  -- PAR Modification -- name chang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8E37146-8792-41B6-9879-8CFB544F1722}" type="slidenum">
              <a:t>7</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15.9</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218960"/>
            <a:ext cx="7772400" cy="5105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include “IEEE” prior to “802.15” (3 instanc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 include “IEEE” prior to “802.15”</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2 (also in 5C-3c) Concern that this should be a standard rather than a Recommended Practic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Fragmentation and packing mechanism seems to be a standard top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5a – implies that there are new feat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vel interoperable fragmentation and packing at the MAC – sounds like this should be a new Standard or amend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the scope statement implies all 802.15 standard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places in the PAR and in the 5C allude to a limited subset of the 802.15 family.  Where ever it calls out 802.15 standards, it should probably be explicit in which subset the statement appli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A2ECC63-76B3-46AE-A808-86F8C78DB3DA}" type="slidenum">
              <a:t>8</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15.9 PAR (cont)</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and 5C implies that this “recommended practice” is for all 802.15 standards in some places.  In other paragraphs it indicates a specific subset.  This should be consistent…either all or som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all, the additional mechanisms that need to be defined would infer that a standard would be necessary to define the specific mechanism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ing how disparate pieces are used is a good use of a recommended practice, but we are unclear if all the MAC layer information elements and behaviors already existed in 802.15 specs to allow a recommended practice to be crea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claims that HIP is a “commonly” used KMP, this does not seem correc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hould be correct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62CEA2C-9C8D-46E1-9733-1BF0AA9B8B1B}" type="slidenum">
              <a:t>9</a:t>
            </a:fld>
          </a:p>
        </p:txBody>
      </p:sp>
      <p:sp>
        <p:nvSpPr>
          <p:cNvPr id="6" name="PlaceHolder 5"/>
          <p:cNvSpPr>
            <a:spLocks noGrp="1"/>
          </p:cNvSpPr>
          <p:nvPr>
            <p:ph type="dt" idx="1"/>
          </p:nvPr>
        </p:nvSpPr>
        <p:spPr/>
        <p:txBody>
          <a:bodyPr/>
          <a:p>
            <a:r>
              <a:rPr lang="en-US"/>
              <a:t>November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16:58:39Z</dcterms:created>
  <dc:creator>Jon Rosdahl</dc:creator>
  <dc:description/>
  <dc:language>en-US</dc:language>
  <cp:lastModifiedBy>jr05</cp:lastModifiedBy>
  <cp:lastPrinted>1998-02-10T13:28:06Z</cp:lastPrinted>
  <dcterms:modified xsi:type="dcterms:W3CDTF">2011-11-08T20:51:10Z</dcterms:modified>
  <cp:revision>11</cp:revision>
  <dc:subject/>
  <dc:title>Comments for Nov 2010 EC PAR proposals </dc:title>
</cp:coreProperties>
</file>