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6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7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8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7CE0954-5915-47A9-BD7A-E62D72857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250844B-AA25-4C7F-96C6-041A7FCBB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E87BEC4-9F7E-4E08-BB9D-CA8AF292F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18C3955-63B6-4385-9B77-E88A17428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26CD6A-FF8A-476B-9989-FB130366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F8B711E-90B7-4EC7-8291-0271442A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CDB360D-ABF1-4449-9C2C-BEBB436611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90B8-1BC6-4F56-AC0E-59076FA3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445B-BCA8-4CC5-BBCE-AE4C5E8A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EB0B-EECE-46A4-8DFD-B967F7933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B72-B21F-49A8-A213-1DEA876D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44692E-D3CE-4F97-81E7-70BB7D2A73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AF089-735D-40C1-892E-6D91A3D4B5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C7391-7983-49D3-972F-874138B03F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52114-9151-4B5E-81A6-E7E3D87C99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2F292-58F3-478D-AAB0-015C1631EC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76DB9-9AA1-495B-8AF2-F7F47F6DF9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DE144-69C4-46B9-AC14-03B68DE360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591-4CE5-46BD-88B8-0520D771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19A5-8075-4F9C-9497-FBDD6278DAE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EAC85-AA9E-4553-BA39-F9DE9A74D4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CE3AE-5C46-4216-B995-D721E77045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53C0C-E78F-48B0-BC6B-99355180DB2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21065-FF0D-48E2-B51E-9B04FA5E0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297-0051-40E7-A071-6F674A6B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7F9-F0A5-4050-824C-694491E9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C32D-83B0-4579-901F-FF00D091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B03-DE5A-4FFB-86CC-644A1A47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EDF-5475-466D-B9BD-107D9A73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97B2-08D0-4F56-B531-B852CAF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BEF-4590-4538-BD96-47B5AEFF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F918AC-4732-474F-BC36-4A725C382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1/1093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7644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1/1093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8077320" y="6474960"/>
            <a:ext cx="466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DA93D7-8A0C-42A7-857B-9F483522C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8B16389-416C-468C-8BAF-A0049EAD2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July 2011 EC Mo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1-07-2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11"/>
          <p:cNvGraphicFramePr/>
          <p:nvPr/>
        </p:nvGraphicFramePr>
        <p:xfrm>
          <a:off x="522360" y="2279520"/>
          <a:ext cx="7731000" cy="26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5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2279520"/>
                    <a:ext cx="773100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Date Placeholder 3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0168121-928C-4256-B4AC-0E4C3584C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ocument contains motions to be brought to the July 2011 closing EC on behalf of IEEE 802.1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802.11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esh network amend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escribes a Mesh network using the IEEE 802.11 MAC/PHY layers that supports both broadcast/multicast and unicast delivery over self-configuring multi-hop topologi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Date Placeholder 3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819126-4A58-4EB5-B970-BF1525652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Date Placeholder 1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6940080" y="6475320"/>
            <a:ext cx="27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327AD70-D404-463E-BEB7-415A80ECF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1 EC Motion –Approval to send P802.11s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pprove sending P802.11s D12.0 to RevCom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ed: Bruce Kraemer Second: Jon Rosdah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: 11-11/0990r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Group vote on the motion passed: 48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1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2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0A9227-88A3-4EA5-BF8B-7A20EF757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802.11a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obust Video Stream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nhancements to the 802.11 MAC for robust audio video stream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is amendment enables: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aceful degradation and improved prioritization of audio video streams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working with relevant 802.1AVB mechanisms (802.1Qat, 802.1Qav, 802.1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3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7333560" y="6475320"/>
            <a:ext cx="195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Ganesh Venkatesan (Intel), et 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DF2373-9DA3-4570-BCE7-22529529D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 EC Motion – Conditional Approval to send P802.11aa to Sponsor Ballo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aa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     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Jon Rosdah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             No             Abst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: 11-11/1005r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4304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Group 11 vote on the Motion Passed: 48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802.11a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rioritization of management fram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efines mechanisms for prioritizing IEEE 802.11 management frame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duces the impact of management traffic on latency and power-sensitive applications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7565760" y="6475320"/>
            <a:ext cx="148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A16337-B504-40CD-A35F-586E39B78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101916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7333560" y="6475320"/>
            <a:ext cx="195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Ganesh Venkatesan (Intel), et 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558F983-7BB7-42F9-9834-CDA2FA6D0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1 EC Motion –Conditional Approval to send P802.11ae to Sponsor Ballo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t conditional approval to forward P802.11ae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     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Jon Rosdah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             No             Abst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:  11-11/0962r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"/>
          <p:cNvSpPr/>
          <p:nvPr/>
        </p:nvSpPr>
        <p:spPr>
          <a:xfrm>
            <a:off x="762120" y="56386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ing Group 11 vote on the Motion Passed: 47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P Stephens</cp:lastModifiedBy>
  <cp:lastPrinted>1998-02-10T13:28:06Z</cp:lastPrinted>
  <dcterms:modified xsi:type="dcterms:W3CDTF">2011-07-22T19:17:11Z</dcterms:modified>
  <cp:revision>1192</cp:revision>
  <dc:subject/>
  <dc:title>Closing Plenary Motions</dc:title>
</cp:coreProperties>
</file>