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dt" idx="43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ftr" idx="44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 type="sldNum" idx="45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49CB4CD-0EE6-4C8F-B834-FA894D02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D9BB630-4606-483D-BA6D-A959236AB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0A3D945-7F05-4F2C-A6DF-FF4E382D2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96AA2A-5123-4947-B134-42D20C659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40990DB-2974-436C-B77D-68A317FF1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544A07-1444-4AC5-A762-3A07E7E2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87BB7E-C199-4211-97D6-426941765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129DF0-AD7E-4BDA-9364-59362C1C4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9006748-040F-45E4-BA45-9D071AFEE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06E449-D38E-45A0-A78D-2741CAABA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C8B1F71-E859-4346-8CA3-65E24825B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750B9B6-3C4D-4D22-AA12-A675A6A39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75C8BE9-8068-4713-B7D0-A9206848E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EEBA-0F75-4001-A042-61B7B086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6A0-C35E-4589-9104-401389E1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F589E-9A7A-4405-8EBA-09D5CED7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3C5E4-9B49-426A-B083-FE0B55F5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EDF1C-5652-40C3-B89A-1521F071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4664A-9215-4195-A3F3-9A5346D1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AF0AC-39B6-4C6E-B7E6-63B5B8E8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F25AE-4FDB-4850-8137-7B7928E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34E80-6480-4406-B217-5617AE34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90B14-D3DF-4502-B0B2-432607DB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3923B-9FEA-45B2-A536-264230FC6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299F8-68AC-4C04-8FCF-F1A58589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B18-8156-4452-B789-20AAC908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E772C1-FF21-4807-9CBE-DB273037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DD238-E8DF-44FA-8BB9-45BF5F16C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B3862-4611-4E64-8AA5-0C6AD262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81B60-6FCF-44AC-8F29-1D10F986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9C4FC-855F-45AC-9597-78ED8AE8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776EE3-6621-4C9D-9864-1780F269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C35AC-D769-4C6F-98EA-A0E55396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985FC-CD2F-4FBF-970C-705C771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AA047-CD30-439D-BEEB-44134126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0B39E-AD8D-40E2-921C-F3BFDFF2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31B-0134-475C-806B-CCFD9E0C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90CD3-05A0-47F3-A07B-F87CD563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6F68BA-F6CD-4F24-B763-AA964EBB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2DAF64-02FE-41DA-A447-DF8DB90C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13B5C-4DC4-4967-9F3D-B1DAF312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35BDB5-5445-4BC2-A586-E757829DE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D1047-C6B5-4F9A-A4D5-3E67313D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E6E448-C5F9-452C-AB31-FBC21023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EF59A-08C8-4366-9982-D533D6D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EB506-E7CF-4484-9561-98F0C567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85A5F-0146-4EA0-8D17-38FA9F4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8B69-B2A7-4A77-A5E0-BF371E40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BCB21-9CE6-4EB6-A41A-89B41A63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41DBE-045B-496D-A294-BD3E8221F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C836F-807B-495B-931B-A1DE4FCB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FEA32-E625-4E76-91E5-D84A7A3E9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1415C1-FB32-4E06-8384-03B4C27E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E75DD-0727-4535-836D-5D369C79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C6DE94-2102-4AB9-B4B2-CF03F931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CEC4F1-5289-4959-AE25-391A566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607337-20B0-4896-AD51-598B2B7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A37C9-240A-4FD8-9D1F-9BCD7CC4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B62A-8A43-4D3C-9627-4188492C5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B4E61-E94C-4A4F-86EE-81BFC9D2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772A68-88EB-4E8A-8351-0574E7B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731D3-0F2A-44D1-B224-E25282A2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9C534-0A70-47F3-AD07-91702CF5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FCABF-5796-4506-A2DF-BB409127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03D9A-FC8B-4A99-B1B8-5BAAFBA58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5027E5-C2CA-48F1-9A91-54B2272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5D5E92-E4D6-4CED-AE14-05D67DB9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7E636-DD0F-4818-AA52-016BC69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0CF14-1071-418E-8222-FD358FB4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95D1-D61C-4136-9583-AB4D666C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E47310-6E78-414F-A1EB-8F53D133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ED129-DFE0-4AC2-90C6-AF33DAB4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159DD-FC3F-42EF-8D8F-60ABB4FC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5540E2-6A05-4A32-AE04-CAF86F12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14A02-4C15-4FED-88DF-61D93B1A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CCF0E-BC48-481A-A464-6E8352D69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5805B-6C71-47AE-86B5-3A758E3D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74E99-A0A8-4690-A988-919A08391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7B9BE0-76C9-40DD-966E-8FF9952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EA6FC4-F8D5-4F30-BA32-915B5248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B54D-B341-4D9E-8E78-8BAC4EE8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3E1ADC-7180-4F0F-9FE0-A843E141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BB005-8DDF-4BC7-8922-C0EDE643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924312-9D2B-42D2-9551-D48ACDF7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946A39-A9F8-42BE-8DF9-C87DC798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988FE-B9A0-4D60-AC8E-062DD59F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2D553-F779-4574-9D8F-095A78C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3B937-6568-4666-903F-65A935DB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28CBD-895B-4B1C-8548-CC325265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E0606-AF95-4B08-83BD-27C0AEFA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067B-E0F3-4878-B990-2CBD60D8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0A9E-56D7-436F-9E96-8FE95DB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4F1F-5526-4C7F-86D3-631ED02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4BC-44D1-435E-80A8-DB27D681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2A98C-370F-414B-B90E-FC8F201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49CF-8736-4F77-8B61-8A44F4A8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945C-CE2B-46D3-8941-A9B5AB4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5F6C-36A7-4EC0-B83E-7F12E63D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A783-732B-4D8A-ADBB-61290CF0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E0030-EEFC-459F-AF4C-17BA1BB2B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2F9A6-7BCE-4DBC-AEAA-664D3BF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C5DF-F6A4-49A0-8EFA-DA19F660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00021-2081-4EE2-BB24-322292A09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BB903-E10D-47E0-BDCA-3FE4A24E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D58-5E5C-45A4-9C06-09FBA578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FC4A5-0BC2-49CD-AEB0-440E13C7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27E1-1C82-4D11-8CF9-3006AFF5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46669-6F0F-48BA-AFBE-B558B13B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EC814-7B87-4FA5-BB16-6D510ADD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C0E18-4A28-4774-98AC-50214EE4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FBE41-89DC-4616-A55C-BF0009C6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C946E-7EBB-4C6F-ADDB-C212FA6E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AA5F7-1D95-40DF-9B7E-ABE64C48A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487D5-93F1-4DC5-BFB9-7BBEB8D4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38239-26A2-485F-9720-0F77A4AC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9490-1D2F-44E8-8A8D-9C9E9051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A04BC-07AB-4F00-A773-CB95DEA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FE47-1D1A-4F58-A979-BE7DCBA2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E615C-527C-421C-9934-5742C617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74883-65D3-4A00-8695-06CFA47D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603B-AE2B-44D6-B71C-0703EB0B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C02E3-127B-4E67-B638-25A4F13C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2104F-FE2D-4931-8C69-517166AA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5AD0-4A4F-4158-915B-D4141358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FEF58-D7BF-452D-837D-CA31D633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B3CBB-9F65-400F-8793-00B28E214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2B6B-9197-4B72-9209-1F4DE58F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0BD67-8F8F-48F9-9A69-B4B07EF3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2EB13-2D7D-4CC6-A658-9DD63EFB4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BDD14-2C6F-430B-8D5F-EBC2A5DA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8B4FE-F69B-4AD1-AF4B-FD923FDD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C3727-CFA1-45D5-AE4C-A189ED73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A9AD4-3EAE-40F7-9C36-B1FA3110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F219-0216-4487-8A27-51811DB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F7422-36F2-45A2-8A66-AD7A616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1F3C60-77F3-476E-B763-82723C4C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300E-D8CC-40B9-91AD-20BEE599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2B37-F24A-4553-9711-E500CD1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610A5-BBDA-4B78-B446-7E6260E2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24C49-EFE8-4479-9FB2-8CBBD1B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478B9-51FC-4532-ABA1-CB1F471C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E9A92-8C1D-4A9B-9D23-8AB45EB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BB26-AB54-434F-B0A5-ABC651FA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C498A-BD6A-448D-A945-2C7009E7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A18B5-38B1-4FBA-94D9-7CF92920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B8A78-1BF4-4BFF-A72F-4F36070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7C047-B3E9-44BB-84CE-EC123D1F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93852-BD86-430F-9D22-CA05B534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05FC-E61C-49B7-AB73-D4B0E179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18D99-8DAC-429C-9707-F3C90F1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50D01-A2BC-4C91-A02C-2C47091D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0C72C-4EA1-436F-B34C-B20BD9DE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58FDA-65FA-475A-A237-B2AEE54F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FA24-ABED-4C8C-8A37-52B8854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E86CF-D5E7-43BF-A27E-660DD82B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4BD7-B0C6-4FA0-AB4B-88C9B385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29DB4-60D0-4DF4-88C9-1751EFE8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8C77-2462-49ED-A75D-DFF50A81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0E109-C21F-4B0F-9371-79E7957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8EC1-EF0E-40FE-BB94-86F8BB23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BB7A3-C7A5-41EA-BDCF-FE0ECD66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4C3D1-A1C9-4231-B676-40A82FD2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BE227-B081-40D3-B020-C28CE7A8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041DB-AE24-4293-92CA-7DC98468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928A-343F-42CB-936C-8F0DD54DB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7403-64A9-43AA-9A93-D16AE848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9842F7-7144-4C5C-B462-3BBEFF35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E9415-C3CD-42CE-ADF1-8EA8999B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24ABD-392D-4BBB-BB3D-DD1AC15A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E9900-FCBE-4FE5-944D-1C952659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CE4-8A39-4BEB-AE1A-5B1D4CB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E03736-EDD9-4110-B1F8-729D76C5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91B1-3D8F-4B16-87C7-1590A77B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86184-C690-4568-9056-444D1975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5E570-6777-43D4-A58A-D603AD5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2790E-52D6-4D63-9BB0-431223F7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7C549-BB68-45D2-81ED-F4DC3043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86ECF-D5B9-49BB-8691-2580A518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7F8B-15C5-4FB8-ADD9-9B4D1105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89463-DD6F-4EC0-8522-E91AADF2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D11F9-0764-4B7A-A008-DB9662D8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2120" y="6475320"/>
            <a:ext cx="27414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B931CF-9BC8-4C56-AC80-F6D976E6C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CE70FB-8856-462B-BD75-009ED9277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2A80F4-9E11-42E0-A4E0-941745AE3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E7D461-B2EE-4C74-A93A-F8F1A0D0E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084DA3-5B62-49CB-B359-3693FD740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15B003-FF8A-4055-8894-BEEE2326F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B23970-9192-47E7-ADC0-2DD6BE495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DD3F6A-F181-4929-8B10-DDAB18244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C5C235E-B011-4DB9-BADD-AB538DE4E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FB6289-6124-4663-B587-D9074E078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D25088-1066-4BE3-9FDF-EDD926002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11ECDC-3E57-4656-8A40-E39ED6D97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31172CE-BF7F-4D66-9742-17A6548AF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07752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-0990-0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763960" y="6475320"/>
            <a:ext cx="2779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8CD2D7-B86A-4338-9701-ED968B87F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Date Placeholder 4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Footer Placeholder 5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Slide Number Placeholder 6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EA658B7-490C-4848-AD3B-9DF502692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34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s report to EC on request for approval to proceed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5"/>
          <p:cNvSpPr/>
          <p:nvPr/>
        </p:nvSpPr>
        <p:spPr>
          <a:xfrm>
            <a:off x="533520" y="20574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533520" y="2590920"/>
          <a:ext cx="8153280" cy="1447560"/>
        </p:xfrm>
        <a:graphic>
          <a:graphicData uri="http://schemas.openxmlformats.org/drawingml/2006/table">
            <a:tbl>
              <a:tblPr/>
              <a:tblGrid>
                <a:gridCol w="1519200"/>
                <a:gridCol w="1517400"/>
                <a:gridCol w="1855800"/>
                <a:gridCol w="1127160"/>
                <a:gridCol w="213372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e Dentene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ilip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C 34; 5656AE Eindhoven; The Netherland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1 40 274974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e.denteneer@philips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ce Kraem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ve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8 Marvell Lane, Santa Clara, CA 950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(321) 427-409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raemer@marvell.com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Rectangle 35"/>
          <p:cNvSpPr/>
          <p:nvPr/>
        </p:nvSpPr>
        <p:spPr>
          <a:xfrm>
            <a:off x="3276720" y="1752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-07-2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Date Placeholder 1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Footer Placeholder 2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Slide Number Placeholder 3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20D2E8-82DF-4E8E-8778-D453DC71F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 EC Motion –Approval to send P802.11s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tion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rove sending P802.11s D12.0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d: Bruce Kraemer        Second: Jon Rosdah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orking Group vote on the motion passes: y-n-a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30475F-693E-473F-9AE9-1A7952AA0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in support of a request for approval to send IEEE P802.11s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was approved during the closing plenary session of the 802.11 working group on July 22, 201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ed in the Working Group x-x-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D3531B-0591-4A3B-8AF7-89A3CD9B5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Gs is ready for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irculation ballots are complete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fter the last recirculation ballo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pproval percentage was 97.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were no new valid disapprove v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were no new valid disapprove com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 changes were made as a result of the final recirculation ballo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0BB247-7CF7-4FCE-B451-16A5A8A8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EEE 802 Sponsor Ballot Results – P802.11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228600" y="1447920"/>
          <a:ext cx="8669160" cy="4084560"/>
        </p:xfrm>
        <a:graphic>
          <a:graphicData uri="http://schemas.openxmlformats.org/drawingml/2006/table">
            <a:tbl>
              <a:tblPr/>
              <a:tblGrid>
                <a:gridCol w="762120"/>
                <a:gridCol w="1218960"/>
                <a:gridCol w="1143000"/>
                <a:gridCol w="451080"/>
                <a:gridCol w="1079280"/>
                <a:gridCol w="552600"/>
                <a:gridCol w="858960"/>
                <a:gridCol w="1083960"/>
                <a:gridCol w="797040"/>
                <a:gridCol w="722160"/>
              </a:tblGrid>
              <a:tr h="600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0-0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1-0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2-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1-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2-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3-0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0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3-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4-0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4-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5-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5-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1-06-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*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3" name="Text Box 1022"/>
          <p:cNvSpPr/>
          <p:nvPr/>
        </p:nvSpPr>
        <p:spPr>
          <a:xfrm>
            <a:off x="380880" y="571500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the final recirculation ballot, two of the disapprove voters indicated their wish to change their vote form “Disapprove” to “Approve” increasing approval rate to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9%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929C98-60C3-46E8-8980-76FAC1C52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 – P802.11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2187720" y="1427040"/>
          <a:ext cx="4136760" cy="4668840"/>
        </p:xfrm>
        <a:graphic>
          <a:graphicData uri="http://schemas.openxmlformats.org/drawingml/2006/table">
            <a:tbl>
              <a:tblPr/>
              <a:tblGrid>
                <a:gridCol w="768240"/>
                <a:gridCol w="923760"/>
                <a:gridCol w="1185840"/>
                <a:gridCol w="1258920"/>
              </a:tblGrid>
              <a:tr h="893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nown Unsatisfie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0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AB8DF2-F325-418E-8B8C-D1CC81F2D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803160" y="2149560"/>
          <a:ext cx="7426440" cy="1996920"/>
        </p:xfrm>
        <a:graphic>
          <a:graphicData uri="http://schemas.openxmlformats.org/drawingml/2006/table">
            <a:tbl>
              <a:tblPr/>
              <a:tblGrid>
                <a:gridCol w="1744920"/>
                <a:gridCol w="784080"/>
                <a:gridCol w="754200"/>
                <a:gridCol w="760320"/>
                <a:gridCol w="776160"/>
                <a:gridCol w="776520"/>
                <a:gridCol w="776160"/>
                <a:gridCol w="1054080"/>
              </a:tblGrid>
              <a:tr h="45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7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8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9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0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1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2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Rosdahl (CSR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Benvenis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n-aerion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4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5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0C751DD-78F0-4DFD-AB56-8E182DC89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286000" y="2316240"/>
          <a:ext cx="4267080" cy="1646280"/>
        </p:xfrm>
        <a:graphic>
          <a:graphicData uri="http://schemas.openxmlformats.org/drawingml/2006/table">
            <a:tbl>
              <a:tblPr/>
              <a:tblGrid>
                <a:gridCol w="1670040"/>
                <a:gridCol w="259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ini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Date Placeholder 4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ooter Placeholder 5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B45409-9C0B-428E-8DA1-65C3305F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ballot resolution committee during sponsor ballot 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e unsatisfied comments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Object 10"/>
          <p:cNvGraphicFramePr/>
          <p:nvPr/>
        </p:nvGraphicFramePr>
        <p:xfrm>
          <a:off x="7162920" y="1981080"/>
          <a:ext cx="914400" cy="7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19810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8" name="Object 11"/>
          <p:cNvGraphicFramePr/>
          <p:nvPr/>
        </p:nvGraphicFramePr>
        <p:xfrm>
          <a:off x="7315200" y="3809880"/>
          <a:ext cx="914400" cy="7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38098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Date Placeholder 1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Footer Placeholder 2"/>
          <p:cNvSpPr/>
          <p:nvPr/>
        </p:nvSpPr>
        <p:spPr>
          <a:xfrm>
            <a:off x="578340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96216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0D5305-97F0-40B3-AB2A-7B71561B43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685800" y="1905120"/>
          <a:ext cx="7772400" cy="41734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943280"/>
                <a:gridCol w="1942920"/>
              </a:tblGrid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7.0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ly 20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SCC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ee Denteneer</dc:creator>
  <dc:description/>
  <dc:language>en-US</dc:language>
  <cp:lastModifiedBy>nlv15645</cp:lastModifiedBy>
  <cp:lastPrinted>1998-02-10T13:28:06Z</cp:lastPrinted>
  <dcterms:modified xsi:type="dcterms:W3CDTF">2011-07-20T20:15:54Z</dcterms:modified>
  <cp:revision>1185</cp:revision>
  <dc:subject>doc.: 11-11-0990-02</dc:subject>
  <dc:title>TGs report to EC</dc:title>
</cp:coreProperties>
</file>