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7680" y="9000720"/>
            <a:ext cx="92556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ABE72F4-ECA5-4522-B6DF-9CF0CEFD7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838680" y="9001080"/>
            <a:ext cx="382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F666AF5-1A94-46F7-B83E-8551619BF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838680" y="9001080"/>
            <a:ext cx="382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42E431A-EC5A-4E50-B9EC-11DA0ECB6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838680" y="9001080"/>
            <a:ext cx="382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B498C99-F8C4-43C8-8EC9-ED46B7723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3838680" y="9001080"/>
            <a:ext cx="382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67D0EC-5ACC-488E-ABA1-DF774F9B1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3838680" y="9001080"/>
            <a:ext cx="382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D5452A-36A0-4C62-B75F-AE2814A37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3838680" y="9001080"/>
            <a:ext cx="382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E4A28B2-3D4D-4554-ABFA-1103805BF7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838680" y="9001080"/>
            <a:ext cx="382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E6A17B4-5345-4395-96C5-B460F172A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838680" y="9001080"/>
            <a:ext cx="382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4EC01F0-EED9-4D18-A7C2-C935EF0D1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Header Placeholder 3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8/xxxxr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ate Placeholder 4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9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ooter Placeholder 5"/>
          <p:cNvSpPr/>
          <p:nvPr/>
        </p:nvSpPr>
        <p:spPr>
          <a:xfrm>
            <a:off x="3838680" y="9001080"/>
            <a:ext cx="382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, Marvel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6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CA778FD-F0ED-46F0-9517-FD0046339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6627-708D-4D69-9B8D-9945C290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DAE-0D16-413C-92F3-7638DF9B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6D0-44D0-4B95-8B3F-1FBB0FD4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31D-4011-49EF-BCB5-825BD9FC7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D00-5457-48EF-918C-B333C150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ADA7-D2B6-4711-97BC-C81C5727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D2AB-FA96-4228-B406-98A55FADF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2DEB-2230-43B3-AB16-B58F564B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2021-B37F-4128-80CB-450049A2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4BCC-44A0-4C9F-88B3-84B7AAF5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2AE2-30DD-4DDE-BEFF-4F3E0F7C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2D6-7EAA-4E38-91E9-37E9BF12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 (RIM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12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3C44EF7-7712-4D12-9847-A278C0D95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184800" y="334800"/>
            <a:ext cx="226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1/0962r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ate Placeholder 4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6630120" y="6475320"/>
            <a:ext cx="336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 (RIM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Slide Number Placeholder 6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FBC583E-9115-4459-8D27-60B9885D7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802.11ae Report to EC on Conditional Approval to go to Sponsor Ballo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533520" y="190512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09480" y="2286000"/>
          <a:ext cx="7391520" cy="1646280"/>
        </p:xfrm>
        <a:graphic>
          <a:graphicData uri="http://schemas.openxmlformats.org/drawingml/2006/table">
            <a:tbl>
              <a:tblPr/>
              <a:tblGrid>
                <a:gridCol w="1447920"/>
                <a:gridCol w="1371600"/>
                <a:gridCol w="1752480"/>
                <a:gridCol w="914400"/>
                <a:gridCol w="19051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ffili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dres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o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ai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hael Montemurro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earch in Mo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01 Tahoe Blvd, Mississauga, ON. CANADA L4W 0B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 (905) 629-474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ntemurro@rim.co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uce Kraem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vel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88 Marvell Lane, Santa Clara, CA, USA 9505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 (321) 427-409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kraemer@marvell.co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69480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6596640" y="6475320"/>
            <a:ext cx="342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zo Wentink (Qualcomm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7B022AF-297A-4216-9D28-CB737C015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is document contains the report to the IEEE 802 Executive Committee in support of a request for conditional approval to send IEEE P802.11ae Draft 6.0 to Sponsor Ballo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is document was approved during the closing plenary session of the 802.11 working group on 22 July 201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ssed in the Working Group  X yes, Y no , Z abs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802.11ae Draft Stabilit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057400" y="2286000"/>
          <a:ext cx="5181480" cy="2494080"/>
        </p:xfrm>
        <a:graphic>
          <a:graphicData uri="http://schemas.openxmlformats.org/drawingml/2006/table">
            <a:tbl>
              <a:tblPr/>
              <a:tblGrid>
                <a:gridCol w="1727280"/>
                <a:gridCol w="1727280"/>
                <a:gridCol w="1726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raf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umber of Pag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v-20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b-20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-20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n-20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l-201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sp>
        <p:nvSpPr>
          <p:cNvPr id="68" name="Date Placeholder 1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ooter Placeholder 2"/>
          <p:cNvSpPr/>
          <p:nvPr/>
        </p:nvSpPr>
        <p:spPr>
          <a:xfrm>
            <a:off x="6630120" y="6475320"/>
            <a:ext cx="336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 (RIM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A76C569-676E-430B-955E-6B783BB0C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6630120" y="6475320"/>
            <a:ext cx="336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 (RIM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2BEBC81-E803-463C-B80E-BF1EE9E5C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WG Letter Ballot Results – P802.11a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8160" y="2046240"/>
            <a:ext cx="906768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8000" y="1600200"/>
          <a:ext cx="8915400" cy="4394160"/>
        </p:xfrm>
        <a:graphic>
          <a:graphicData uri="http://schemas.openxmlformats.org/drawingml/2006/table">
            <a:tbl>
              <a:tblPr/>
              <a:tblGrid>
                <a:gridCol w="692280"/>
                <a:gridCol w="831600"/>
                <a:gridCol w="2362320"/>
                <a:gridCol w="1403280"/>
                <a:gridCol w="522360"/>
                <a:gridCol w="533520"/>
                <a:gridCol w="409320"/>
                <a:gridCol w="409680"/>
                <a:gridCol w="409680"/>
                <a:gridCol w="522000"/>
                <a:gridCol w="409680"/>
                <a:gridCol w="409680"/>
              </a:tblGrid>
              <a:tr h="122076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I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Close Dat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Typ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ol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Retur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tai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bstai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appro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Approv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 Dec 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Letter Ballot for TGae draft 1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Feb 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rst Recirculation Ballot for TGae draft 2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Apr 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ond Recirculation  Ballot for TGae draft 3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Jun 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rd Recirculation Ballot for TGae draft 4.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.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 Jul 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 letter ballot vote change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6630120" y="6475320"/>
            <a:ext cx="336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 (RIM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A65C6FE-33DD-41EB-84F4-B96B76FF7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02.11 WG Letter Ballot Comments – P802.11a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143000" y="1752480"/>
          <a:ext cx="6867360" cy="3924360"/>
        </p:xfrm>
        <a:graphic>
          <a:graphicData uri="http://schemas.openxmlformats.org/drawingml/2006/table">
            <a:tbl>
              <a:tblPr/>
              <a:tblGrid>
                <a:gridCol w="1025640"/>
                <a:gridCol w="1336680"/>
                <a:gridCol w="2352600"/>
                <a:gridCol w="2152440"/>
              </a:tblGrid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Close D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t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 of Comments receive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 Dec 20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chnical Letter Ballot for TGae Draft 1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1 (309 T, 152 E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Feb 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ulation Letter Ballot for TGae Draft 2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6 (246 T, 140 E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Apr 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ond Recirculation Ballot for TGae Draft 3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2 (58 T, 84 E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 Jun 201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rd Recirculation Ballot for TGae Draft 4.0 + 802.11 M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 (54 T, 25 E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ooter Placeholder 4"/>
          <p:cNvSpPr/>
          <p:nvPr/>
        </p:nvSpPr>
        <p:spPr>
          <a:xfrm>
            <a:off x="6630120" y="6475320"/>
            <a:ext cx="336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 (RIM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33A6A86-5890-460B-B04C-0C3F969BA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838080" y="2057400"/>
          <a:ext cx="7620120" cy="2773440"/>
        </p:xfrm>
        <a:graphic>
          <a:graphicData uri="http://schemas.openxmlformats.org/drawingml/2006/table">
            <a:tbl>
              <a:tblPr/>
              <a:tblGrid>
                <a:gridCol w="2278080"/>
                <a:gridCol w="1000080"/>
                <a:gridCol w="1011240"/>
                <a:gridCol w="1144800"/>
                <a:gridCol w="1144440"/>
                <a:gridCol w="104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oter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6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7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B17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B18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wen Chu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sh Ramamurth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dhir Srinivas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omon Traini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yuan Zha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ooter Placeholder 4"/>
          <p:cNvSpPr/>
          <p:nvPr/>
        </p:nvSpPr>
        <p:spPr>
          <a:xfrm>
            <a:off x="6630120" y="6475320"/>
            <a:ext cx="336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 (RIM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ACADDBD-AF01-4518-91C8-E1336F6ED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– Top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371600" y="2133720"/>
          <a:ext cx="6477120" cy="3276360"/>
        </p:xfrm>
        <a:graphic>
          <a:graphicData uri="http://schemas.openxmlformats.org/drawingml/2006/table">
            <a:tbl>
              <a:tblPr/>
              <a:tblGrid>
                <a:gridCol w="3886200"/>
                <a:gridCol w="25909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i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Comment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MFQ Policy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Q Policy Negotiat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Q Priority Signalin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yptographic Encapsulation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M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5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ooter Placeholder 6"/>
          <p:cNvSpPr/>
          <p:nvPr/>
        </p:nvSpPr>
        <p:spPr>
          <a:xfrm>
            <a:off x="6630120" y="6475320"/>
            <a:ext cx="336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 (RIM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7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D72DB9A-6858-4FB2-BC54-5214CCCF6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composite of all unsatisfied comments and the resolutions approved by the comment resolution committee received during working group ballot may be found in the embedded document on the right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 copy of this same data presented using MyBallot access database report format is attached.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10"/>
          <p:cNvGraphicFramePr/>
          <p:nvPr/>
        </p:nvGraphicFramePr>
        <p:xfrm>
          <a:off x="6019920" y="2057400"/>
          <a:ext cx="914400" cy="88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057400"/>
                    <a:ext cx="914400" cy="8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Object 12" descr=""/>
          <p:cNvPicPr/>
          <p:nvPr/>
        </p:nvPicPr>
        <p:blipFill>
          <a:blip r:embed="rId3"/>
          <a:stretch/>
        </p:blipFill>
        <p:spPr>
          <a:xfrm>
            <a:off x="6095880" y="4191120"/>
            <a:ext cx="9144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3"/>
          <p:cNvSpPr/>
          <p:nvPr/>
        </p:nvSpPr>
        <p:spPr>
          <a:xfrm>
            <a:off x="762840" y="334800"/>
            <a:ext cx="93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uly 201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6630120" y="6475320"/>
            <a:ext cx="336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ael Montemurro (RIM), Bruce Kraemer (Marvell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EFA4D30-B418-42E4-A82B-4246A4A09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ae Time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676520"/>
          <a:ext cx="801036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60640"/>
                <a:gridCol w="1834920"/>
              </a:tblGrid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n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s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urth recirculation (TGae D5.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-Jul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-Aug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fth recirculation (TGae D6.0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-Aug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-Aug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st sponsor ballo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-Aug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-Sep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nd sponsor ballo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Nov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Dec-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rd sponsor ballo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-Jan-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Jan-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urth sponsor ballo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-Feb-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-Mar-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C to RevCom Mar-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Com to SB Jun-12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mmontemurro</cp:lastModifiedBy>
  <cp:lastPrinted>1998-02-10T13:28:06Z</cp:lastPrinted>
  <dcterms:modified xsi:type="dcterms:W3CDTF">2011-07-20T22:54:46Z</dcterms:modified>
  <cp:revision>1320</cp:revision>
  <dc:subject/>
  <dc:title>TGn Report to EC</dc:title>
</cp:coreProperties>
</file>