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59200" y="-755280"/>
            <a:ext cx="64116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70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5560" y="972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7400" y="703440"/>
            <a:ext cx="4641840" cy="3481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6640" y="4422600"/>
            <a:ext cx="5100840" cy="4189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76960" y="9013680"/>
            <a:ext cx="9237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33880" y="901368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6D94F1-9607-40B5-A046-45432A00A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25760" y="90136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25400" y="9012240"/>
            <a:ext cx="55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49440" y="297000"/>
            <a:ext cx="56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488016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705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328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n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4834080" y="9013680"/>
            <a:ext cx="20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00528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95BE92C-F89C-4056-8929-3DF85238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70344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6640" y="4422600"/>
            <a:ext cx="5100840" cy="41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4103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72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65628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307320" y="9013680"/>
            <a:ext cx="2975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McCann (RIM), B.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301896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FEA11E8-D9C2-4B78-B685-4EA542E1C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185000" y="97560"/>
            <a:ext cx="21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5556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889000" y="9013680"/>
            <a:ext cx="33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60440"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; Adrian Stephens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301788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FE20E1A-2205-491F-8FE5-380E8992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5884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6640" y="4422240"/>
            <a:ext cx="51008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10328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1437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56280" y="97560"/>
            <a:ext cx="119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4343040" y="9013680"/>
            <a:ext cx="1946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5388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165B23C-D901-4630-AAA9-2F18CE767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4185000" y="97560"/>
            <a:ext cx="21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0/0872r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657000" y="97560"/>
            <a:ext cx="1158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304800" y="9013680"/>
            <a:ext cx="297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60440"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. McCann (RIM), B.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05388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4C96865-BC53-4A28-B319-CEDD34202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4185000" y="97560"/>
            <a:ext cx="2118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09/067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65556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2889000" y="9013680"/>
            <a:ext cx="339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60440"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, Marvell; Adrian Stephens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05388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51EED8C-68BD-4EEA-AACA-F391DD82E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704880"/>
            <a:ext cx="4638600" cy="3478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26640" y="4422240"/>
            <a:ext cx="51008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"/>
          <p:cNvSpPr/>
          <p:nvPr/>
        </p:nvSpPr>
        <p:spPr>
          <a:xfrm>
            <a:off x="4087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6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66132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"/>
          <p:cNvSpPr/>
          <p:nvPr/>
        </p:nvSpPr>
        <p:spPr>
          <a:xfrm>
            <a:off x="4488120" y="9013680"/>
            <a:ext cx="178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rew Myles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305064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23304EC-B012-4F81-8B37-A54E0C60F1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7400" y="70344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25200" y="4422240"/>
            <a:ext cx="5103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408780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0673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66132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4488120" y="9013680"/>
            <a:ext cx="1789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rew Myles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050640" y="90136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26AD41F-5E4F-44F3-B380-C7C40EC1D99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7400" y="70344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25200" y="4422240"/>
            <a:ext cx="5103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B0C-ADD9-4552-8B35-C78CDCFD3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852-7D92-4ECA-B971-20CC792F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700A-CF56-48C4-BF41-2A6A44F9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BED8-37C9-4EF5-9DFA-DCDACB8E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59B-8003-4F9A-A022-A04EB9EE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C322-68FC-4A40-98A8-35FE740C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6B51-80D9-486A-B6A5-8399572E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B85-9FB2-436D-ACE5-31FB4F4F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668D-FDB0-4A7E-A7BE-B7BB3AA6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021-A67F-475D-8CA1-5E5ECFFA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6D86-7CCC-4D3D-958C-3C56341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B243-F79E-4AEB-A55F-5E6A9115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60120"/>
            <a:ext cx="9428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693CC3-9FD4-4EBB-B8F2-5A8113BD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08040" y="31896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1393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1152-01-0fia-fast-initial-link-set-up-par.doc" TargetMode="External"/><Relationship Id="rId2" Type="http://schemas.openxmlformats.org/officeDocument/2006/relationships/hyperlink" Target="https://mentor.ieee.org/802.11/dcn/10/11-10-1153-00-0fia-fast-initial-link-set-up-5c.doc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72-03-000u-tgu-ec-report-to-revcom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11/dcn/10/11-10-0800-08-000v-tgv-ec-report-to-revcom.ppt" TargetMode="External"/><Relationship Id="rId2" Type="http://schemas.openxmlformats.org/officeDocument/2006/relationships/hyperlink" Target="http://www.ieee802.org/11/temp/2010-11-08%20TGv%20D15.0%20Report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3"/>
          <p:cNvSpPr/>
          <p:nvPr/>
        </p:nvSpPr>
        <p:spPr>
          <a:xfrm>
            <a:off x="4021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25D8F3B-88E0-4E65-A14F-C14D8C81A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vember 2010, 802.11 Motions for the E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11-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269"/>
          <p:cNvGrpSpPr/>
          <p:nvPr/>
        </p:nvGrpSpPr>
        <p:grpSpPr>
          <a:xfrm>
            <a:off x="533520" y="2514600"/>
            <a:ext cx="7802280" cy="2573280"/>
            <a:chOff x="533520" y="2514600"/>
            <a:chExt cx="7802280" cy="2573280"/>
          </a:xfrm>
        </p:grpSpPr>
        <p:sp>
          <p:nvSpPr>
            <p:cNvPr id="62" name="AutoShape 7"/>
            <p:cNvSpPr/>
            <p:nvPr/>
          </p:nvSpPr>
          <p:spPr>
            <a:xfrm>
              <a:off x="533520" y="2514600"/>
              <a:ext cx="7802280" cy="25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9"/>
            <p:cNvSpPr/>
            <p:nvPr/>
          </p:nvSpPr>
          <p:spPr>
            <a:xfrm>
              <a:off x="685440" y="2525760"/>
              <a:ext cx="60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>
              <a:off x="1275480" y="252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1"/>
            <p:cNvSpPr/>
            <p:nvPr/>
          </p:nvSpPr>
          <p:spPr>
            <a:xfrm>
              <a:off x="2158200" y="252576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2"/>
            <p:cNvSpPr/>
            <p:nvPr/>
          </p:nvSpPr>
          <p:spPr>
            <a:xfrm>
              <a:off x="3143880" y="252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>
              <a:off x="3544200" y="2525760"/>
              <a:ext cx="842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4"/>
            <p:cNvSpPr/>
            <p:nvPr/>
          </p:nvSpPr>
          <p:spPr>
            <a:xfrm>
              <a:off x="4372560" y="252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5"/>
            <p:cNvSpPr/>
            <p:nvPr/>
          </p:nvSpPr>
          <p:spPr>
            <a:xfrm>
              <a:off x="5249880" y="2525760"/>
              <a:ext cx="643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Phon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>
              <a:off x="5880600" y="252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"/>
            <p:cNvSpPr/>
            <p:nvPr/>
          </p:nvSpPr>
          <p:spPr>
            <a:xfrm>
              <a:off x="6476040" y="2525760"/>
              <a:ext cx="563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emai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"/>
            <p:cNvSpPr/>
            <p:nvPr/>
          </p:nvSpPr>
          <p:spPr>
            <a:xfrm>
              <a:off x="7028640" y="252576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9"/>
            <p:cNvSpPr/>
            <p:nvPr/>
          </p:nvSpPr>
          <p:spPr>
            <a:xfrm>
              <a:off x="618840" y="2514600"/>
              <a:ext cx="4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0"/>
            <p:cNvSpPr/>
            <p:nvPr/>
          </p:nvSpPr>
          <p:spPr>
            <a:xfrm>
              <a:off x="618840" y="2514600"/>
              <a:ext cx="4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1"/>
            <p:cNvSpPr/>
            <p:nvPr/>
          </p:nvSpPr>
          <p:spPr>
            <a:xfrm>
              <a:off x="61884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22"/>
            <p:cNvSpPr/>
            <p:nvPr/>
          </p:nvSpPr>
          <p:spPr>
            <a:xfrm>
              <a:off x="618840" y="2514600"/>
              <a:ext cx="4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3"/>
            <p:cNvSpPr/>
            <p:nvPr/>
          </p:nvSpPr>
          <p:spPr>
            <a:xfrm>
              <a:off x="618840" y="2514600"/>
              <a:ext cx="4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4"/>
            <p:cNvSpPr/>
            <p:nvPr/>
          </p:nvSpPr>
          <p:spPr>
            <a:xfrm>
              <a:off x="61884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25"/>
            <p:cNvSpPr/>
            <p:nvPr/>
          </p:nvSpPr>
          <p:spPr>
            <a:xfrm>
              <a:off x="623520" y="2514600"/>
              <a:ext cx="1466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6"/>
            <p:cNvSpPr/>
            <p:nvPr/>
          </p:nvSpPr>
          <p:spPr>
            <a:xfrm>
              <a:off x="623520" y="2514600"/>
              <a:ext cx="146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7"/>
            <p:cNvSpPr/>
            <p:nvPr/>
          </p:nvSpPr>
          <p:spPr>
            <a:xfrm>
              <a:off x="2090520" y="2514600"/>
              <a:ext cx="4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>
              <a:off x="2090520" y="2514600"/>
              <a:ext cx="4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29"/>
            <p:cNvSpPr/>
            <p:nvPr/>
          </p:nvSpPr>
          <p:spPr>
            <a:xfrm>
              <a:off x="209052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0"/>
            <p:cNvSpPr/>
            <p:nvPr/>
          </p:nvSpPr>
          <p:spPr>
            <a:xfrm>
              <a:off x="2095200" y="2514600"/>
              <a:ext cx="1380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31"/>
            <p:cNvSpPr/>
            <p:nvPr/>
          </p:nvSpPr>
          <p:spPr>
            <a:xfrm>
              <a:off x="2095200" y="2514600"/>
              <a:ext cx="1380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2"/>
            <p:cNvSpPr/>
            <p:nvPr/>
          </p:nvSpPr>
          <p:spPr>
            <a:xfrm>
              <a:off x="3476520" y="2514600"/>
              <a:ext cx="5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33"/>
            <p:cNvSpPr/>
            <p:nvPr/>
          </p:nvSpPr>
          <p:spPr>
            <a:xfrm>
              <a:off x="3476520" y="2514600"/>
              <a:ext cx="5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34"/>
            <p:cNvSpPr/>
            <p:nvPr/>
          </p:nvSpPr>
          <p:spPr>
            <a:xfrm>
              <a:off x="347652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Rectangle 35"/>
            <p:cNvSpPr/>
            <p:nvPr/>
          </p:nvSpPr>
          <p:spPr>
            <a:xfrm>
              <a:off x="3482640" y="2514600"/>
              <a:ext cx="1699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6"/>
            <p:cNvSpPr/>
            <p:nvPr/>
          </p:nvSpPr>
          <p:spPr>
            <a:xfrm>
              <a:off x="3482640" y="2514600"/>
              <a:ext cx="169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37"/>
            <p:cNvSpPr/>
            <p:nvPr/>
          </p:nvSpPr>
          <p:spPr>
            <a:xfrm>
              <a:off x="5182920" y="25146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38"/>
            <p:cNvSpPr/>
            <p:nvPr/>
          </p:nvSpPr>
          <p:spPr>
            <a:xfrm>
              <a:off x="5182920" y="2514600"/>
              <a:ext cx="6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9"/>
            <p:cNvSpPr/>
            <p:nvPr/>
          </p:nvSpPr>
          <p:spPr>
            <a:xfrm>
              <a:off x="518292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40"/>
            <p:cNvSpPr/>
            <p:nvPr/>
          </p:nvSpPr>
          <p:spPr>
            <a:xfrm>
              <a:off x="5189400" y="2514600"/>
              <a:ext cx="12204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41"/>
            <p:cNvSpPr/>
            <p:nvPr/>
          </p:nvSpPr>
          <p:spPr>
            <a:xfrm>
              <a:off x="5189400" y="2514600"/>
              <a:ext cx="122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42"/>
            <p:cNvSpPr/>
            <p:nvPr/>
          </p:nvSpPr>
          <p:spPr>
            <a:xfrm>
              <a:off x="6410160" y="2514600"/>
              <a:ext cx="4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3"/>
            <p:cNvSpPr/>
            <p:nvPr/>
          </p:nvSpPr>
          <p:spPr>
            <a:xfrm>
              <a:off x="6410160" y="2514600"/>
              <a:ext cx="4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44"/>
            <p:cNvSpPr/>
            <p:nvPr/>
          </p:nvSpPr>
          <p:spPr>
            <a:xfrm>
              <a:off x="641016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Rectangle 45"/>
            <p:cNvSpPr/>
            <p:nvPr/>
          </p:nvSpPr>
          <p:spPr>
            <a:xfrm>
              <a:off x="6414840" y="2514600"/>
              <a:ext cx="1647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6"/>
            <p:cNvSpPr/>
            <p:nvPr/>
          </p:nvSpPr>
          <p:spPr>
            <a:xfrm>
              <a:off x="6414840" y="2514600"/>
              <a:ext cx="1647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47"/>
            <p:cNvSpPr/>
            <p:nvPr/>
          </p:nvSpPr>
          <p:spPr>
            <a:xfrm>
              <a:off x="8062560" y="25146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8"/>
            <p:cNvSpPr/>
            <p:nvPr/>
          </p:nvSpPr>
          <p:spPr>
            <a:xfrm>
              <a:off x="8062560" y="2514600"/>
              <a:ext cx="6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9"/>
            <p:cNvSpPr/>
            <p:nvPr/>
          </p:nvSpPr>
          <p:spPr>
            <a:xfrm>
              <a:off x="806256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50"/>
            <p:cNvSpPr/>
            <p:nvPr/>
          </p:nvSpPr>
          <p:spPr>
            <a:xfrm>
              <a:off x="8062560" y="251460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51"/>
            <p:cNvSpPr/>
            <p:nvPr/>
          </p:nvSpPr>
          <p:spPr>
            <a:xfrm>
              <a:off x="8062560" y="2514600"/>
              <a:ext cx="6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52"/>
            <p:cNvSpPr/>
            <p:nvPr/>
          </p:nvSpPr>
          <p:spPr>
            <a:xfrm>
              <a:off x="8062560" y="251460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3"/>
            <p:cNvSpPr/>
            <p:nvPr/>
          </p:nvSpPr>
          <p:spPr>
            <a:xfrm>
              <a:off x="618840" y="2521080"/>
              <a:ext cx="432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4"/>
            <p:cNvSpPr/>
            <p:nvPr/>
          </p:nvSpPr>
          <p:spPr>
            <a:xfrm>
              <a:off x="618840" y="2521080"/>
              <a:ext cx="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55"/>
            <p:cNvSpPr/>
            <p:nvPr/>
          </p:nvSpPr>
          <p:spPr>
            <a:xfrm>
              <a:off x="2090520" y="2521080"/>
              <a:ext cx="432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56"/>
            <p:cNvSpPr/>
            <p:nvPr/>
          </p:nvSpPr>
          <p:spPr>
            <a:xfrm>
              <a:off x="2090520" y="2521080"/>
              <a:ext cx="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57"/>
            <p:cNvSpPr/>
            <p:nvPr/>
          </p:nvSpPr>
          <p:spPr>
            <a:xfrm>
              <a:off x="3476520" y="2521080"/>
              <a:ext cx="576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58"/>
            <p:cNvSpPr/>
            <p:nvPr/>
          </p:nvSpPr>
          <p:spPr>
            <a:xfrm>
              <a:off x="3476520" y="2521080"/>
              <a:ext cx="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59"/>
            <p:cNvSpPr/>
            <p:nvPr/>
          </p:nvSpPr>
          <p:spPr>
            <a:xfrm>
              <a:off x="5182920" y="2521080"/>
              <a:ext cx="612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60"/>
            <p:cNvSpPr/>
            <p:nvPr/>
          </p:nvSpPr>
          <p:spPr>
            <a:xfrm>
              <a:off x="5182920" y="2521080"/>
              <a:ext cx="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61"/>
            <p:cNvSpPr/>
            <p:nvPr/>
          </p:nvSpPr>
          <p:spPr>
            <a:xfrm>
              <a:off x="6410160" y="2521080"/>
              <a:ext cx="432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62"/>
            <p:cNvSpPr/>
            <p:nvPr/>
          </p:nvSpPr>
          <p:spPr>
            <a:xfrm>
              <a:off x="6410160" y="2521080"/>
              <a:ext cx="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63"/>
            <p:cNvSpPr/>
            <p:nvPr/>
          </p:nvSpPr>
          <p:spPr>
            <a:xfrm>
              <a:off x="8062560" y="2521080"/>
              <a:ext cx="6120" cy="318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64"/>
            <p:cNvSpPr/>
            <p:nvPr/>
          </p:nvSpPr>
          <p:spPr>
            <a:xfrm>
              <a:off x="8062560" y="2521080"/>
              <a:ext cx="0" cy="318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65"/>
            <p:cNvSpPr/>
            <p:nvPr/>
          </p:nvSpPr>
          <p:spPr>
            <a:xfrm>
              <a:off x="685440" y="2852640"/>
              <a:ext cx="116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ruce Kraem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66"/>
            <p:cNvSpPr/>
            <p:nvPr/>
          </p:nvSpPr>
          <p:spPr>
            <a:xfrm>
              <a:off x="1848960" y="28526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67"/>
            <p:cNvSpPr/>
            <p:nvPr/>
          </p:nvSpPr>
          <p:spPr>
            <a:xfrm>
              <a:off x="2156040" y="2852640"/>
              <a:ext cx="604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Marv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68"/>
            <p:cNvSpPr/>
            <p:nvPr/>
          </p:nvSpPr>
          <p:spPr>
            <a:xfrm>
              <a:off x="2756880" y="28526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69"/>
            <p:cNvSpPr/>
            <p:nvPr/>
          </p:nvSpPr>
          <p:spPr>
            <a:xfrm>
              <a:off x="3540240" y="2852640"/>
              <a:ext cx="129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5488 Marvell L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70"/>
            <p:cNvSpPr/>
            <p:nvPr/>
          </p:nvSpPr>
          <p:spPr>
            <a:xfrm>
              <a:off x="4828680" y="285264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71"/>
            <p:cNvSpPr/>
            <p:nvPr/>
          </p:nvSpPr>
          <p:spPr>
            <a:xfrm>
              <a:off x="3543120" y="3071880"/>
              <a:ext cx="128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Santa Clara, CA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72"/>
            <p:cNvSpPr/>
            <p:nvPr/>
          </p:nvSpPr>
          <p:spPr>
            <a:xfrm>
              <a:off x="3540600" y="3289320"/>
              <a:ext cx="48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9505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3"/>
            <p:cNvSpPr/>
            <p:nvPr/>
          </p:nvSpPr>
          <p:spPr>
            <a:xfrm>
              <a:off x="4017600" y="328932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4"/>
            <p:cNvSpPr/>
            <p:nvPr/>
          </p:nvSpPr>
          <p:spPr>
            <a:xfrm>
              <a:off x="5249520" y="2852640"/>
              <a:ext cx="20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5"/>
            <p:cNvSpPr/>
            <p:nvPr/>
          </p:nvSpPr>
          <p:spPr>
            <a:xfrm>
              <a:off x="5452200" y="28526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6"/>
            <p:cNvSpPr/>
            <p:nvPr/>
          </p:nvSpPr>
          <p:spPr>
            <a:xfrm>
              <a:off x="5513400" y="2852640"/>
              <a:ext cx="28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32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7"/>
            <p:cNvSpPr/>
            <p:nvPr/>
          </p:nvSpPr>
          <p:spPr>
            <a:xfrm>
              <a:off x="5798160" y="28526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78"/>
            <p:cNvSpPr/>
            <p:nvPr/>
          </p:nvSpPr>
          <p:spPr>
            <a:xfrm>
              <a:off x="5861520" y="2852640"/>
              <a:ext cx="96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79"/>
            <p:cNvSpPr/>
            <p:nvPr/>
          </p:nvSpPr>
          <p:spPr>
            <a:xfrm>
              <a:off x="5956560" y="2852640"/>
              <a:ext cx="192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80"/>
            <p:cNvSpPr/>
            <p:nvPr/>
          </p:nvSpPr>
          <p:spPr>
            <a:xfrm>
              <a:off x="6145920" y="28526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81"/>
            <p:cNvSpPr/>
            <p:nvPr/>
          </p:nvSpPr>
          <p:spPr>
            <a:xfrm>
              <a:off x="5247720" y="3071880"/>
              <a:ext cx="38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40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82"/>
            <p:cNvSpPr/>
            <p:nvPr/>
          </p:nvSpPr>
          <p:spPr>
            <a:xfrm>
              <a:off x="5628960" y="3071880"/>
              <a:ext cx="47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83"/>
            <p:cNvSpPr/>
            <p:nvPr/>
          </p:nvSpPr>
          <p:spPr>
            <a:xfrm>
              <a:off x="6472800" y="2847960"/>
              <a:ext cx="66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kraemer@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84"/>
            <p:cNvSpPr/>
            <p:nvPr/>
          </p:nvSpPr>
          <p:spPr>
            <a:xfrm>
              <a:off x="7139520" y="2847960"/>
              <a:ext cx="43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rvel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85"/>
            <p:cNvSpPr/>
            <p:nvPr/>
          </p:nvSpPr>
          <p:spPr>
            <a:xfrm>
              <a:off x="7576560" y="2847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.co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86"/>
            <p:cNvSpPr/>
            <p:nvPr/>
          </p:nvSpPr>
          <p:spPr>
            <a:xfrm>
              <a:off x="7857720" y="28479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87"/>
            <p:cNvSpPr/>
            <p:nvPr/>
          </p:nvSpPr>
          <p:spPr>
            <a:xfrm>
              <a:off x="618840" y="2840040"/>
              <a:ext cx="4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88"/>
            <p:cNvSpPr/>
            <p:nvPr/>
          </p:nvSpPr>
          <p:spPr>
            <a:xfrm>
              <a:off x="618840" y="2840040"/>
              <a:ext cx="4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89"/>
            <p:cNvSpPr/>
            <p:nvPr/>
          </p:nvSpPr>
          <p:spPr>
            <a:xfrm>
              <a:off x="618840" y="28400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90"/>
            <p:cNvSpPr/>
            <p:nvPr/>
          </p:nvSpPr>
          <p:spPr>
            <a:xfrm>
              <a:off x="623520" y="2840040"/>
              <a:ext cx="146664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1"/>
            <p:cNvSpPr/>
            <p:nvPr/>
          </p:nvSpPr>
          <p:spPr>
            <a:xfrm>
              <a:off x="623520" y="2840040"/>
              <a:ext cx="1466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92"/>
            <p:cNvSpPr/>
            <p:nvPr/>
          </p:nvSpPr>
          <p:spPr>
            <a:xfrm>
              <a:off x="2090520" y="2840040"/>
              <a:ext cx="4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93"/>
            <p:cNvSpPr/>
            <p:nvPr/>
          </p:nvSpPr>
          <p:spPr>
            <a:xfrm>
              <a:off x="2090520" y="2840040"/>
              <a:ext cx="4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94"/>
            <p:cNvSpPr/>
            <p:nvPr/>
          </p:nvSpPr>
          <p:spPr>
            <a:xfrm>
              <a:off x="2090520" y="28400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95"/>
            <p:cNvSpPr/>
            <p:nvPr/>
          </p:nvSpPr>
          <p:spPr>
            <a:xfrm>
              <a:off x="2095200" y="2840040"/>
              <a:ext cx="13809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96"/>
            <p:cNvSpPr/>
            <p:nvPr/>
          </p:nvSpPr>
          <p:spPr>
            <a:xfrm>
              <a:off x="2095200" y="2840040"/>
              <a:ext cx="13809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97"/>
            <p:cNvSpPr/>
            <p:nvPr/>
          </p:nvSpPr>
          <p:spPr>
            <a:xfrm>
              <a:off x="3476520" y="2840040"/>
              <a:ext cx="57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98"/>
            <p:cNvSpPr/>
            <p:nvPr/>
          </p:nvSpPr>
          <p:spPr>
            <a:xfrm>
              <a:off x="3476520" y="2840040"/>
              <a:ext cx="57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9"/>
            <p:cNvSpPr/>
            <p:nvPr/>
          </p:nvSpPr>
          <p:spPr>
            <a:xfrm>
              <a:off x="3476520" y="28400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100"/>
            <p:cNvSpPr/>
            <p:nvPr/>
          </p:nvSpPr>
          <p:spPr>
            <a:xfrm>
              <a:off x="3482640" y="2840040"/>
              <a:ext cx="16999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101"/>
            <p:cNvSpPr/>
            <p:nvPr/>
          </p:nvSpPr>
          <p:spPr>
            <a:xfrm>
              <a:off x="3482640" y="2840040"/>
              <a:ext cx="1699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02"/>
            <p:cNvSpPr/>
            <p:nvPr/>
          </p:nvSpPr>
          <p:spPr>
            <a:xfrm>
              <a:off x="5182920" y="28400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103"/>
            <p:cNvSpPr/>
            <p:nvPr/>
          </p:nvSpPr>
          <p:spPr>
            <a:xfrm>
              <a:off x="5182920" y="2840040"/>
              <a:ext cx="6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04"/>
            <p:cNvSpPr/>
            <p:nvPr/>
          </p:nvSpPr>
          <p:spPr>
            <a:xfrm>
              <a:off x="5182920" y="28400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105"/>
            <p:cNvSpPr/>
            <p:nvPr/>
          </p:nvSpPr>
          <p:spPr>
            <a:xfrm>
              <a:off x="5189400" y="2840040"/>
              <a:ext cx="122040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06"/>
            <p:cNvSpPr/>
            <p:nvPr/>
          </p:nvSpPr>
          <p:spPr>
            <a:xfrm>
              <a:off x="5189400" y="2840040"/>
              <a:ext cx="12204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107"/>
            <p:cNvSpPr/>
            <p:nvPr/>
          </p:nvSpPr>
          <p:spPr>
            <a:xfrm>
              <a:off x="6410160" y="2840040"/>
              <a:ext cx="43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108"/>
            <p:cNvSpPr/>
            <p:nvPr/>
          </p:nvSpPr>
          <p:spPr>
            <a:xfrm>
              <a:off x="6410160" y="2840040"/>
              <a:ext cx="43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109"/>
            <p:cNvSpPr/>
            <p:nvPr/>
          </p:nvSpPr>
          <p:spPr>
            <a:xfrm>
              <a:off x="6410160" y="28400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110"/>
            <p:cNvSpPr/>
            <p:nvPr/>
          </p:nvSpPr>
          <p:spPr>
            <a:xfrm>
              <a:off x="6414840" y="2840040"/>
              <a:ext cx="16473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111"/>
            <p:cNvSpPr/>
            <p:nvPr/>
          </p:nvSpPr>
          <p:spPr>
            <a:xfrm>
              <a:off x="6414840" y="2840040"/>
              <a:ext cx="1647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112"/>
            <p:cNvSpPr/>
            <p:nvPr/>
          </p:nvSpPr>
          <p:spPr>
            <a:xfrm>
              <a:off x="8062560" y="2840040"/>
              <a:ext cx="612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113"/>
            <p:cNvSpPr/>
            <p:nvPr/>
          </p:nvSpPr>
          <p:spPr>
            <a:xfrm>
              <a:off x="8062560" y="2840040"/>
              <a:ext cx="6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4"/>
            <p:cNvSpPr/>
            <p:nvPr/>
          </p:nvSpPr>
          <p:spPr>
            <a:xfrm>
              <a:off x="8062560" y="2840040"/>
              <a:ext cx="0" cy="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115"/>
            <p:cNvSpPr/>
            <p:nvPr/>
          </p:nvSpPr>
          <p:spPr>
            <a:xfrm>
              <a:off x="618840" y="2846520"/>
              <a:ext cx="432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16"/>
            <p:cNvSpPr/>
            <p:nvPr/>
          </p:nvSpPr>
          <p:spPr>
            <a:xfrm>
              <a:off x="618840" y="2846520"/>
              <a:ext cx="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117"/>
            <p:cNvSpPr/>
            <p:nvPr/>
          </p:nvSpPr>
          <p:spPr>
            <a:xfrm>
              <a:off x="2090520" y="2846520"/>
              <a:ext cx="432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118"/>
            <p:cNvSpPr/>
            <p:nvPr/>
          </p:nvSpPr>
          <p:spPr>
            <a:xfrm>
              <a:off x="2090520" y="2846520"/>
              <a:ext cx="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119"/>
            <p:cNvSpPr/>
            <p:nvPr/>
          </p:nvSpPr>
          <p:spPr>
            <a:xfrm>
              <a:off x="3476520" y="2846520"/>
              <a:ext cx="576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20"/>
            <p:cNvSpPr/>
            <p:nvPr/>
          </p:nvSpPr>
          <p:spPr>
            <a:xfrm>
              <a:off x="3476520" y="2846520"/>
              <a:ext cx="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21"/>
            <p:cNvSpPr/>
            <p:nvPr/>
          </p:nvSpPr>
          <p:spPr>
            <a:xfrm>
              <a:off x="5182920" y="2846520"/>
              <a:ext cx="612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122"/>
            <p:cNvSpPr/>
            <p:nvPr/>
          </p:nvSpPr>
          <p:spPr>
            <a:xfrm>
              <a:off x="5182920" y="2846520"/>
              <a:ext cx="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123"/>
            <p:cNvSpPr/>
            <p:nvPr/>
          </p:nvSpPr>
          <p:spPr>
            <a:xfrm>
              <a:off x="6410160" y="2846520"/>
              <a:ext cx="432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124"/>
            <p:cNvSpPr/>
            <p:nvPr/>
          </p:nvSpPr>
          <p:spPr>
            <a:xfrm>
              <a:off x="6410160" y="2846520"/>
              <a:ext cx="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25"/>
            <p:cNvSpPr/>
            <p:nvPr/>
          </p:nvSpPr>
          <p:spPr>
            <a:xfrm>
              <a:off x="8062560" y="2846520"/>
              <a:ext cx="6120" cy="65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26"/>
            <p:cNvSpPr/>
            <p:nvPr/>
          </p:nvSpPr>
          <p:spPr>
            <a:xfrm>
              <a:off x="8062560" y="2846520"/>
              <a:ext cx="0" cy="65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71"/>
            <p:cNvSpPr/>
            <p:nvPr/>
          </p:nvSpPr>
          <p:spPr>
            <a:xfrm>
              <a:off x="6414840" y="3502080"/>
              <a:ext cx="16473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268"/>
            <p:cNvSpPr/>
            <p:nvPr/>
          </p:nvSpPr>
          <p:spPr>
            <a:xfrm>
              <a:off x="607680" y="3502080"/>
              <a:ext cx="746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802.11 FIA PAR 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ieving that the FIA PAR contained in the document referenced below meets IEEE-SA guidelines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 to forward the 802.11 FIA PAR information contained from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1-10-1152r1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 Nes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Result: 70,0,4 (PAR)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,0,4 (5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1152-01-0fia-fast-initial-link-set-up-par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e: </a:t>
            </a:r>
            <a:r>
              <a:rPr b="1" lang="en-US" sz="20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s://mentor.ieee.org/802.11/dcn/10/11-10-1153-00-0fia-fast-initial-link-set-up-5c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日付プレースホルダ 3"/>
          <p:cNvSpPr/>
          <p:nvPr/>
        </p:nvSpPr>
        <p:spPr>
          <a:xfrm>
            <a:off x="4021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フッター プレースホルダ 4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スライド番号プレースホルダ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lide </a:t>
            </a:r>
            <a:fld id="{4EA030E1-B916-4404-BB73-F70150A2D4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1"/>
          <p:cNvSpPr/>
          <p:nvPr/>
        </p:nvSpPr>
        <p:spPr>
          <a:xfrm>
            <a:off x="4021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2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14BED5-9691-4D8A-A134-7281A519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152388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73EB18-BB23-4B79-98B6-8DCA31866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otion – Conditional Approval to send P802.11u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for conditional approval to forward P802.11u D13.0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Bruce Kraemer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Result:  44, 0, 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in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72-03-000u-tgu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EC Motion – Conditional Approval to send P802.11v to Rev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the IEEE 802 Executive Committee for conditional approval to forward P802.11v D16.0 to RevC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Result: 40,0,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ort in: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https://mentor.ieee.org/802.11/dcn/10/11-10-0800-08-000v-tgv-ec-report-to-revcom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atisfied Comments in: </a:t>
            </a:r>
            <a:r>
              <a:rPr b="1" lang="en-GB" sz="2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http://www.ieee802.org/11/temp/2010-11-08%20TGv%20D15.0%20Report.pd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Date Placeholder 1"/>
          <p:cNvSpPr/>
          <p:nvPr/>
        </p:nvSpPr>
        <p:spPr>
          <a:xfrm>
            <a:off x="4021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4CA8A6D-0EE0-4C84-A66C-BC31372F6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23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tion 802.11 revision pla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quest RevCom extend P802.11 by two years, as described in the IEEE-SA Operations Manual subclause 8.1.2,  and as supported by the schedule described in document IEEE 802.11-10/0705r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11 Result: 42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e: https://mentor.ieee.org/802.11/dcn/10/11-10-0705-02-0000-802-11-revision-summary.pp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Date Placeholder 3"/>
          <p:cNvSpPr/>
          <p:nvPr/>
        </p:nvSpPr>
        <p:spPr>
          <a:xfrm>
            <a:off x="4021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67323D1-3C95-4502-A2F3-424836D2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389520" y="3366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69F9226-4C8D-4FD1-BE01-324DADC35A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JTC1 Motion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2400" cy="46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e to liaise the letter contained in 11-10-1359r0 to ISO/IEC JTC1/SC6. This letter provides a request to SC6 to obtain identifiers for WAPI from the IEEE 802.11 ANA. The letter should be sent to the SC6 Secretariat for distribution to the membership of ISO/IEC JTC1/SC6. The IEEE 802 and IEEE 802.11 Chairs are authorised to make any necessary editorial chan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conded: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WG11 Result: 43,0,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ee: https://mentor.ieee.org/802.11/dcn/10/11-10-1359-00-0jtc-proposed-liaison-letter-to-sc6-in-relation-to-identifiers.do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389520" y="3366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EDA4C1-8D74-42BB-8733-70423BFEAC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JTC1 Motion 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ve to liaise the letter contained in 11-10-1358r1 to ISO/IEC JTC1/SC6. This letter provides a response to some of the material in ISO/IEC JTC 1/SC6 N 14436. The letter should be sent to the SC6 Secretariat for distribution to the membership of ISO/IEC JTC1/SC6. The IEEE 802 and IEEE 802.11 Chairs are authorised to make any necessary editorial chang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ved: 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conded: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G11 Result:  40,0,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e: https://mentor.ieee.org/802.11/dcn/10/11-10-1358-01-0jtc-proposed-liaison-letter-to-sc6-in-relation-to-n14436.do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FIA SG Extens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ve to extend the 802.11 FIA Study Grou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ved: Bruce Kraem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ed: Bob He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Result: For: 68, 0,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Date Placeholder 3"/>
          <p:cNvSpPr/>
          <p:nvPr/>
        </p:nvSpPr>
        <p:spPr>
          <a:xfrm>
            <a:off x="402120" y="334800"/>
            <a:ext cx="153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vember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ooter Placeholder 4"/>
          <p:cNvSpPr/>
          <p:nvPr/>
        </p:nvSpPr>
        <p:spPr>
          <a:xfrm>
            <a:off x="7534440" y="6475320"/>
            <a:ext cx="1552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uce Kraemer (Marve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EB74F3-25EB-48F1-8085-68CE0FCE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Bruce Kraemer</dc:creator>
  <dc:description/>
  <dc:language>en-US</dc:language>
  <cp:lastModifiedBy>Stephens, Adrian P</cp:lastModifiedBy>
  <cp:lastPrinted>1998-02-10T13:28:06Z</cp:lastPrinted>
  <dcterms:modified xsi:type="dcterms:W3CDTF">2010-11-12T18:30:21Z</dcterms:modified>
  <cp:revision>2175</cp:revision>
  <dc:subject/>
  <dc:title>WG11 Revision Process Summary</dc:title>
</cp:coreProperties>
</file>