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43C-64DD-4396-86F3-F289A496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ED6-050E-4D34-BEEB-74E4F091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61B2-6D7C-4B73-8EED-CB131BB1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16B-EC82-45AC-B05A-087F24116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3DC-531D-4366-B525-96407A9D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D501-5C6D-435E-9A8D-D77659C0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C5E9-582F-4FAD-8B2D-CE5DD6CD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0038-5D67-4A76-865D-80AE6C75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5196-B999-49F0-82BA-6306C6B4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ABF-9D7C-4CA2-8EA4-063BF77F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5CB-2F16-4C5E-9B21-AF075DB1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3CD5-0C45-4E1C-A044-6D7C7FC1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62C1679-D2F4-4002-99E3-7A4D78C03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796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133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eee802.org/PARs/2010-11/new-seaman-AEbk-par-1010.pdf" TargetMode="External"/><Relationship Id="rId2" Type="http://schemas.openxmlformats.org/officeDocument/2006/relationships/hyperlink" Target="http://ieee802.org/PARs/2010-11/new-seaman-AEbk-5c-1010.pdf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eee802.org/PARs/2010-11/new-seaman-AEbk-par-1010.pdf" TargetMode="External"/><Relationship Id="rId2" Type="http://schemas.openxmlformats.org/officeDocument/2006/relationships/hyperlink" Target="http://ieee802.org/PARs/2010-11/new-seaman-AEbk-5c-1010.pdf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ents for 802-1-AEbn PAR for Nov 2010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0-11-0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15880" y="2279520"/>
          <a:ext cx="8139240" cy="24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2279520"/>
                    <a:ext cx="813924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5B5-37AE-4C39-9EAB-98F98B00D6D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s from the 802.11 PAR AdHoc to 802.1 WG regarding 802 PAR under consideration: 802.1AEb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06D-7494-42AE-8BC0-D1655D2FEF3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AEbn security amendment for Galois counter mode-Advanced Encryption Standard-256 (GCM-AES-256) cipher suite,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PA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5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1 title: Identify the document being amended, and include WG title and boiler plate.  Suggest add a semicolon between Security and amendme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1 Project Number: the PAR form listed for review has 802.1AEbk, the link indicates it should be AEbn, which should be correct?  Correct the incorrect on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2: Scope: suggest removal of “as well as the Default Cipher Suite, GC-AES-128”.  This is in the standard alread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C784-5097-4F6A-A866-F001BEAEA4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AEbn security amendment for Galois counter mode-Advanced Encryption Standard-256 (GCM-AES-256) cipher suite,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PAR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5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c – Title needs to be updated to the correct Project Number.  Check for usage in the 5c document to ensure consistent use of 802.1AEbn (remove “AEbk”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c-1a) Change “MACsec” to “MAC Security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c-2) Change “This will be fit” to “This will fit”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9A90-BA23-4F8F-B295-4E17B42F2F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 AdHoc meeting not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-10-1321r0 - Comments for Nov 2010 EC PAR proposa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70CE-404E-4138-88BA-09A85543F8E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8:12:00Z</dcterms:created>
  <dc:creator>Jon Rosdahl</dc:creator>
  <dc:description/>
  <dc:language>en-US</dc:language>
  <cp:lastModifiedBy>jr05</cp:lastModifiedBy>
  <cp:lastPrinted>1998-02-10T13:28:06Z</cp:lastPrinted>
  <dcterms:modified xsi:type="dcterms:W3CDTF">2010-11-09T18:18:42Z</dcterms:modified>
  <cp:revision>1</cp:revision>
  <dc:subject/>
  <dc:title>Comments for 802-1-AEbn PAR for Nov 2010 </dc:title>
</cp:coreProperties>
</file>