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37B5-DDBE-408D-8DE8-17AD6D2F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B2EC-7D87-4B03-ADE6-DDD569A6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AAEF-16DA-460D-8B0A-1219E303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4EEB-B4A6-4C32-912C-08F1645C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EB1-0FF5-474E-A2F2-4FFEAD7D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3C8E-4114-40FE-9FC5-F66E5C46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70B1-8BAF-444B-89C9-E9F282C95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B9F5-3637-4580-AD51-A473D837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A29-0549-4710-9233-FD419510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1E3C-CBBD-4A27-AD5B-6581C59D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A9C-B987-40E5-9821-963FF949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379-2880-44CA-9CFE-51823CB8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A03524-923F-4481-B67D-24736001D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1335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entor.ieee.org/802.15/dcn/10/15-10-0260-08-mban-medical-body-area-networks-par.pdf" TargetMode="External"/><Relationship Id="rId2" Type="http://schemas.openxmlformats.org/officeDocument/2006/relationships/hyperlink" Target="https://mentor.ieee.org/802.15/dcn/10/15-10-0261-04-mban-medical-body-area-networks-5c.pdf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mentor.ieee.org/802.15/dcn/10/15-10-0260-08-mban-medical-body-area-networks-par.pdf" TargetMode="External"/><Relationship Id="rId2" Type="http://schemas.openxmlformats.org/officeDocument/2006/relationships/hyperlink" Target="https://mentor.ieee.org/802.15/dcn/10/15-10-0261-04-mban-medical-body-area-networks-5c.pdf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entor.ieee.org/802.15/dcn/10/15-10-0260-08-mban-medical-body-area-networks-par.pdf" TargetMode="External"/><Relationship Id="rId2" Type="http://schemas.openxmlformats.org/officeDocument/2006/relationships/hyperlink" Target="https://mentor.ieee.org/802.15/dcn/10/15-10-0261-04-mban-medical-body-area-networks-5c.pdf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mentor.ieee.org/802.15/dcn/10/15-10-0260-08-mban-medical-body-area-networks-par.pdf" TargetMode="External"/><Relationship Id="rId2" Type="http://schemas.openxmlformats.org/officeDocument/2006/relationships/hyperlink" Target="https://mentor.ieee.org/802.15/dcn/10/15-10-0261-04-mban-medical-body-area-networks-5c.pdf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mentor.ieee.org/802.15/dcn/10/15-10-0260-08-mban-medical-body-area-networks-par.pdf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ments for 802-15 PARs for Nov 201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11-0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5880" y="2279520"/>
          <a:ext cx="8139240" cy="249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2279520"/>
                    <a:ext cx="8139240" cy="24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25B4-6CB4-41FB-BD72-E0FA41467BD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4 amendment for low energy critical infrastructure monitoring (LECIM) networks, PAR and 5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c-5b) remove “the estimates” from the first sent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3903-7A7E-4BE3-9B14-9848B2E4725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 AdHoc meeting note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-10-1321r0 - Comments for Nov 2010 EC PAR proposa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03F-F06F-4BE7-9155-5DAB91545B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nts from the 802.11 PAR AdHoc to 802.15 WG regarding 802 PARs under consideration: 802.15.4j and 802.15.4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C415-34FE-4C90-8B5F-AB92A30AEF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4 amendment for medical body area network (MBAN) services,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PA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5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2 Scope: Add “new” prior to physical layer. Remove “current revision”, Add “IEEE” prior to 802.15.4. Spell out the Acronyms “FCC MBAN” and “MAC”.  Split the end of the sentence into a new sentence as follows: delete “and any” end sentence: “This amendment defines modifications to the MAC that support the new physical layer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385-9286-4F8C-BFDE-DEEFB9BB8F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5.4 amendment for medical body area network (MBAN) services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PA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5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4 Purpose: The Scope says that you are describing a new PHY not services.  Redo sentence. Delete “The definition of” in the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entence.  Expand what “15.4” and “15.4e” really are “IEEE 802.15.4 and IEEE P802.15.4e” would be better not having them specifically there to begin with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 deleting the Purpose Text and replace with “This amendment will not have a Purpose Statement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C9DD-2FFE-429C-96AE-104FE1E2DED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4 amendment for medical body area network (MBAN) services,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PA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5C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5 Need: Put in “IEEE” in front 802.15.4. and expand “15.4” to “IEEE 802.15.4”.  Expand acronyms “NPRM”.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gest change “FCC has made a” to “FCC has issued an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“This amendment” to This Project in the last senten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nge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entence: Delete “may”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937-C1C7-4FF1-93FF-F79F08F5C2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5.4 amendment for medical body area network (MBAN) services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PA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5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6 Stakeholders: change stakeholders statement as follo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akeholders include Medical equipment manufacturers, patients and healthcare providers both within hospitals and in residential environments along with service providers that offer remote support facilities.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1: similar scope: Expand the Yes description. Include a minimum of the missing “IEEE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33A-0385-4265-9E81-7150780865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5.4 amendment for medical body area network (MBAN) services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PAR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and 5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he 5C, make it the “Low Rate Wireless Personal Area Networks (WPAN-LR)” match…throughout the 5C.  Consider (LR-WPAN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date the 5C requirements to those found in LMSC OM 12.5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Distinct Identity: 802.15.6 is listed in 7.1, but not explained the Distinct Identity.  The current wording indicates that 15.6 is similar, and it is not clear as to the differences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 it is easy for readers….if it is a MBAN spectrum, how is that different from the 802.15.6 MBAN u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sing coexistance statem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130A-7463-4F9F-90A6-9C8AD18316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4 amendment for low energy critical infrastructure monitoring (LECIM) networks, PAR and 5C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2 Scope:  the scope statement should be what would be included in the final document.  It should be in present tense and describe the document content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4 Purpose: Consider deleting the Purpose Text and replace with “This amendment will not have a Purpose Statement.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5 Need for project: The text here looks like it should be included in the 5c responses.  This should be a clear statement of the need for the projec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6 Stakeholders: remove “government agencies, non-government agencies with equivalent interest and “ move “Location Based Services Suppliers and Users” to the front, and delete “in addition to “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57C-8121-49B9-AFD5-00885DB7884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5.4 amendment for low energy critical infrastructure monitoring (LECIM) networks, PAR and 5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1 Additional Notes: clean-up and remove extraneous information that should be in the 5c – Uniqueness and Distinct Ident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C, WPAN-LR make consistent use of the if LR is before or after WP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1 title: Add acronym  “LECIM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c-3-a) the first statement does not seem correct.  Suggest remove “uniquely”. Change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not adequately support the” to “does not support specific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“SCADA” and just say proprietary technolog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c-5a) make consistent the naming of the other W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F5B-806A-45E4-968C-8F8AF11866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18:00:28Z</dcterms:created>
  <dc:creator>Jon Rosdahl</dc:creator>
  <dc:description/>
  <dc:language>en-US</dc:language>
  <cp:lastModifiedBy>jr05</cp:lastModifiedBy>
  <cp:lastPrinted>1998-02-10T13:28:06Z</cp:lastPrinted>
  <dcterms:modified xsi:type="dcterms:W3CDTF">2010-11-09T18:18:52Z</dcterms:modified>
  <cp:revision>3</cp:revision>
  <dc:subject/>
  <dc:title>Comments for 802-15 PARs for Nov 2010</dc:title>
</cp:coreProperties>
</file>