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572080" y="97200"/>
            <a:ext cx="6415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287680" y="9000720"/>
            <a:ext cx="925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BFC777C-6839-494D-A935-629B28C4A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0/087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692640" y="97560"/>
            <a:ext cx="73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812480" y="900108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371834E-B498-465E-B8A2-98CDD3D74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67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B46A5E7F-3F9F-439D-9BEA-087E999ABD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oc.: IEEE 802.11-09/0674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673560" y="975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June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4053600" y="9001080"/>
            <a:ext cx="3394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ruce Kraemer, Marvell; Adrian Stephens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ge </a:t>
            </a:r>
            <a:fld id="{B4BD74BA-07AF-4C53-8A45-92509126D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B25-757B-42A3-886E-B0F0A73F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956-1939-4882-AE04-CB94FFFF1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4592-E133-4147-8F9C-F5729860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816B-4A68-47B3-8FA5-139BDC32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02F-7028-4D4B-AD22-68785991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F8C4-846E-4D27-A81C-14A87FFAD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FE6F-ECC8-4D25-BBCF-AD954433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6FE-E432-41C3-B70E-F16B4CFA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C461-613A-41FE-A7F0-D34EAAD2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509F-2BFE-4F86-ABF8-AA33ED9E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4CD3-EA7D-4913-8068-11670E04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384D-5F05-4CD3-806B-7C9425F5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0760" y="64767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C9112F-AE94-4121-B71A-893307A40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82200" y="334800"/>
            <a:ext cx="2364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11-10-0993-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802.11z conditional approval report to ExCo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205740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590920"/>
          <a:ext cx="7772400" cy="1447560"/>
        </p:xfrm>
        <a:graphic>
          <a:graphicData uri="http://schemas.openxmlformats.org/drawingml/2006/table">
            <a:tbl>
              <a:tblPr/>
              <a:tblGrid>
                <a:gridCol w="1447920"/>
                <a:gridCol w="1447560"/>
                <a:gridCol w="1768680"/>
                <a:gridCol w="1127160"/>
                <a:gridCol w="198108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a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zo Went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lco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aatweg 66, Breukelen, the Nether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31 65 283 62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wentink@qualcomm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ce Krae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v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8 Marvell Lane, Santa Clara, CA 95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1 (321) 427-40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kraemer@marvell.c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3276720" y="1752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-08-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3640" y="4460760"/>
            <a:ext cx="778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contains the P802.11z report to Ex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arding completion of Clause 14 conditions to submit to Rev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599-01EC-4B33-B867-AD11F92BCA4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6476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composite of all unsatisfied comments and the resolutions approved by the ballot resolution committee during sponsor ballot is attached.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 copy of the unsatisfied comments presented using MyBallot access database report format is attached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uble click on the icon to the right to open th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086600" y="2209680"/>
          <a:ext cx="914400" cy="77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2096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7162920" y="3886200"/>
          <a:ext cx="914400" cy="77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2920" y="388620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8781-7C24-4E52-9A0E-04A7603B708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z Timelin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676520"/>
          <a:ext cx="8229600" cy="3044880"/>
        </p:xfrm>
        <a:graphic>
          <a:graphicData uri="http://schemas.openxmlformats.org/drawingml/2006/table">
            <a:tbl>
              <a:tblPr/>
              <a:tblGrid>
                <a:gridCol w="4114800"/>
                <a:gridCol w="2228760"/>
                <a:gridCol w="1886040"/>
              </a:tblGrid>
              <a:tr h="45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th Recirculation Sponsor Ball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08-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08-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Com Submission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08-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ed RevCom submission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-08-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80880" y="4876920"/>
            <a:ext cx="82296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The RevCom submission occured while the 6th recirculation sponsor ballot was in progress, in accordance with RevCom policy section 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 The revised RevCom submission has been submitted at least 25 days prior to the SB meeting, in accordance with RevCom policy section 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084A-274B-4934-A0AC-8253831C5E1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80880" y="2209680"/>
            <a:ext cx="8229600" cy="31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Coordination: comment supplied by a Mandatory coordination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ot Required:  comment indicated as not required to satisfy vo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Satisfied:  comment required to satisfy voter that is indicated as satisfied either by the voter indicating satisfaction with the specific comment, or by voting yes in a subsequent bal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Known Unsatisfied: a comment that is indicated to be “required” by the voter,  and the voter is maintaining a “no” vote, and the voter has indicated they are unsatisfied with the comment re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Assumed Unsatisfied:  comment not meeting any of the above criteria – i.e., a comment that is indicated to be “required” by the voter,  and the voter is maintaining a “no” vote, and the voter has not responded when asked about their satisfaction with the comment resol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3F3-9B05-40CC-A129-A04166B8AEB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his document contains the P802.11z report to Ex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garding completion of Clause 14 conditions to submit to RevCom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D4DF-BBAD-44A2-A8FB-07EA15AFD1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eting the terms of conditional approval, as per LMSC OM Clause 1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Recirculation ballot is completed. Generally, the recirculation ballot and resolution should occur in accordance with the schedule presented at the time of conditional approval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allot occurred in accordance with the schedule presented to the EC in document 11-10/0993r0. An additional recirculation ballot was held in order to recirculate an approved change that the editor had omitted to imp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fter resolution of the recirculation ballot is completed, the approval percentage is at least 75% and there are no new valid DISAPPROVE votes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pproval percentage is 97%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no new valid disapprove v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technical changes, as determined by the WG Chair, were made as a result of the recirculation ballot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technical changes were made as a result of the recirculation ball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No new valid DISAPPROVE comments on new issues that are not resolved to the satisfaction of the submitter from existing DISAPPROVE voter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were no comments received, there are no new disapprove com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69696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1880433-7C78-4B20-B516-91FECEE79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3FF4-8EC6-4464-9FBE-BA3605B18C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eting the terms of conditional approval - continue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If the WG Chair determines that there is a new invalid DISAPPROVE comment or vote, the WG Chair shall promptly provide details to the Sponsor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he WG Chair shall immediately report the results of the ballot to the Sponsor including: the date the ballot closed, vote tally and comments associated with any remaining disapproves (valid and invalid), the WG responses and the rationale for ruling any vote invalid.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ballot closed on 2010-8-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mments associated with remaining disapproves and the WG responses are attached to slide 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Date Placeholder 3"/>
          <p:cNvSpPr/>
          <p:nvPr/>
        </p:nvSpPr>
        <p:spPr>
          <a:xfrm>
            <a:off x="696960" y="334800"/>
            <a:ext cx="121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ugust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1523520" y="64771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699BA0-A60A-4431-9F27-11145378F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7A2B-796C-4013-B2A0-1D10FC9AEC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EEE 802 Sponsor Ballot Results –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802.11z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3840" y="1600200"/>
          <a:ext cx="8907480" cy="4267080"/>
        </p:xfrm>
        <a:graphic>
          <a:graphicData uri="http://schemas.openxmlformats.org/drawingml/2006/table">
            <a:tbl>
              <a:tblPr/>
              <a:tblGrid>
                <a:gridCol w="895680"/>
                <a:gridCol w="1166760"/>
                <a:gridCol w="1166760"/>
                <a:gridCol w="584280"/>
                <a:gridCol w="1079280"/>
                <a:gridCol w="552600"/>
                <a:gridCol w="858600"/>
                <a:gridCol w="1084320"/>
                <a:gridCol w="797040"/>
                <a:gridCol w="722160"/>
              </a:tblGrid>
              <a:tr h="598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en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o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r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appro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st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ur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-10-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-11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2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2-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4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5-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5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6-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1.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7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-08-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990720" y="601992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D10.0 was not balloted due to an editorial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576-98F0-428D-A0E8-DA981C22284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mments by Ballot – P802.11z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314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09480" y="1523880"/>
          <a:ext cx="7848720" cy="4457520"/>
        </p:xfrm>
        <a:graphic>
          <a:graphicData uri="http://schemas.openxmlformats.org/drawingml/2006/table">
            <a:tbl>
              <a:tblPr/>
              <a:tblGrid>
                <a:gridCol w="768240"/>
                <a:gridCol w="924120"/>
                <a:gridCol w="1120680"/>
                <a:gridCol w="1185840"/>
                <a:gridCol w="1258920"/>
                <a:gridCol w="1332000"/>
                <a:gridCol w="1258920"/>
              </a:tblGrid>
              <a:tr h="754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af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ll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t Requir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is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nown Unsatis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med Unsatisf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t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7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1.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1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irc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990720" y="609588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D10.0 was not balloted due to an editorial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147-1C9C-481D-88ED-5A07D92290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295280" y="2149560"/>
          <a:ext cx="7193160" cy="1827000"/>
        </p:xfrm>
        <a:graphic>
          <a:graphicData uri="http://schemas.openxmlformats.org/drawingml/2006/table">
            <a:tbl>
              <a:tblPr/>
              <a:tblGrid>
                <a:gridCol w="1947960"/>
                <a:gridCol w="584280"/>
                <a:gridCol w="584280"/>
                <a:gridCol w="583920"/>
                <a:gridCol w="584280"/>
                <a:gridCol w="889200"/>
                <a:gridCol w="685800"/>
                <a:gridCol w="685800"/>
                <a:gridCol w="647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n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7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1.0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>
                        <a:alpha val="50000"/>
                      </a:srgbClr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 Roy (SR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Epstein (Interdigit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 Trainin (Int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by Commenter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4876920"/>
            <a:ext cx="6248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Assumed unsatisfied, no response to repeated e-mails to comm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*D10.0 was not balloted due to an editorial err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44EF-14A5-4E39-B937-32D012D68E4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ndatory coordin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905120"/>
          <a:ext cx="7772400" cy="416880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943280"/>
                <a:gridCol w="194292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ordination 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ra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EEE-SA Editorial (ME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6.0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July 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“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eets all editorial requirements. 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Quantities, Units and Letter Symb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(SCC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erms and Definitions (SCC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gistration Authority Committee (RA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ot requi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B1B-D6F0-4E62-AC69-8ACEBF5D045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Unsatisfied Comments – Topic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066680" y="1792440"/>
          <a:ext cx="7086600" cy="2431800"/>
        </p:xfrm>
        <a:graphic>
          <a:graphicData uri="http://schemas.openxmlformats.org/drawingml/2006/table">
            <a:tbl>
              <a:tblPr/>
              <a:tblGrid>
                <a:gridCol w="480060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#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to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ff-chann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me rou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caps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M. Wentink (Qualcomm), B.Kraemer (Marvel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5E7-9876-476C-A2B0-8B27C57044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Menzo Wentink</dc:creator>
  <dc:description/>
  <dc:language>en-US</dc:language>
  <cp:lastModifiedBy>Administrator</cp:lastModifiedBy>
  <cp:lastPrinted>1998-02-10T13:28:06Z</cp:lastPrinted>
  <dcterms:modified xsi:type="dcterms:W3CDTF">2010-08-31T11:48:19Z</dcterms:modified>
  <cp:revision>1179</cp:revision>
  <dc:subject/>
  <dc:title>TGz conditional approval report to ExCom</dc:title>
</cp:coreProperties>
</file>