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97200"/>
            <a:ext cx="6415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7680" y="9000720"/>
            <a:ext cx="925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C1F8EE7-B4D8-491F-9CD4-50177D045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09/067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4053600" y="9001080"/>
            <a:ext cx="339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ruce Kraemer, Marvell; Adrian Stephens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19F186EF-97C1-4D6E-A17B-4A5D4FC092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09/067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4053600" y="9001080"/>
            <a:ext cx="339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ruce Kraemer, Marvell; Adrian Stephens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D4C2D64E-4F19-4B27-8B72-FF6809B55F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872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812480" y="900108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9E9A227-DAD2-4D6F-8D47-14D65BCF6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489-A712-46AC-B780-9EB06C44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07D0-1BE5-4056-8E48-5B986E74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E9EB-890A-44C7-B320-E4BA3A8AF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5307-ACE0-4AD7-82FE-8F1EA996C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3A8C-B354-4605-A79B-1D84B386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816E-24BA-4736-B456-A92237D8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526F-FBC9-4637-81FF-750E29DC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8E6-D73D-4FB3-BFC8-1C126556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D320-3427-4EF0-8CB3-2DDFC6A6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0B1-27C3-4E56-B791-D3018DFF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5EE-B7E0-4293-8458-A84D91ED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B00D-E1BB-4EF2-B763-5564E475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076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A846CAC-A9F8-458D-B342-A5057E93D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82200" y="334800"/>
            <a:ext cx="236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0-0993-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802.11z conditional approval report to Ex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590920"/>
          <a:ext cx="7772400" cy="144756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768680"/>
                <a:gridCol w="1127160"/>
                <a:gridCol w="198108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zo Went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co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aatweg 66, Breukelen, the Nether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1 65 283 6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wentink@qualcomm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ce Krae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v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8 Marvell Lane, Santa Clara, CA 950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 (321) 427-40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kraemer@marvell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3276720" y="17524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0-08-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3640" y="446076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is document contains the P802.11z report to Ex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arding completion of Clause 14 conditions to submit to Rev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Wentink (Qualcomm), B.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C526-291C-4B9A-AFCE-33560468AE1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80880" y="2209680"/>
            <a:ext cx="822960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Ke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Coordination: comment supplied by a Mandatory coordination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ot Required:  comment indicated as not required to satisfy v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atisfied:  comment required to satisfy voter that is indicated as satisfied either by the voter indicating satisfaction with the specific comment, or by voting yes in a subsequent bal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Known Unsatisfied: a comment that is indicated to be “required” by the voter,  and the voter is maintaining a “no” vote, and the voter has indicated they are unsatisfied with the comment resol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Assumed Unsatisfied:  comment not meeting any of the above criteria – i.e., a comment that is indicated to be “required” by the voter,  and the voter is maintaining a “no” vote, and the voter has not responded when asked about their satisfaction with the comment resol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Wentink (Qualcomm), B.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B20F-FD4A-47D4-8EF3-4D1F04AAE85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is document contains the P802.11z report to Ex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arding completion of Clause 14 conditions to submit to Rev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Wentink (Qualcomm), B.Kraemer (Marvel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1677-D656-4196-B3C2-FF4B1B60164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EEE 802 Sponsor Ballot Results –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802.11z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3840" y="1600200"/>
          <a:ext cx="8907480" cy="4267080"/>
        </p:xfrm>
        <a:graphic>
          <a:graphicData uri="http://schemas.openxmlformats.org/drawingml/2006/table">
            <a:tbl>
              <a:tblPr/>
              <a:tblGrid>
                <a:gridCol w="895680"/>
                <a:gridCol w="1166760"/>
                <a:gridCol w="1166760"/>
                <a:gridCol w="584280"/>
                <a:gridCol w="1079280"/>
                <a:gridCol w="552600"/>
                <a:gridCol w="858600"/>
                <a:gridCol w="1084320"/>
                <a:gridCol w="797040"/>
                <a:gridCol w="722160"/>
              </a:tblGrid>
              <a:tr h="598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appr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t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-10-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-11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2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2-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8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4-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5-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5-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6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1.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7-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8-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8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8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8-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8-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990720" y="6019920"/>
            <a:ext cx="62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10.0 was not balloted due to an editorial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Wentink (Qualcomm), B.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83D-3862-42F2-B72B-95DF09B9754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s by Ballot – P802.11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09480" y="1523880"/>
          <a:ext cx="7848720" cy="4457520"/>
        </p:xfrm>
        <a:graphic>
          <a:graphicData uri="http://schemas.openxmlformats.org/drawingml/2006/table">
            <a:tbl>
              <a:tblPr/>
              <a:tblGrid>
                <a:gridCol w="768240"/>
                <a:gridCol w="924120"/>
                <a:gridCol w="1120680"/>
                <a:gridCol w="1185840"/>
                <a:gridCol w="1258920"/>
                <a:gridCol w="1332000"/>
                <a:gridCol w="1258920"/>
              </a:tblGrid>
              <a:tr h="75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qui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is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nown Unsatis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med Unsatis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8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8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1.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990720" y="6095880"/>
            <a:ext cx="62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D10.0 was not balloted due to an editorial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Wentink (Qualcomm), B.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417-3253-4EDB-B96F-D2EDA70212F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1295280" y="2149560"/>
          <a:ext cx="7193160" cy="1827000"/>
        </p:xfrm>
        <a:graphic>
          <a:graphicData uri="http://schemas.openxmlformats.org/drawingml/2006/table">
            <a:tbl>
              <a:tblPr/>
              <a:tblGrid>
                <a:gridCol w="1947960"/>
                <a:gridCol w="584280"/>
                <a:gridCol w="584280"/>
                <a:gridCol w="583920"/>
                <a:gridCol w="584280"/>
                <a:gridCol w="889200"/>
                <a:gridCol w="685800"/>
                <a:gridCol w="685800"/>
                <a:gridCol w="647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11.0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1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 Roy (SR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Epstein (Interdigit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 Trainin (Int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 by Commen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4876920"/>
            <a:ext cx="6248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Assumed unsatisfied, no response to repeated e-mails to comm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*D10.0 was not balloted due to an editorial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Wentink (Qualcomm), B.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602-554F-4DDA-A9DB-4666DA2155D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ndatory coordin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85800" y="1905120"/>
          <a:ext cx="7772400" cy="4168800"/>
        </p:xfrm>
        <a:graphic>
          <a:graphicData uri="http://schemas.openxmlformats.org/drawingml/2006/table">
            <a:tbl>
              <a:tblPr/>
              <a:tblGrid>
                <a:gridCol w="2743200"/>
                <a:gridCol w="1143000"/>
                <a:gridCol w="1943280"/>
                <a:gridCol w="1942920"/>
              </a:tblGrid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ordination E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a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EEE-SA Editorial (ME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6.0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July 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“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eets all editorial requirements. 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antities, Units and Letter Symb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SCC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rms and Definitions (SCC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stration Authority Committee (RA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Wentink (Qualcomm), B.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ACB-EB16-4248-AF39-26C50BC6E6F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 – Top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66680" y="1792440"/>
          <a:ext cx="7086600" cy="2431800"/>
        </p:xfrm>
        <a:graphic>
          <a:graphicData uri="http://schemas.openxmlformats.org/drawingml/2006/table">
            <a:tbl>
              <a:tblPr/>
              <a:tblGrid>
                <a:gridCol w="4800600"/>
                <a:gridCol w="228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Com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-chann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me rou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caps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Wentink (Qualcomm), B.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25FD-1627-4EEE-BC44-98518555025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composite of all unsatisfied comments and the resolutions approved by the ballot resolution committee during sponsor ballot is attached.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uble click on the icon to the right to open th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 copy of the unsatisfied comments presented using MyBallot access database report format is attached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uble click on the icon to the right to open th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086600" y="2209680"/>
          <a:ext cx="914400" cy="77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20968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7162920" y="3886200"/>
          <a:ext cx="91440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388620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Wentink (Qualcomm), B.Kraemer (Marvel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0AC4-26CE-4388-A6C9-2F1EF8A849A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z Timel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76520"/>
          <a:ext cx="8229600" cy="3044880"/>
        </p:xfrm>
        <a:graphic>
          <a:graphicData uri="http://schemas.openxmlformats.org/drawingml/2006/table">
            <a:tbl>
              <a:tblPr/>
              <a:tblGrid>
                <a:gridCol w="4114800"/>
                <a:gridCol w="2228760"/>
                <a:gridCol w="1886040"/>
              </a:tblGrid>
              <a:tr h="45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circulation Sponsor Ball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08-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08-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Com Submission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08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 RevCom submission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09-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380880" y="4876920"/>
            <a:ext cx="8229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The RevCom submission occurs while the 6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ecirculation ballot is in pro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* The revised RevCom submission will be submitted 25 days prior to the SB meeting, according to RevCom policy section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Wentink (Qualcomm), B.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B190-1489-47C6-9AFF-E3A8A3B7D5E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Menzo Wentink</dc:creator>
  <dc:description/>
  <dc:language>en-US</dc:language>
  <cp:lastModifiedBy>Administrator</cp:lastModifiedBy>
  <cp:lastPrinted>1998-02-10T13:28:06Z</cp:lastPrinted>
  <dcterms:modified xsi:type="dcterms:W3CDTF">2010-08-19T19:45:52Z</dcterms:modified>
  <cp:revision>1154</cp:revision>
  <dc:subject/>
  <dc:title>TGz conditional approval report to ExCom</dc:title>
</cp:coreProperties>
</file>