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F9763C-D8FF-4B27-B722-DB26DCEFD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B9CFFE-C14F-4FFA-B6ED-FA73043F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AF23B2D-0805-4C9F-9BCC-A35359ECB6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9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4187160" y="9001080"/>
            <a:ext cx="20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9266E4-C18F-4F2F-8A91-2AC6EEF99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316CD6-AD18-4477-AF56-5B38E8BD18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2"/>
          <p:cNvSpPr/>
          <p:nvPr/>
        </p:nvSpPr>
        <p:spPr>
          <a:xfrm>
            <a:off x="4015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73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64548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6"/>
          <p:cNvSpPr/>
          <p:nvPr/>
        </p:nvSpPr>
        <p:spPr>
          <a:xfrm>
            <a:off x="4326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30013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358B40-3F4F-4EA5-B669-B2A3EEF3D2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14400" y="4414320"/>
            <a:ext cx="502920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B2BF-9A63-4030-B840-C8472F1D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CE18-4EE8-4835-92E0-EDEB08A3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447636-3D22-4813-AAF5-80A8D8AA0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A32CD-8A3D-4392-BDED-29C0F323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6FC69-0701-4F2A-A6C0-984EE71C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558BD-9BE8-4FA1-B427-3BE06985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2CE8C-F34B-4D39-8C2C-9E3FD027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FE1C4-C3DC-4883-8258-77C467BA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489DB-EB15-4F8B-AADD-E1A171AC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01D6E-5BC6-4FAF-8FD0-B65986B6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03BE5-D8F8-4425-ABA1-849CE39E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4443D-13C2-4E0D-9BBF-D59C3573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154-DE89-4F47-9684-0D647E3D6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FF091-75E3-4713-B647-F00A67F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708B9A-08F0-4ED5-904A-48592BE9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2071C-4D37-4E29-A85F-3FD5B07BB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3ABBF-44D5-4EC6-B262-120440F8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27060-6169-4F64-AFB1-2F696E0F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48876-210F-4086-B137-D50A39D0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99DC7-D635-4081-865F-98003836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251FA-B5F6-479F-A0DD-5149E676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4457-CC38-4143-B97F-7BF91374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DEC3F-0CAF-4DB7-A5C4-C2C78DC54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ABE-4CBE-42A5-827F-B95EE54E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0694C-ACBF-49DF-9C3B-F64E6AF5B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8C19EB-FAB3-4442-9EDE-9FE809A2A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6CCCE-B094-4466-860A-5E35FBEB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9688F-226A-47EB-A66E-61A20D02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3D521-E14B-45D1-9A74-AD8025BF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4B1B2-303D-4139-852D-C246688F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8B887C-0615-4C94-BFB0-2020407D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B4BC4-2053-48F7-B351-94C9F2A4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4A432-3C4B-4B8B-8596-6163511A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1D6138-9286-4B02-B6E8-5810C45F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368B-3918-47B4-9478-E2518B09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B36C6-FFDF-48C8-8C97-DD1C9803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19876-3884-463D-B05F-9552A69D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1A13F1-1A96-4E09-9ABC-BB92FBE9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57E78-DC92-4D10-9297-E316B061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4FB200-DB8D-407E-8DCF-C7011CEA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B5A0B-1413-409C-9434-E1271D6B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C4F05-BA18-4461-BE65-643BD61BD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97116-65ED-4CE6-9876-68A408E7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0ABBC0-AFE2-49F9-8D6F-072DF1AB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517C1-2775-46E5-9553-BAF4247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5022-892B-43F8-A391-3D0759B3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3A3E85-88FF-439A-B519-BF5133BD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6A52D3-C31D-47FD-9E07-534A6A37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E0AFD-F553-4A60-8D76-2B8393950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A88CF-0600-4830-8D08-A8C0A580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82421-C422-427A-8775-3D788BA2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5895-FA93-4745-9A5A-AE763700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364E-5130-40D2-B2DB-8B963537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A04F-F2F1-4820-B973-69DA74C3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67E9-D829-42E1-AB07-BB507D5F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B6C2-556A-4683-88E8-FD3A1AA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574-BDE5-423D-9E5C-19C6DFD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90D0-AF61-4476-80FA-CA431677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5908-F748-4488-98F9-7012681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EB6DC-407C-4C7B-8C49-BB226B63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1F4B-AA20-43B2-90F8-FB75362AD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BED2-89EA-48B5-9029-6D1B4E4D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EC035-F03C-44DC-A2D2-5249442F5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6CC01-2F99-4262-935B-3F4A26BD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C74A-401A-4969-9B4F-CA0EE793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4C0CA-0D07-43D0-B765-B6FD5D29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904E7-6CC3-4FB9-A00C-32FAE668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932-514A-449C-BBCB-D5A46E47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A4199-B584-4913-BB66-FC1B7DA9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F0EF2-0956-4AD2-92BC-25A9E016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1D0F-F89F-4994-B446-5B2AEE13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99B44-437C-4C9B-806B-268A98BF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B697-8C98-4115-9D71-A0FAF934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C6AF1-AA7B-4EFA-9841-BCA80FC5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6D673-6C72-4612-B0A2-A6C92B50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1530-8F73-451C-AED0-1CB1B813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6CD04-A4CD-4791-904E-D42E0FB9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7587F-9A46-4616-8849-AA9FF169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5E27-1F8F-497F-9B9A-330C31B6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D5DF-E46A-4836-A929-28965E5A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1481-B288-4011-97BE-EEC8FEF81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8F7F-5FE1-47AF-AACD-69DCB0D5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4C8B-BF91-4005-986B-BD8A0CD6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88E5-78AF-4D7E-B446-19DBE2A3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E0CA-DA1E-4629-B638-15B91784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9D683-3510-41D0-A86B-643A11E9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88C2B-1EF6-4D59-AC7E-57F6AC38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5B3C4-B832-4677-9717-2B192918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810A1-14E2-45AD-BB9E-8BF31A2D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133-1045-42B3-8DF1-B278874C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38040-47BB-4501-A800-3D598BAB9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D605-8683-4229-B871-D77E7C09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3EE25-C67D-43C9-8302-0BCA0B8E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39E0C-69D8-4318-9C57-98BEC6D8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22230-0E18-4D32-8D64-4DCB7382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DBDFB-18F1-48A3-96B5-D64026D6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8552D-D59F-4BAB-AA2D-B7FD377F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594E1-6C98-4BF4-9965-BA0920EE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EBB01-5C54-4344-A9B6-D3D3CF7F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BC2F-AFA2-4F09-BE5A-46F05A58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F890-54B8-49B6-9185-DEB3316B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7AA32-DF99-4391-B1E9-C4E7885B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B7D84-86E4-4FA4-9B3A-0D3E701C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E31C-8D7B-4413-BBDA-10AB5E77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F0C41-F88B-46E2-AFEA-5737A198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56554-C377-45B3-943D-878167DB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DCCA8-5A7C-4677-A43A-215DF3F0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87E5C-5D19-44B2-8C53-4892873C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BF432-6F70-47FE-B878-A1E1D24F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0DDAC-B486-43AD-829B-D2F6B4AE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F43BC-D347-4203-9BCE-41C020F0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89B-5B6D-4A1E-B23B-269B43B8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7A4FC-4D40-4815-A211-A7DC54C7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3E97B-8674-4A30-AB6F-805A8185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9DF51-4DF3-4C93-8532-51A69EED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66DA4-8EFB-464B-9406-0D2B0A5E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ED484-720B-4AD2-BE77-2D1F9921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BBDF4-B017-47DD-BBD1-7DAC4459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130A9-BF5E-48AF-B4E4-6804C56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1FBF5-F688-4336-A523-D714BF73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CEE70-BB16-44F1-AD6F-1A1E4438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25487-0CE8-4122-9715-796B14BB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9A00-4749-4DAB-A31B-30735B05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19290-F4D1-400D-AEF1-E9082F49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F935A-96C5-4C6E-AAD6-424C71E3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CCD9-E810-424B-A3F1-63CC6F35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652AE-35FF-4495-8AFE-EFB71E72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F5461-6909-4DC5-985D-6373548C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15B36-B378-41A2-81BF-5807C3ECB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24A7C-9928-418A-B814-2ACC2C77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5427-86E4-4514-9F71-A73E567D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4B4D-2DF5-4041-9DD8-8417C24B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21B92-4DB7-4187-8A97-055FF2C8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6690-9423-4A78-B308-BFF0B125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9840D-8137-4B73-8AC0-82F85A2D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A9E8E-18FA-40F0-B315-F89B6BEA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2EA96-5291-4FEB-ACB0-9954F52C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9A92B-7106-475D-AA9D-A35C87FF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59FE-08EB-4DF5-A579-0475FC45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93E59-6C44-47FA-9B79-3F0CF0DE1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6DC311-DF63-4AE0-82FB-F1899A7B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DFA5A-6B2A-4F05-A576-E644E1C06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A9799C-FBDF-400D-8F8C-4E444220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D4847F-30F8-44EC-8A47-6E914AF2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66A556-480D-4313-86FB-BCB6ABCEE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3CEE75-380E-4D04-8A42-E287DC46D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B06013-D46B-4170-A985-8BF1F885E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0C2C97-AAC0-4D8B-89EA-B5F6C95B8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49F5E7-A91D-4B6E-B641-93BABD172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BED1F1-5447-41B3-8B35-31C521767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3967C6-6E58-47C1-839F-AC2697C7F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0928DB-B1D9-41F6-85D3-EB28AFF7D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1A4E745-F8A8-4F60-8DE6-3ADD0DE71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5C2E05-E36A-476B-A649-1C9D592C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C40A02-F1B4-49A1-B15D-8C4FD43B2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935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F64E50-4731-4208-AD80-AD4EAECE5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001-13-0wng-900mhz-par-and-5c.doc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001-13-0wng-900mhz-par-and-5c.doc" TargetMode="External"/><Relationship Id="rId2" Type="http://schemas.openxmlformats.org/officeDocument/2006/relationships/hyperlink" Target="https://mentor.ieee.org/802.11/dcn/10/11-10-0001-13-0wng-900mhz-par-and-5c.doc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72-02-000u-tgu-ec-report-to-revcom.ppt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00-04-000v-tgv-ec-report-to-revcom.ppt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54-03-000z-tgz-ec-report-to-revcom.ppt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705-01-0000-802-11-revision-summary.ppt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4F48E7E-BAD0-4790-B662-B9CB82D4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ly 2010 WG11 Motions for the E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7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5" name="Object 11"/>
          <p:cNvGraphicFramePr/>
          <p:nvPr/>
        </p:nvGraphicFramePr>
        <p:xfrm>
          <a:off x="533520" y="2209680"/>
          <a:ext cx="7775280" cy="261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77528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31E989-29B1-489F-8585-CDAD7BF180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s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s PAR extension in 11-10/0597r1, extending the TGs PAR for an additional 1 year, and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597-01-000s-tgs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36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REVmb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REVmb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Group vote on the motion passes: y-n-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801-01-000m-tgmb-ec-approval-to-sb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0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05D6A8-8679-4F76-BC91-6A2C4CA7A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s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s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Group vote on the motion passes: y-n-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895-03-000s-p802-11s-report-to-ec-on-conditional-approval-to-go-to-sponsor-ballot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1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5330102-5371-4888-A5A5-2DBDCD7D9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 Sub-1-GHz SG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extend the 802.11 Sub-1-GHz study group to the end of the November plena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9,0,0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96498B-3CA2-412C-A1FD-57BC556B7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 Fast Initial Authentication SG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extend the 802.11 Fast Initial Authentication study group to the end of the November plena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3,0,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080136-72C9-488A-8063-18AE73481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Approval of JTC1 Representativ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pprove that Bruce Kraemer be appointed as the IEEE 802 representative at the ISO/IEC JTC1/SC6 meeting in London in September 201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8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13D730B-1B60-4AF1-9227-E3E22C0B0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formation Item - Smart Gri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934-00-0000-smart-grid-ad-hoc-closing-report-july-2010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B794AA-2C52-49A9-92E5-650896CC4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5137F8-39B3-4FB1-B29D-6118E75A0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art Grid -Report Publication Plan (likely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452520" y="4664160"/>
            <a:ext cx="158724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80240" y="2962440"/>
            <a:ext cx="55260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338040" y="2300400"/>
            <a:ext cx="97776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e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2130480" y="1768320"/>
            <a:ext cx="249120" cy="3724560"/>
          </a:xfrm>
          <a:custGeom>
            <a:avLst/>
            <a:gdLst>
              <a:gd name="textAreaLeft" fmla="*/ 0 w 249120"/>
              <a:gd name="textAreaRight" fmla="*/ 90000 w 249120"/>
              <a:gd name="textAreaTop" fmla="*/ 96840 h 3724560"/>
              <a:gd name="textAreaBottom" fmla="*/ 3627720 h 372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8"/>
          <p:cNvSpPr/>
          <p:nvPr/>
        </p:nvSpPr>
        <p:spPr>
          <a:xfrm>
            <a:off x="2510640" y="2952720"/>
            <a:ext cx="55260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0"/>
          <p:cNvSpPr/>
          <p:nvPr/>
        </p:nvSpPr>
        <p:spPr>
          <a:xfrm>
            <a:off x="3114720" y="4254480"/>
            <a:ext cx="1679400" cy="119124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1"/>
          <p:cNvSpPr/>
          <p:nvPr/>
        </p:nvSpPr>
        <p:spPr>
          <a:xfrm>
            <a:off x="5021280" y="4635360"/>
            <a:ext cx="167940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12"/>
          <p:cNvSpPr/>
          <p:nvPr/>
        </p:nvSpPr>
        <p:spPr>
          <a:xfrm>
            <a:off x="2157120" y="603900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13"/>
          <p:cNvSpPr/>
          <p:nvPr/>
        </p:nvSpPr>
        <p:spPr>
          <a:xfrm>
            <a:off x="3704760" y="59850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4"/>
          <p:cNvSpPr/>
          <p:nvPr/>
        </p:nvSpPr>
        <p:spPr>
          <a:xfrm>
            <a:off x="5615640" y="594216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15"/>
          <p:cNvSpPr/>
          <p:nvPr/>
        </p:nvSpPr>
        <p:spPr>
          <a:xfrm>
            <a:off x="6875640" y="4624560"/>
            <a:ext cx="1715400" cy="82548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temb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Interi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7158240" y="1654200"/>
            <a:ext cx="125676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GI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 Loui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17"/>
          <p:cNvSpPr/>
          <p:nvPr/>
        </p:nvSpPr>
        <p:spPr>
          <a:xfrm>
            <a:off x="6452640" y="3127320"/>
            <a:ext cx="1258200" cy="1008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0.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Sep 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18"/>
          <p:cNvSpPr/>
          <p:nvPr/>
        </p:nvSpPr>
        <p:spPr>
          <a:xfrm>
            <a:off x="8062920" y="2984400"/>
            <a:ext cx="98532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1.0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3168720" y="1609560"/>
            <a:ext cx="1679400" cy="119124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D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ll 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20"/>
          <p:cNvSpPr/>
          <p:nvPr/>
        </p:nvSpPr>
        <p:spPr>
          <a:xfrm>
            <a:off x="5075280" y="1657440"/>
            <a:ext cx="1679400" cy="8254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21"/>
          <p:cNvSpPr/>
          <p:nvPr/>
        </p:nvSpPr>
        <p:spPr>
          <a:xfrm>
            <a:off x="204840" y="5778360"/>
            <a:ext cx="1663560" cy="459720"/>
          </a:xfrm>
          <a:prstGeom prst="rect">
            <a:avLst/>
          </a:prstGeom>
          <a:noFill/>
          <a:ln w="1260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802 sup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22"/>
          <p:cNvSpPr/>
          <p:nvPr/>
        </p:nvSpPr>
        <p:spPr>
          <a:xfrm>
            <a:off x="796320" y="1608120"/>
            <a:ext cx="874080" cy="4597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3196080" y="2970360"/>
            <a:ext cx="1453320" cy="6426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inar/c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24"/>
          <p:cNvSpPr/>
          <p:nvPr/>
        </p:nvSpPr>
        <p:spPr>
          <a:xfrm>
            <a:off x="4755240" y="3068640"/>
            <a:ext cx="1630080" cy="36828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ebinars/call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- 802.11p Press Relea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802.11p press release contained in 11-10/0936r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936-00-0000-p802-11p-press-release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126A55-DA0A-4F72-9D6C-1DB40D13E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S1G PAR (superseded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ieving that the PAR contained in the document 11-10/0001r13 meets IEEE-SA guidelines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forward the 802.11 Sub-1GHz PAR information con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/0001r13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001-13-0wng-900mhz-par-and-5c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ult in the WG: 53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CAFCA86-DB99-49E6-A736-797FD8545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S1G PA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ieving that the PAR contained in the document 11-10/0001r13 meets IEEE-SA guidelines,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forward the 802.11 Sub-1GHz PAR information contained from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/0001r10  subject to the changes reflected in 11-10/0001r13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te: R10 was in the package circulated to the EC on Wednesday.  Changes to respond to comments are present in R13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Ls: </a:t>
            </a:r>
            <a:r>
              <a:rPr b="1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001-10-0wng-900mhz-par-and-5c.doc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0/11-10-0001-13-0wng-900mhz-par-and-5c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Result in the WG: 53,0,1 (on the original motio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2B05564-F5FA-4D2C-B816-E460CD710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u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 approval to forward P802.11u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11-10-0872-02-000u-TGu-EC-report-for-RevCom.ppt is the report the requirements for conditional approval to forward P802.11u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72-02-000u-tgu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sult in WG: 52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C16CB8-004D-4BF8-8222-DBF4330FD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v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 approval to forward P802.11v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0800-0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s the report on the requirements for conditional approval to forward P802.11v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00-04-000v-tgv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5,0,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F7E950-73AB-4AAB-B0D6-8235BC242A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z condition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t condition approval to forward P802.11z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cume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0854-03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s the report on the requirements for conditional approval to forward P802.11z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54-03-000z-tgz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3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8A586C-2D5C-4A8A-85BF-48624361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REVmb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RevCom extend P802.11REVmb by two years, as described in the IEEE-SA Operations Manual subclause 8.1.2,  and as supported by the schedule described in document IEEE 802.11-10/0705r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705-01-0000-802-11-revision-summary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102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0AF6CC-1B81-453E-B29C-14F3791E5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70C4D0-E60F-4BBC-A78F-9901DA91141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u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u PAR extension in 11-10-0607-02-000u-par-extension.doc, extending the TGu PAR for an additional 1 year, and forward the PAR Extension Request 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607-02-000u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52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79F5503-5149-4F03-A37C-B3A15F9688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– 802.11 TGv PAR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 to approve the TGv PAR extension in 11-10-0592-01-000v-par-extension.doc, extending the TGv PAR for an additional 1 year, and forward the PAR Extension Request to NESCOM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RL: https://mentor.ieee.org/802.11/dcn/10/11-10-0592-01-000v-par-extension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the WG: 38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-100</cp:lastModifiedBy>
  <cp:lastPrinted>1998-02-10T13:28:06Z</cp:lastPrinted>
  <dcterms:modified xsi:type="dcterms:W3CDTF">2010-07-16T19:41:32Z</dcterms:modified>
  <cp:revision>1055</cp:revision>
  <dc:subject/>
  <dc:title>802.11 2nd Vice Chair's Report May 2008</dc:title>
</cp:coreProperties>
</file>