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FE41E1-C67A-47D6-988A-E215EF7B6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92F161F-A458-478F-A783-1CD893A81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6BD1AC-1D9B-41FE-BB92-C7A4ED8D53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9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4187160" y="9001080"/>
            <a:ext cx="20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A830A22-6850-4AFB-9A35-5A88228D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0B188A-1FCD-4171-9928-C5933CD7C8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E3BD8DE-D97A-4385-BED2-5755D4FD6B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F578-F3B7-43F9-BD3A-59A77F2E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696F-05D2-4A86-A849-EA262A4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5844A-B41A-4CF0-B08D-D71D60B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D99FB-9DAC-41ED-AEBB-753FC576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0ABF3-0C5E-4319-AE89-7FAFB72BD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00689-F657-48BF-9DC4-6B9207C9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E7BC-C5CC-4809-AD85-BA8243ED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4878D8-970D-4178-B455-DA31052E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072F9-A696-4CB7-AE91-757AB13D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B8FD1-E416-4E83-B99B-D1C281A3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83EFC-953D-46A0-B269-E19467F98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39F70-488D-4451-B030-23DB6C86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12D-7410-41B2-B8CC-620C3565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05F2C0-28DA-4BD5-80E9-1906B69B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26595-441C-4C62-A434-AA14D2445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A07CF-95B2-4872-A6DE-0F0E8158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A53AC-9CA7-4C29-877A-C0197B64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E56F4-94CF-4197-B20E-598E4EDE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EE9532-FDC5-473D-A620-75C2002E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33F615-A677-4B58-A708-D25B94C6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801A5-48C1-48C3-85D6-869B1CB3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860082-F0A7-4FE6-AFBB-0753D3404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B3669B-75B8-4722-8BA8-E2D1199B0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F68-738A-4782-99D5-A1296A2F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314E25-2A3F-4738-ABEF-26100652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24885-A995-4A5F-BCA4-2F0ACC6F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37584-6095-45F0-B8B4-55B959FA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A8FFA-49A1-4CB4-AE36-AC1501F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0E519-DD86-4798-8E4C-1D6DF4D9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DBC0E-E3D7-429B-902E-6A812455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06953-7AA3-4A49-8526-C7E62366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A3F7A-2E76-481C-9BEE-353EF4F7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53FA4-FF66-4E94-A161-E85BEB3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15EC4-FF51-4060-8AE3-9755FCD4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26FD-1FB8-49C4-ACE5-6663A4A6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C11887-8753-4312-A290-9A8C9F7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CBAB8E-491D-4A7D-A1B9-D85799E5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84771-8CC6-4645-82B4-D7A4B93B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4D9D6-1836-421C-AB1B-16904CCC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93B62-5B0B-4234-9CB6-7CE9D278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3C325-B924-43BB-8450-266DFEA2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302B5-E53D-4E31-866B-845DE0B5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E5C9B-9B9C-49E8-9558-774002A7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F0C6EA-CD8F-465B-8877-E67D5E3F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D2E0F-9465-4869-98A6-3A6E0E64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DD2C-05A4-4DEC-80A9-15527E5C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EA73A-C514-4293-9A43-F64E801C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1A13C-9544-444F-BC8C-248698D0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6D2EB-C6BB-4A5D-9AC1-6A90C20B1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787078-FD7E-4A8E-AD28-AC9A3CBC3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406CB-2EBC-48FF-B43B-8B566D06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60F8-E4BC-4709-972E-21D27E00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4FE5-3DF5-4A67-A35E-4E612C07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5706-6379-4E39-A722-FB31456E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B02E-435C-4986-B202-35209986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7891-B2A4-4CA1-BD4E-9C33E838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EF97-79E6-41E8-A3E4-927202D3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9A41-AEE3-43C0-A04E-797E0B8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59E8-8B15-434C-96F9-25A3DDE7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2C9A-7477-4B9A-9096-7BAE71D8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B33F-719C-4603-861D-6379FD35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436C-38E4-462B-88B9-05D45B06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00199-6006-42AC-8E58-C79C90296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068C5-1F20-40B0-800E-0CED9B87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CFF5-B09A-4221-AD6E-080CE628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BC4A-090F-40B3-A318-73A3D31E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CEB9C-BDFE-420D-A93A-B0964A38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80E-12DE-43FD-8997-CD23254B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75C51-6539-420A-9CE9-C1559F48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721AE-4A67-41EC-AC42-91966D6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E569-85C7-4247-B644-EE995162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D7166-1A8A-4453-AB08-C547AF4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7AB7D-7902-4608-A2C1-109F14F4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1C5B-0625-4CC0-A9B1-32E0B9470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6D57-50AD-408C-9A7A-C1223B68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FB1FD-DBBF-48B2-90B0-671C8C2B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5A3C-5E11-428E-BF42-7AD66785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745E-FFE9-4A2E-87DE-DBA3A419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5E20-7791-40FD-B963-BDCC759B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FD9BC-3D06-4BC5-8B6D-61D0C005A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7436-8B2B-4C9F-B055-DEB90DDB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35524-4C3D-43C7-B16D-3903E9C5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B978-CEC1-4A69-9F69-DC0278E1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C475-2823-4378-B0F9-C987B0F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6F5B-83EF-44FF-8EB6-582CE0B7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A570-2DD7-4AD7-9540-219FC1F7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BC37F-1A56-4CAF-BAB7-A17C91C18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0C608-5EBB-4C6F-BCC2-D85BE64F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C77B-2764-4630-8286-B526CDDA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D26-6279-4964-9DC3-68AAA71A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2586-77F8-409C-B4E6-44D7AB10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2801B-4E30-419F-A951-1254D8D9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384EE-138B-4535-BBF3-D9EE018E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2E4F-E1F0-4ECC-801B-551A77FE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4AC03-A69E-4837-8AFF-BB2C21A8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220A9-C83B-4941-B0CB-4B139856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77004-455A-40F0-9404-3C00B5E6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D46F8-A6B1-47F7-A8E2-8552F8B2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DEF3C-5744-468E-BB78-5FDE1A34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F5E98-26FB-4687-8A7C-72E5FEFF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7E14-CBC4-49E9-8F70-1CBB5E3E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57A12-122B-422A-8931-0AAAF14C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A77CBA-6486-48C4-82CB-19882238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7A2A9-BF1D-483A-9252-A34C3F100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F4D4-9EB4-4E9B-8F7B-9216B65D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80B0-F000-45FF-BF0D-3C21FD98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5B4D7-8A4B-4F62-8B52-1EAC2E6E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A3AC99-84BE-4BD8-8A6B-63004174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4E8B3-3674-4E6F-B7F1-3BFA8BD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CBDDE-F036-4013-B873-2765B31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C1F50-1FE5-4264-996F-7EA9D476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1B5C-15FD-4887-BA3C-88760B6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C4CB-931C-42C1-9176-34E7946C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2B8F3-56D4-4C09-96D4-F63D5346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F73D0-8E93-45AF-B08D-13379E647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C707C-E0E3-488C-AF0D-DCC4A11E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7B627-BE0F-495D-90E0-2ABFEE8C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C8783-191C-4A96-A42B-D84EE80C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17C35-BF58-489C-A592-C896C260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57535-9CC6-4204-9CD5-F41EBAA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FCA62-8E55-40B9-A904-98C956A86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504F-BD34-47EF-A524-35CCFD2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AE04-9533-4CA0-92EC-B1681F3E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707B4-B219-4C36-AB6C-153FC91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E2431-3E3D-4B62-8C77-843B9226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43908-5899-44EC-B89F-95DD160F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03301-1A23-4EA5-960E-015E66CE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DBBD0-C3B7-441A-9042-F52486D44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2A873-735B-4CB6-B7D0-42E69AD23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A0FF6-B1C5-4352-B705-2BA40922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1E52C-8851-4733-BE2E-991CEC3F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68F90-E1C0-40C1-9789-8543C95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AF6E2-DCD9-4E27-B9BA-1E26D52D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665-F32F-4C58-9F3D-CB25930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754A-EA19-4B65-939D-88D3BC5E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67F41-6832-4F9F-98F3-024AF2D6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3844BD-4201-42F1-821F-C51194E0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D22EF-86AA-4C62-BC14-CF7E3769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723E8-5B00-475F-9C57-ECE162E6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2AC49-7298-49EB-ABD5-56C88864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6B017-F443-4011-982E-AFC651DD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BF547-133E-43C1-A8BE-2DED73C97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09F7E-928B-45CF-A405-C8CF34D5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062F9-3481-4DA6-8F46-A26FE301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FD79136-E161-400F-9021-BA4D10AF0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66334D-87B4-4288-8E6C-129D931B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B1AB29-48ED-41D2-B828-AC0571FA9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221992-58F5-4799-8074-5443AD73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50D958-335F-4796-994E-82C266A35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AF5FC56-C90F-4DDB-A0E4-208CC0DD4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A30370-927E-4CB1-A790-A34F10C59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80D7B2-AF0C-4FB7-A292-0C4F28E7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CE5851-C349-4C1D-8A86-210C5B495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944AAB-D9FF-4991-8BD3-2231FDEE97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0E3A6F-508C-4F2B-AE11-656F2EDA8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A5A937-1128-4A53-825E-3A56227D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001-13-0wng-900mhz-par-and-5c.doc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001-13-0wng-900mhz-par-and-5c.doc" TargetMode="External"/><Relationship Id="rId2" Type="http://schemas.openxmlformats.org/officeDocument/2006/relationships/hyperlink" Target="https://mentor.ieee.org/802.11/dcn/10/11-10-0001-13-0wng-900mhz-par-and-5c.doc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72-02-000u-tgu-ec-report-to-revcom.ppt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00-04-000v-tgv-ec-report-to-revcom.pp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54-03-000z-tgz-ec-report-to-revcom.ppt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705-01-0000-802-11-revision-summary.ppt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E218C0-161E-4BA3-8878-1B403E091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ly 2010 WG11 Motions for the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7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3520" y="2209680"/>
          <a:ext cx="7775280" cy="26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7752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B75699-F306-4E93-BEE2-E05A982E5B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s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s PAR extension in 11-10/0597r1, extending the TGs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7-01-000s-tgs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36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REVmb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REVmb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01-01-000m-tgmb-ec-approval-to-sb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0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486061-AADF-4104-9087-0A5A8601A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s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s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95-03-000s-p802-11s-report-to-ec-on-conditional-approval-to-go-to-sponsor-ballot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1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C42BE0-AAEA-4956-8157-F53D4BAE1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Sub-1-GHz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Sub-1-GHz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9,0,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B4C06DF-CF1B-40D7-8145-2B7029F69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Fast Initial Authentication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Fast Initial Authentication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3,0,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9A66A93-CBB8-4D9F-8138-B8AF6DF8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Approval of JTC1 Represent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pprove that Bruce Kraemer be appointed as the IEEE 802 representative at the ISO/IEC JTC1/SC6 meeting in London in September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BF14FC-3F1A-4534-8FED-B6F22F99F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ormation Item - Smart Gri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4-00-0000-smart-grid-ad-hoc-closing-report-july-2010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3F827A5-3932-41C0-80FF-BB982D0B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F94E488-D667-4AD0-AF98-EB971A957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 Grid -Report Publication Plan (likel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52520" y="4664160"/>
            <a:ext cx="158724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80240" y="296244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338040" y="2300400"/>
            <a:ext cx="97776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2130480" y="1768320"/>
            <a:ext cx="249120" cy="3724560"/>
          </a:xfrm>
          <a:custGeom>
            <a:avLst/>
            <a:gdLst>
              <a:gd name="textAreaLeft" fmla="*/ 0 w 249120"/>
              <a:gd name="textAreaRight" fmla="*/ 90000 w 249120"/>
              <a:gd name="textAreaTop" fmla="*/ 96840 h 3724560"/>
              <a:gd name="textAreaBottom" fmla="*/ 3627720 h 372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510640" y="295272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114720" y="4254480"/>
            <a:ext cx="1679400" cy="119124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5021280" y="4635360"/>
            <a:ext cx="1679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157120" y="6039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3704760" y="598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5615640" y="5942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6875640" y="4624560"/>
            <a:ext cx="1715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Inter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7158240" y="1654200"/>
            <a:ext cx="125676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G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Lou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52640" y="3127320"/>
            <a:ext cx="1258200" cy="1008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0.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Sep 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8062920" y="2984400"/>
            <a:ext cx="98532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1.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3168720" y="1609560"/>
            <a:ext cx="1679400" cy="119124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5075280" y="1657440"/>
            <a:ext cx="167940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204840" y="5778360"/>
            <a:ext cx="1663560" cy="45972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2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2"/>
          <p:cNvSpPr/>
          <p:nvPr/>
        </p:nvSpPr>
        <p:spPr>
          <a:xfrm>
            <a:off x="796320" y="1608120"/>
            <a:ext cx="87408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3196080" y="2970360"/>
            <a:ext cx="1453320" cy="6426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/c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4"/>
          <p:cNvSpPr/>
          <p:nvPr/>
        </p:nvSpPr>
        <p:spPr>
          <a:xfrm>
            <a:off x="4755240" y="3068640"/>
            <a:ext cx="1630080" cy="3682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s/cal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- 802.11p Press Rele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802.11p press release contained in 11-10/0936r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6-00-0000-p802-11p-press-release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E07E25-D0A9-4003-A235-AAAE4F3A6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S1G PAR (supersed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contained in the document 11-10/0001r13 meets IEEE-SA guidelines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forward the 802.11 Sub-1GHz PAR information con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/0001r13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001-13-0wng-900mhz-par-and-5c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 in the WG: 53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A42282-3D63-46F0-9475-385F6339D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S1G P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contained in the document 11-10/0001r13 meets IEEE-SA guidelines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forward the 802.11 Sub-1GHz PAR information con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/0001r10  subject to the changes reflected in 11-10/0001r13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te: R10 was in the package circulated to the EC on Wednesday.  Changes to respond to comments are present in R13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Ls: </a:t>
            </a:r>
            <a:r>
              <a:rPr b="1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001-10-0wng-900mhz-par-and-5c.doc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0/11-10-0001-13-0wng-900mhz-par-and-5c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sult in the WG: 53,0,1 (on the original mo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F2ABB9-294D-42AD-A9FA-11E0A0E4E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u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u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11-10-0872-02-000u-TGu-EC-report-for-RevCom.ppt is the report the requirements for conditional approval to forward P802.11u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72-02-000u-tgu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 in WG: 52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65A4EB-3FA8-4458-A6F6-5FABF3C6E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v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v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00-0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the report on the requirements for conditional approval to forward P802.11v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00-04-000v-tgv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5,0,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63FFCD-3ABF-4E39-A838-FB200723F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z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z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54-03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the report on the requirements for conditional approval to forward P802.11z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54-03-000z-tgz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3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915D5DB-2376-4A8B-A6EC-9B1DD12F5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REVmb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RevCom extend P802.11REVmb by two years, as described in the IEEE-SA Operations Manual subclause 8.1.2,  and as supported by the schedule described in document IEEE 802.11-10/0705r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705-01-0000-802-11-revision-summary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60C1F2-4D09-41E1-B81B-E7FEAC745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671C7D-5ACA-400C-8DB3-18D5C47470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u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u PAR extension in 11-10-0607-02-000u-par-extension.doc, extending the TGu PAR for an additional 1 year, and forward the PAR Extension Request 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607-02-000u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2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EBCCD0D-9A69-4995-B31B-E24080C51F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v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v PAR extension in 11-10-0592-01-000v-par-extension.doc, extending the TGv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2-01-000v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3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-100</cp:lastModifiedBy>
  <cp:lastPrinted>1998-02-10T13:28:06Z</cp:lastPrinted>
  <dcterms:modified xsi:type="dcterms:W3CDTF">2010-07-16T18:15:30Z</dcterms:modified>
  <cp:revision>1053</cp:revision>
  <dc:subject/>
  <dc:title>802.11 2nd Vice Chair's Report May 2008</dc:title>
</cp:coreProperties>
</file>