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06/052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5287680" y="9000720"/>
            <a:ext cx="925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3243E9-8112-4DE8-AB16-A3D36F858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6/0528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2279A74-6678-46E9-B67E-BBE18D674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40158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073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6454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4326480" y="900108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30013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505E04-DA8E-4EEA-9F98-9EBCEC6351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414320"/>
            <a:ext cx="50292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2"/>
          <p:cNvSpPr/>
          <p:nvPr/>
        </p:nvSpPr>
        <p:spPr>
          <a:xfrm>
            <a:off x="40158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93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6454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6"/>
          <p:cNvSpPr/>
          <p:nvPr/>
        </p:nvSpPr>
        <p:spPr>
          <a:xfrm>
            <a:off x="4187160" y="9001080"/>
            <a:ext cx="20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7"/>
          <p:cNvSpPr/>
          <p:nvPr/>
        </p:nvSpPr>
        <p:spPr>
          <a:xfrm>
            <a:off x="30013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0A2DAE-C416-48B5-9EDB-1E7EF6AAD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6/0528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Date Placeholder 4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0252B2C-2086-4552-9559-1DB712336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2"/>
          <p:cNvSpPr/>
          <p:nvPr/>
        </p:nvSpPr>
        <p:spPr>
          <a:xfrm>
            <a:off x="40158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073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6454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4326480" y="900108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30013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0721553-1041-46FB-9324-E95045077B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414320"/>
            <a:ext cx="50292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40158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073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6454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4326480" y="900108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30013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CE98ACE-8BA2-4E00-9DDB-29AE99E547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414320"/>
            <a:ext cx="50292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8A04-2310-4BC1-B9E7-E5873103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6D6-4CEF-4AAC-B9BA-0EF29101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6FD0B-EB34-4417-BCDD-09625614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8CB47-43AF-4806-8E50-BA531E87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499B8-FA0A-473C-866F-774078FD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4B853-C80E-4A61-AA50-AF194453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AFE5D-FB68-4466-A8CD-B5F7000A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B8CB3A-CB0A-4D4D-BB8F-FC3F473C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A0C59-3215-402C-B878-F4AB424E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58BA1-0FAB-4948-9620-66F12A88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B829A-5DC4-4869-9149-97D8B7C6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9948C6-F7F9-4D8A-BFD1-FC1391A5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03D-E4F8-40C4-A30A-872A116A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8ACDC-A303-4978-B8A8-4FA12C58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019F4-9D79-4ABB-B6C8-72327334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795A5-3D4D-4EC7-B288-2521D0B8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E7CE3-6BF0-431B-9543-C74F5D3B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39253-F157-40EA-AE01-BCC3D1B2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4718CB-FBFA-4F59-80E4-AC824FB3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C6096-7557-414F-A2A6-DF5342E7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2A9D9-4843-4807-AD1B-903ED19F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67255-358A-4E40-91D8-44019134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B1B9D-7CC5-4181-816E-B091546C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B12A-9A13-4793-9B36-085E69FC1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CE91A-BA21-487B-989C-7EEF64D3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7C28B-9E3C-45EF-B979-F7F401A8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F59B9-310F-4C39-A98D-907D57B8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794E4-B611-4418-BFD5-6724D430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7B9E2-073B-4865-8418-55A73961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9D711-30B7-4E63-85D1-EB31E683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6784E-1BDE-42A4-9A70-6636CB790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47B3D-665F-4024-BEDA-5B3C15AE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0A63F-421D-4A58-BB45-60E76F46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25515-FC10-49E7-9070-14513BDB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F535-EEB3-4B6D-A8F8-476DE30B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B7A7F-9DA6-4103-96BC-C44700FE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D97D2-0865-4C23-9151-3ADEF57E3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ACD77-FD0E-410A-8D5D-DC1EEE382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8A581-E926-4F86-8F87-84969CAA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7BBFB-26F3-490E-81DB-D7F5B344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D90C90-4306-4C65-9E1E-599B3D70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974E2-D393-40B9-9202-218FDFB0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1FC02-878E-4D2B-AAD8-8D7950C9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3311F9-885A-4A21-896E-461C8F18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F4AC73-D47B-4DAA-8D26-A384616F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F819-655B-48C3-A141-747A511F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9851A-F89C-48AB-A537-7B62A95B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B6602-DE1B-480B-9444-0BBB9E25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CE7986-E490-4C01-B7AB-1B0A6EF2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03BE1-3672-451F-AF01-6C288A6D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846F1-C87A-4F10-95EE-E3BBF5DE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9244-C21A-4CF6-9304-BD7257DE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AEB5-FB1E-44E6-8CBA-2C9E43FD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2F41-9CF6-4645-B47D-738923B7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298D-F5B7-4D0C-93A3-D95B8975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B118-00DD-44CD-B581-278E3C9F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DD4-BA22-4068-84A3-1C5F309A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8669-F4F0-436C-ADE5-CA35198C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3A96-356F-4BE3-A508-EC6214FF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981E-25C7-456F-8AC2-9B9A2C84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CED6-7A0C-400A-A6A0-4B73AFEC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337D-04C3-404D-BC66-37475950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0386D-599F-4C85-8612-98477B29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01176-19FD-47F9-BE01-9FF14C41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BA258-10C5-4090-AC45-B799473F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04DAB-9A33-49DD-9F0A-FCA12E0A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711F9-4EBE-45EC-8128-3EC77388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1D64-7FF9-4A7C-A71C-2C22E411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7BBCF-2CA1-49B9-9159-1879AF6A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DBF50-8701-4959-BC8A-2E96511F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1025A-CBF9-4F9D-B9A2-A9EA33F0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D844-2814-4F0A-8F28-F416540C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11AED-E607-4704-8485-E9D04B02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15F28-F427-4785-9382-4C9BFE59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E9C08-EB0F-48CA-B7FD-78888C74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68F82-69C0-4A9C-B1D6-95FF719F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F5C9F-7E63-40A2-95E4-D24F3101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6206D-DED9-4593-8385-72608DF6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11B4-D97B-44F7-8EED-9E78BD32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1C8A9-A616-4801-9F51-DE5D8C20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B010A-53FA-4748-A054-C8865B08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69122-AFE9-4833-998B-493CB3D6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E81B2-3856-46B8-AF4A-DEA1E96B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C300B-32FA-4F24-96EB-15168E44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EC855-BC94-4E74-8736-69D23ECA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9AB72-787C-478F-9F9C-DDB7F16A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0EDDA-7189-4399-A4BC-6DA9E475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072E5-1E25-4237-8A0F-5C0068F7F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14239-446D-4CAC-BB02-B9407FD3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176-74F6-48D0-948E-13335569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11EA6-0919-4CE1-BE71-E7BF9822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F1D1A-70F1-4673-88BD-6B47212C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99FC1-F08E-41CB-81BA-698D9AC0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231BC-7AB0-440D-9F09-5342CFA6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9D78C-E6F0-4467-AFCD-11ABD18A0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4CDC8-007E-4ED6-A316-83C033888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04B7C-4D05-482E-8114-F547154C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8BCA9-7CAB-49F9-84E7-11A67E5D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3B88B-F78B-44A6-B7B1-7006FDF0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F76DC-D6F0-42E0-B2EB-C7ED8EF7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75D4-F9D3-4150-954E-7288202F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E7806-DFE1-48CB-B1CD-B1252D0E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8CC6A-2A5D-4084-8C68-ECFFD53E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27700-6DBF-44CC-8987-881E91AD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544BD-EF5C-4AC2-AEA6-3FF9EC5F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4C5D4-C042-4208-9A06-DFF20DC4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E5279-C9F4-47B3-BB1F-C2F978E7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E833E-AF1C-406C-ADDE-2B66194C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74CD6-7AFD-4A13-95EA-FBD78647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07A6C-3103-4144-B663-5BB0DB96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294186-0856-432B-98A0-5DA57532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3EF-7156-4B6D-9704-5D258B33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CBB1F-879E-4127-BCD2-DA9599CE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822AF-0CD6-4D2C-907E-ED70C86D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D0E2A-1B6C-40F0-92EE-28241740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4E991-F4C5-46DB-8165-FD7F4681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2154D-E37D-4CC4-A3CF-0C00B60E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8A48C-4331-4B15-AE15-9CE64A1C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54C72-1A6F-40DD-91C2-8609E094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9B6A9-F394-4BED-ABD0-C0101FE6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1EE9E-8FC1-423C-A967-F8435543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D0A3A-808D-4E5A-AA74-CDDEF4DA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5776-C768-4083-A5CD-7FC3DAF4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FA0B1-AEEC-4E89-B856-ABEEC34A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3B7AB-7F0A-47D7-90CA-9A54AF60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992B3-26D8-47B0-B1E8-47F9949C5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8E285-C729-408E-BA87-D2824CAA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26760-F20F-4B29-AC49-30374443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4FFED-FE58-491D-A711-B67CBB5D0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E148C-CFE4-4779-9BEB-87B0AF0F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A396C-0C68-48D5-A985-31829470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A568D-7461-44AC-B9A0-6AC9F4CF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72C7A-BAD0-4FD8-9A48-0A999FD4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CDB-BED2-47CB-9AE3-8CF79C44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AB246-0272-42BB-9DFB-43726C47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4C439-D2F0-4A15-87AC-F472BD7F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D45B6-4E51-4BB2-92E5-B31C0BA4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5ED9EF-293F-4C69-8C96-879E2811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F727E1-188B-4D71-8FB3-352661E7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629C7-AF70-4A9F-A75F-1E3FA79A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887DF2-3398-43EA-8544-F10EB585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43B29-6072-4827-AF60-005B030F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C8BAD-6465-472B-876A-87036F74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0F5E6-3F56-462C-9962-80790F05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D2B78B-E98A-45A6-B80F-3857C1AFB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0D1E484-F3EA-4829-AADB-9C639787A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FC8D8B1-E986-4697-A8AE-F14611D94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07A156F-1C95-41AF-A51C-ADCD82B32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7A50098-6334-4E0C-8ACF-F22151B6B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67AE19A-C31C-425A-8430-C12F2BA6F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B29667F-F8E6-4AC3-9F64-64872CE39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0E1461A-0499-4EFA-A058-EE8F375DE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9B92B9E-7D60-49DC-8D05-13D2C56FAD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D2F3B3B-8248-46ED-8376-CFDFC1F85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EA23B4D-1B78-46EC-804E-63ACD3C46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AF0E9F5-17C6-4483-AD20-81B3FD5F4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001-13-0wng-900mhz-par-and-5c.doc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872-01-000u-tgu-ec-report-to-revcom.ppt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800-04-000v-tgv-ec-report-to-revcom.ppt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854-02-000z-tgz-ec-report-to-revcom.ppt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705-01-0000-802-11-revision-summary.ppt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F3FD4F1-4B12-4009-A4F7-CEEC6F1F8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ly 2010 WG11 Motions for the E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0-07-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522360" y="2276640"/>
          <a:ext cx="777564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2276640"/>
                    <a:ext cx="777564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2C0C4E1-9C91-49DA-A8A8-3C9BD4F93E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– 802.11 TGs PAR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approve the TGs PAR extension in 11-10/0597r1, extending the TGs PAR for an additional 1 year, and forward the PAR Extension Request to NESCOM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597-01-000s-tgs-par-extension.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REVmb to Sponsor Ball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nt conditional approval to forward P802.11REVmb to Sponsor Ballo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ing Group vote on the motion passes: y-n-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801-01-000m-tgmb-ec-approval-to-sb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311AB88-CE41-49D3-8CA7-25B182553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s to Sponsor Ball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nt conditional approval to forward P802.11s to Sponsor Ballo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ing Group vote on the motion passes: y-n-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895-01-000s-p802-11s-report-to-ec-on-conditional-approval-to-go-to-sponsor-ballot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5930154-7A66-4515-B226-FFDD505DE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 Sub-1-GHz SG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extend the 802.11 Sub-1-GHz study group to the end of the November plenar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4A5E3AD-2F55-4763-A382-DFB7F158B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 Fast Initial Authentication SG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extend the 802.11 Fast Initial Authentication study group to the end of the November plenar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0D975F9-F23B-46B5-84A1-C55ED3975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Approval of JTC1 Representati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pprove that Bruce Kraemer be appointed as the IEEE 802 representative at the ISO/IEC JTC1/SC6 meeting in London in September 20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CA542B-6920-4426-8EFB-3B6D2514D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formation Item - Smart Gri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934-00-0000-smart-grid-ad-hoc-closing-report-july-2010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B085752-E71C-4C7D-9D05-EDE11EF34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7565760" y="6475320"/>
            <a:ext cx="148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C6FCDC6-5C4C-4A41-A7A0-DD807F209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mart Grid -Report Publication Plan (likely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452520" y="4664160"/>
            <a:ext cx="1587240" cy="825480"/>
          </a:xfrm>
          <a:prstGeom prst="rect">
            <a:avLst/>
          </a:prstGeom>
          <a:noFill/>
          <a:ln w="1260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80240" y="2962440"/>
            <a:ext cx="55260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338040" y="2300400"/>
            <a:ext cx="97776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e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7"/>
          <p:cNvSpPr/>
          <p:nvPr/>
        </p:nvSpPr>
        <p:spPr>
          <a:xfrm>
            <a:off x="2130480" y="1768320"/>
            <a:ext cx="249120" cy="3724560"/>
          </a:xfrm>
          <a:custGeom>
            <a:avLst/>
            <a:gdLst>
              <a:gd name="textAreaLeft" fmla="*/ 0 w 249120"/>
              <a:gd name="textAreaRight" fmla="*/ 90000 w 249120"/>
              <a:gd name="textAreaTop" fmla="*/ 96840 h 3724560"/>
              <a:gd name="textAreaBottom" fmla="*/ 3627720 h 372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8"/>
          <p:cNvSpPr/>
          <p:nvPr/>
        </p:nvSpPr>
        <p:spPr>
          <a:xfrm>
            <a:off x="2510640" y="2952720"/>
            <a:ext cx="55260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10"/>
          <p:cNvSpPr/>
          <p:nvPr/>
        </p:nvSpPr>
        <p:spPr>
          <a:xfrm>
            <a:off x="3114720" y="4254480"/>
            <a:ext cx="1679400" cy="1191240"/>
          </a:xfrm>
          <a:prstGeom prst="rect">
            <a:avLst/>
          </a:prstGeom>
          <a:noFill/>
          <a:ln w="1260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f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1"/>
          <p:cNvSpPr/>
          <p:nvPr/>
        </p:nvSpPr>
        <p:spPr>
          <a:xfrm>
            <a:off x="5021280" y="4635360"/>
            <a:ext cx="1679400" cy="825480"/>
          </a:xfrm>
          <a:prstGeom prst="rect">
            <a:avLst/>
          </a:prstGeom>
          <a:noFill/>
          <a:ln w="1260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2"/>
          <p:cNvSpPr/>
          <p:nvPr/>
        </p:nvSpPr>
        <p:spPr>
          <a:xfrm>
            <a:off x="2157120" y="6039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3704760" y="5985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g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4"/>
          <p:cNvSpPr/>
          <p:nvPr/>
        </p:nvSpPr>
        <p:spPr>
          <a:xfrm>
            <a:off x="5615640" y="59421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5"/>
          <p:cNvSpPr/>
          <p:nvPr/>
        </p:nvSpPr>
        <p:spPr>
          <a:xfrm>
            <a:off x="6875640" y="4624560"/>
            <a:ext cx="1715400" cy="825480"/>
          </a:xfrm>
          <a:prstGeom prst="rect">
            <a:avLst/>
          </a:prstGeom>
          <a:noFill/>
          <a:ln w="1260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Interi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6"/>
          <p:cNvSpPr/>
          <p:nvPr/>
        </p:nvSpPr>
        <p:spPr>
          <a:xfrm>
            <a:off x="7158240" y="1654200"/>
            <a:ext cx="1256760" cy="8254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GI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 Lou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7"/>
          <p:cNvSpPr/>
          <p:nvPr/>
        </p:nvSpPr>
        <p:spPr>
          <a:xfrm>
            <a:off x="6452640" y="3127320"/>
            <a:ext cx="1258200" cy="1008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0.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Sep 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8"/>
          <p:cNvSpPr/>
          <p:nvPr/>
        </p:nvSpPr>
        <p:spPr>
          <a:xfrm>
            <a:off x="8062920" y="2984400"/>
            <a:ext cx="985320" cy="8254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1.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9"/>
          <p:cNvSpPr/>
          <p:nvPr/>
        </p:nvSpPr>
        <p:spPr>
          <a:xfrm>
            <a:off x="3168720" y="1609560"/>
            <a:ext cx="1679400" cy="119124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f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20"/>
          <p:cNvSpPr/>
          <p:nvPr/>
        </p:nvSpPr>
        <p:spPr>
          <a:xfrm>
            <a:off x="5075280" y="1657440"/>
            <a:ext cx="1679400" cy="8254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21"/>
          <p:cNvSpPr/>
          <p:nvPr/>
        </p:nvSpPr>
        <p:spPr>
          <a:xfrm>
            <a:off x="204840" y="5778360"/>
            <a:ext cx="1663560" cy="459720"/>
          </a:xfrm>
          <a:prstGeom prst="rect">
            <a:avLst/>
          </a:prstGeom>
          <a:noFill/>
          <a:ln w="1260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02 suppo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2"/>
          <p:cNvSpPr/>
          <p:nvPr/>
        </p:nvSpPr>
        <p:spPr>
          <a:xfrm>
            <a:off x="796320" y="1608120"/>
            <a:ext cx="87408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I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23"/>
          <p:cNvSpPr/>
          <p:nvPr/>
        </p:nvSpPr>
        <p:spPr>
          <a:xfrm>
            <a:off x="3196080" y="2970360"/>
            <a:ext cx="1453320" cy="64260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inar/c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24"/>
          <p:cNvSpPr/>
          <p:nvPr/>
        </p:nvSpPr>
        <p:spPr>
          <a:xfrm>
            <a:off x="4755240" y="3068640"/>
            <a:ext cx="1630080" cy="3682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inars/call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- 802.11p Press Relea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approve the 802.11p press release contained in 11-10/0936r0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936-00-0000-p802-11p-press-release.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13B427-0651-4593-B593-A3D916640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E62C091-888C-4DF1-9FEA-DFAED1872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Object 2"/>
          <p:cNvGraphicFramePr/>
          <p:nvPr/>
        </p:nvGraphicFramePr>
        <p:xfrm>
          <a:off x="685800" y="685800"/>
          <a:ext cx="5457960" cy="535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5457960" cy="53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S1G PA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ieving that the PAR contained in the document 11-10/0001r13 meets IEEE-SA guidelines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forward the 802.11 Sub-1GHz PAR information contained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-10/0001r13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 Nes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sult in the W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001-13-0wng-900mhz-par-and-5c.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165DCD-0CF6-4E09-B405-00E8B0854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u conditional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quest the IEEE 802 Executive Committee to conditionally approve forwarding P802.11u to Rev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cument 11-10-0872-01-000u-TGu-EC-report-for-RevCom.ppt is the report the requirements for conditional approval to forward P802.11u to Rev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872-01-000u-tgu-ec-report-to-revcom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BF09B8C-C598-4A04-B59D-36250A048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v conditional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quest the IEEE 802 Executive Committee to conditionally approve forwarding P802.11v to Rev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cum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-10-0800-04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s the report on the requirements for conditional approval to forward P802.11v to Rev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800-04-000v-tgv-ec-report-to-revcom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6E3B601-6850-4E45-979C-45AF173EC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z conditional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quest the IEEE 802 Executive Committee to conditionally approve forwarding P802.11z to Rev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cum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-10-0854-02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s the report on the requirements for conditional approval to forward P802.11z to Rev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854-02-000z-tgz-ec-report-to-revcom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05E2F71-11EB-45CE-B1EF-56F949B879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REVmb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quest RevCom extend P802.11REVmb by two years, as described in the IEEE-SA Operations Manual subclause 8.1.2,  and as supported by the schedule described in document IEEE 802.11-10/0705r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705-01-0000-802-11-revision-summary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573E557-03FB-405C-9712-B55E88250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8440223-B58E-469C-A185-B02359AA52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– 802.11 TGu PAR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approve the TGu PAR extension in 11-10-0607-02-000u-par-extension.doc, extending the TGu PAR for an additional 1 year, and forward the PAR Extension Request to NES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607-02-000u-par-extension.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924386E-A6E3-4304-B974-30520EE9B9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– 802.11 TGv PAR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approve the TGv PAR extension in 11-10-0592-01-000v-par-extension.doc, extending the TGv PAR for an additional 1 year, and forward the PAR Extension Request to NESCOM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592-01-000v-par-extension.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Adrian Stephens-100</cp:lastModifiedBy>
  <cp:lastPrinted>1998-02-10T13:28:06Z</cp:lastPrinted>
  <dcterms:modified xsi:type="dcterms:W3CDTF">2010-07-16T05:06:37Z</dcterms:modified>
  <cp:revision>1044</cp:revision>
  <dc:subject/>
  <dc:title>802.11 2nd Vice Chair's Report May 2008</dc:title>
</cp:coreProperties>
</file>