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dt" idx="46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 type="ftr" idx="47"/>
          </p:nvPr>
        </p:nvSpPr>
        <p:spPr>
          <a:xfrm>
            <a:off x="5287680" y="9000720"/>
            <a:ext cx="92556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 type="sldNum" idx="48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C7E1EB-CF26-416B-AAE2-4CBC49FEB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3"/>
          <p:cNvSpPr/>
          <p:nvPr/>
        </p:nvSpPr>
        <p:spPr>
          <a:xfrm>
            <a:off x="6465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0E9E58-E546-4A05-A11B-2357CDE3E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3"/>
          <p:cNvSpPr/>
          <p:nvPr/>
        </p:nvSpPr>
        <p:spPr>
          <a:xfrm>
            <a:off x="6465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E9E2E43-7AA5-4D17-9D6E-EA3A8FFBF1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3"/>
          <p:cNvSpPr/>
          <p:nvPr/>
        </p:nvSpPr>
        <p:spPr>
          <a:xfrm>
            <a:off x="6465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990D4F-2560-421E-A782-5D6CF8116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1B0921-D928-4A78-987B-06AFD2890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6465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BD6D8DC-558B-4F29-8ECA-9A61D5FE4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6465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8AA7123-53ED-4A41-B937-9EE042193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646560" y="97560"/>
            <a:ext cx="122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CC6A43-1BBD-4163-AB30-2E64725BA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39E7B1-E1EF-4B5E-A5D6-D8807694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3DB9-8D02-4F77-B305-665FB54AD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747-52ED-4DAE-B92A-AB89294A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EC0FE-0D9C-4077-B3E3-F66AF8FA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976D0-A6AF-47A1-B13B-C88E3FA4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F1ECA-C3A4-4F0A-A98D-77BE8DB9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776AD-C4E4-4D98-8E82-4E80E825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9BDBB5-8316-48D9-AD9E-544823A7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01B27-CD81-462A-8D47-1859D0E3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835B1-7135-4324-924A-AB9787B9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5DE25-8D0E-4901-AF74-C022248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925A72-3395-4E7E-A424-4EC04C1EB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B7A84-5078-47EA-963C-4CB04A280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505C-EE22-4D2D-8A4E-42836344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DD37A-82D9-473E-A6B1-0EBA3DEE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F6D20-E0C0-4B70-9EB9-A19E96B3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6C531-C5E6-4A89-BF90-D84E8DD0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D161C-8F2C-401C-A4AD-CB3758FE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DC3A0-EC7F-42D0-BCCE-0CE68245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0924D-7D64-47DD-B909-9AC27C23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40107-2D8F-4009-84E7-19E430CB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9EB84-B75A-4B82-879E-350DF3C5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1DB6A-D81F-4AC7-BEED-146EB130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7E266-2A4C-4266-A1C3-8884CEA7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CBFC-DCA3-4239-8D3C-D2927039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BD4FB-2B65-4278-ACAF-07260794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C3F6A-4F27-4488-9F9F-FA253761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9439C3-3D79-4F4C-8B1A-3C32358F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66E1C6-3CE6-4EF2-957F-67241A02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56DDF-7834-441E-9398-24B18FBD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AE214-52CD-4A1F-AE4F-D7FDC462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91F41-4D0E-49C7-9E73-A2879843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92199-6C53-41C6-8BDA-9DC6F328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1435D-842E-4392-9880-9F460409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BE607-976B-4E0B-ACC5-125CF31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4ACE-8927-4C5D-B158-8185C723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D79AF-4DDB-45EA-9791-AD00E7B0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15C2E-B28C-47CE-AB46-92EBE7191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AF3F0-01BC-485C-883D-F4EF22C0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5D23E-DD9C-4F1D-B5FD-9F07D0DA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F2B2C-128A-4E7F-99DB-268D39C1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E1C6D-16BF-48FD-9281-17825E86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D60C5-5FC6-47CE-9CC6-718A7C59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7CEA5-7E1A-4770-98A8-DDE32E47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7CB14-7568-4883-91F1-F4063D6F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28164-668D-43E6-B4DD-3D362BBA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2523-F6D7-4C03-AAD2-D2E95735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6DD65-C2B8-4F9D-88DD-4A7B3E24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F5E82-333F-42F8-97D4-B3C7C63A3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5E551-14A1-4861-BB65-B4FAA85C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52A34-DF3E-4690-8E86-99B23DC84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3ADFF-D841-4BA3-8FF9-A04C4949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F81582-98C4-48C4-BADE-B833FBDF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F2C855-9C4C-4552-AACE-C5036FF3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06D29-1A6A-4BB4-91AB-A7234199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5F385-8081-4C78-8D10-548A7F9A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BC38AA-5685-424E-8A88-807C7E17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4598-8586-4DBF-B98D-2F801856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C284D-C264-4D9F-8116-ED29952C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0AA15-9594-4F7D-A1CA-99BDFB0B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82EA38-7085-493C-B9E0-6CF55B4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B0393-3AEB-4248-BBEB-E2F41281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CFDACC-13DB-4C59-806F-AFC7900F1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D250C-591B-4638-B8F2-BE9D66A52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B8DC6-3AED-4482-8665-C2ECD29E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B07979-D0A3-48EB-B47F-CF952FDE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7524A-F34D-4343-8E7C-D3384110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03A3DD-5289-42D5-81DF-4B744CBD1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09A5-6859-4994-8DC4-52D12E94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965790-F6A9-4487-8FF9-358A5AB8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4A9B36-1CC9-4D3E-8524-D41A7D45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B7F04-F125-4F2E-87B9-F7FBEB1B2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40F96-0FF9-45D9-8102-384C7795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A0A1C-1DF1-4AFD-A360-D9396BB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7AC476-8FCD-444C-A256-65F5F073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5BAAF2-1944-40B2-B409-B1D0F7D7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E9F0A2-641D-4F22-83C5-9B04919E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A4D46-856F-4DDC-99C8-63A8DDDD4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3A8985-1457-4F96-A716-9362C8FB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77E8-4B3F-415F-ABCD-9117B740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B5A4D8-0239-4967-9081-A02CC91D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2B190-9AC4-422D-AA97-0C4F2A1A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E5053-F3C9-453B-B196-0D3EC16B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EF3257-FBEE-4306-9B10-F39F833A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F73129-13A2-44BB-A6E7-56D0536A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B070C-E5DB-49E5-A22F-1F1BCA0D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B210C2-5AB3-498E-BC3F-531ABC7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1843D-9124-42C7-AC77-4BD4BA93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D8BFC-835C-497E-8D05-8D353B34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CB1C1-947B-4615-9AFF-B5CD6E3A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6229-9DF9-4D2A-ADD2-6FE0D3FE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2A4F9-1121-4C44-9DE0-9EE6E5D1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7C81-A9D5-4B29-A65D-E8D9C7D5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064-AD4E-459F-A856-97F16D2F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9FE82-3E71-4C52-8DF0-1B92B3DD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C1FA-93B2-4D11-8196-4DF21F63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EBAD-C5DA-4166-AC2A-22855F76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2B43-7E34-4A70-A850-D1C3F3A4E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4FF4-A23C-48CF-953A-9633CEFA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BB195-9ABE-4188-9AF8-E2A61EE8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D749F-CD2D-4311-A1DE-A757B4E7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A78A8-5EED-4941-9841-C9C20E38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A841-501C-42E8-A440-88FB9C6F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50AB2-BB63-4FA5-ABA2-46E67DA1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01B-4407-4CCD-89EF-06AFE0BC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C6A9F-68AA-4275-8371-740B64DA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AD2DC-368B-4445-B1E2-B1484E42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37BA3-4DC0-41F7-9485-4603CB48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2DFE-DA66-4362-B894-88AF5FA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4B23C-768A-4780-B54C-128D3F48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56B3-878E-44F7-848C-690B318DD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0905-E3D0-4A9C-B705-CA2FC694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5C50F-1535-4F45-926C-274374C2A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D6E9-DA3D-4850-BE1B-4A2F9F06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B60E-76A5-4E69-AF31-59B0AA7F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99B-27B2-4F50-9FFA-5A1317EA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5DB9F-A707-4620-9C0F-D0E8ACB3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5607-71EC-43DE-843C-61671C9E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9FA2A-F694-4A85-B993-BE6010FC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F104-0B1E-4078-9CFA-5739E115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EDAE-D9F1-4297-B48A-8CE25EAE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94836-6353-40BE-8841-ADFE8BC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C30A-B924-4088-A65F-49B5B9F44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65FD1-3409-4545-B7AE-B7525FA4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F051-FCFF-4848-AC6E-0270DD21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50C8F-63B1-448F-9FCB-DBF9A3E6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F814-6EA2-42C9-BA1F-87E37BA8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A390-5258-4474-B492-2B6C70E0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134BB-38B0-47DF-B6FA-BAED0E4A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B7F16-3162-44FD-9E21-6BD736FB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D0DBA-59D6-41AC-920E-3C2DDAA7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E3A9A-7882-4A10-BBB8-8CE434AF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8AFA8-A078-43DB-9AA5-ABCF76C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DA7F0-16EE-4BAC-A65D-81B94D0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34226-F7E8-466F-BC4F-DBF753E9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0CEC7-7D11-4B3D-B395-A6BAFDA7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7F913-0D3D-4C5C-885A-447F6FC5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AAA-5DB8-4FBB-9030-BAA73F7D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7489B-2648-4C9C-AEA8-03776541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B6A3-5686-40F4-A6DE-78D90BCA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5EA50-2DB9-4307-82B1-9D6B7E6F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C6E6C-11F5-4008-AB22-80072DD3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3EED7-FA06-41A8-A4F7-396111A2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C7900-0C78-4129-8DA4-B9AAA452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BA141-62D1-4CF3-AD0A-4570BA03D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7A789-0F3A-4865-8C93-590B62AE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DE1FC-6CDA-402A-A5A9-5F0AD949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8D8D2-9F3B-4A7F-9BA1-58479D72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596-D811-4B40-B28B-97FD0405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19B60-44EB-4418-AED2-7F07643B6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D0841-F2A7-49EA-86E1-AA99DE91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746C0-3980-4FCD-8C58-F8D133F22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A3BCA-F5B5-4BF0-8A70-D8F5EA45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F03EC-6FB6-4BE5-BD40-D9120470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F4433-DA18-4800-8FC8-C34A01FE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5DFDE-083E-4B01-A0D5-24E5C11B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A8AA5-32D4-4833-82F4-178CDECB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EAAE5D-8C5A-44EF-8FA4-CDFB5072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EC223-75C7-4A61-8167-F5BE3D35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ABD9-4832-4C6A-BF63-68EA9232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A7AAE-15C6-47E8-9B81-67E0AE8B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040DC-879C-472B-9632-DE15677A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A9A9B-18D1-4965-BD82-CBA67614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057CE-201A-427B-8507-FF7C1FA0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9FDE6-C432-48B9-9FE6-FB07DB86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61C31-85BB-44FA-B16F-2D77DCFCD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03629-1253-45E3-856E-2F2ADC71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453D4-D574-41DE-B376-C495206B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DEB06-C5D5-465D-B3B5-06988C6F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9B362-96DF-406E-A68A-A23F22BB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592-EB6E-474C-A13B-EA05433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22DD2-B770-4531-B655-6E6EE0F6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53A99-0658-4703-A5A7-8CE590D5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0C01F-2D9E-49DB-9524-73CA4E5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3AFB-04D6-479D-8375-C1A42A0E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C38CA-453C-4AD8-9990-33817F77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5257B-1FBB-4B27-8068-41D0F0BB7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49DC3-4AA7-4CD4-877B-7335FC13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5A4201-7658-432A-9877-B8F132B41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86BDE-00B0-4719-85B1-DC00D199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B4E1F1-C52A-4C6F-BF74-BE112A40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718DAE-A45C-43B2-8BD0-4DBB964D8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1AF72D8-40A4-47DF-9832-5917F21D0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E9DF386-5908-4032-9D30-2BB8FA2B1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47E82E2-B764-487F-8AC5-4A2EC44F5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8077320" y="6474960"/>
            <a:ext cx="46656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C517BE-4AE5-47F8-97A3-A2FB4CE9A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696960" y="333000"/>
            <a:ext cx="157968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8077320" y="6474960"/>
            <a:ext cx="46656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FEAAF5-177E-4B73-A59C-4AC06818E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ftr" idx="44"/>
          </p:nvPr>
        </p:nvSpPr>
        <p:spPr>
          <a:xfrm>
            <a:off x="8077320" y="6474960"/>
            <a:ext cx="46656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sldNum" idx="45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BB79C8E-0827-46E3-9A6C-AE94A05BD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7FBE391-2FCA-47D1-A9D1-A2D1A1D3F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FE1187-CD54-43BE-BBDC-3BCD4F245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D7EA67A-23B8-4954-8CBF-CB27D9F820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D9D898-BE5B-4A2D-B7AF-3DE2080F4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F2ABCA-C9D2-4A39-A4A5-28D987DA0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7EDEA8C-2A5A-491E-B180-96D04AEA4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E8CFD6-F0A2-428D-8AAD-A9B99581D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6293520" y="334800"/>
            <a:ext cx="2149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/895r6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333000"/>
            <a:ext cx="9428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5437080" y="6475320"/>
            <a:ext cx="31068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9F07BAA-9FBB-40D2-BB51-0B4827D48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Date Placeholder 4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Footer Placeholder 5"/>
          <p:cNvSpPr/>
          <p:nvPr/>
        </p:nvSpPr>
        <p:spPr>
          <a:xfrm>
            <a:off x="676188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Slide Number Placeholder 6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B9E679B-52CD-465A-A07E-2663C6D3D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s Report to EC on Conditional Approval to go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5"/>
          <p:cNvSpPr/>
          <p:nvPr/>
        </p:nvSpPr>
        <p:spPr>
          <a:xfrm>
            <a:off x="533520" y="190512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533520" y="2286000"/>
          <a:ext cx="7543800" cy="1463760"/>
        </p:xfrm>
        <a:graphic>
          <a:graphicData uri="http://schemas.openxmlformats.org/drawingml/2006/table">
            <a:tbl>
              <a:tblPr/>
              <a:tblGrid>
                <a:gridCol w="1477800"/>
                <a:gridCol w="1400040"/>
                <a:gridCol w="1787760"/>
                <a:gridCol w="933480"/>
                <a:gridCol w="1944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ili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ai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e Dentene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ilip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C 34; 5656 AE Eindhoven, the Netherland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1 40 274974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e.denteneer@philips.co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ce Kraem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ve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88 Marvell Lane, Santa Clara, CA 950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 (321) 427-409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kraemer@marvell.co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Footer Placeholder 4"/>
          <p:cNvSpPr/>
          <p:nvPr/>
        </p:nvSpPr>
        <p:spPr>
          <a:xfrm>
            <a:off x="542268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FCCC099-EAA9-4A19-A6C6-39C1E9286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Results – P802.11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38160" y="2046240"/>
            <a:ext cx="90676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08000" y="1219320"/>
          <a:ext cx="8915400" cy="4500360"/>
        </p:xfrm>
        <a:graphic>
          <a:graphicData uri="http://schemas.openxmlformats.org/drawingml/2006/table">
            <a:tbl>
              <a:tblPr/>
              <a:tblGrid>
                <a:gridCol w="692280"/>
                <a:gridCol w="831600"/>
                <a:gridCol w="2362320"/>
                <a:gridCol w="1403280"/>
                <a:gridCol w="522360"/>
                <a:gridCol w="533520"/>
                <a:gridCol w="409320"/>
                <a:gridCol w="409680"/>
                <a:gridCol w="409680"/>
                <a:gridCol w="522000"/>
                <a:gridCol w="409680"/>
                <a:gridCol w="409680"/>
              </a:tblGrid>
              <a:tr h="12207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Retur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t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bstai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pprov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pprov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3324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4 May 20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chnical  Letter Ballot for Draft 3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160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 January 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rst Recirculation Ballot for Draft 4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468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 April 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ond Recirculation Ballot for Draft 5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 June 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rd Recirculation Letter Ballot for Draft 6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Aug 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urth recirculation Letter Ballot for Draft 7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Footer Placeholder 4"/>
          <p:cNvSpPr/>
          <p:nvPr/>
        </p:nvSpPr>
        <p:spPr>
          <a:xfrm>
            <a:off x="542268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66D653-9D76-4A90-AD5E-7BE455AF2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Results – P802.11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8160" y="2046240"/>
            <a:ext cx="90676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1" name=""/>
          <p:cNvGraphicFramePr/>
          <p:nvPr/>
        </p:nvGraphicFramePr>
        <p:xfrm>
          <a:off x="457200" y="1219320"/>
          <a:ext cx="8458200" cy="4394160"/>
        </p:xfrm>
        <a:graphic>
          <a:graphicData uri="http://schemas.openxmlformats.org/drawingml/2006/table">
            <a:tbl>
              <a:tblPr/>
              <a:tblGrid>
                <a:gridCol w="866880"/>
                <a:gridCol w="1041120"/>
                <a:gridCol w="2959200"/>
                <a:gridCol w="1457280"/>
                <a:gridCol w="2133720"/>
              </a:tblGrid>
              <a:tr h="12207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mber of comme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3324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4 May 20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chnical  Letter Ballot for Draft 3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chn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96 (T778, E418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 January 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rst Recirculation Ballot for Draft 4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09 (T449, E36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 April 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ond Recirculation Ballot for Draft 5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1 (T271, E150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 June 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hird Recirculation Letter Ballot for Draft 6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3 (T152, E101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" rIns="4680" tIns="4680" bIns="4680" anchor="t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 Aug 20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680" marR="4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0" rIns="72000" tIns="36000" bIns="360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urth Recirculation Letter Ballot for Draft 7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circul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(T3, E0)*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2" name="TextBox 7"/>
          <p:cNvSpPr/>
          <p:nvPr/>
        </p:nvSpPr>
        <p:spPr>
          <a:xfrm>
            <a:off x="609480" y="5952960"/>
            <a:ext cx="441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Initially, 11 comments were received but 8 of these were subsequently withdrawn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Footer Placeholder 4"/>
          <p:cNvSpPr/>
          <p:nvPr/>
        </p:nvSpPr>
        <p:spPr>
          <a:xfrm>
            <a:off x="5685480" y="6475320"/>
            <a:ext cx="283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23D236E-657B-4CEA-96C4-A020386C7C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1219320" y="1541520"/>
          <a:ext cx="6781680" cy="2954160"/>
        </p:xfrm>
        <a:graphic>
          <a:graphicData uri="http://schemas.openxmlformats.org/drawingml/2006/table">
            <a:tbl>
              <a:tblPr/>
              <a:tblGrid>
                <a:gridCol w="1855800"/>
                <a:gridCol w="1103040"/>
                <a:gridCol w="944640"/>
                <a:gridCol w="946080"/>
                <a:gridCol w="966960"/>
                <a:gridCol w="965160"/>
              </a:tblGrid>
              <a:tr h="260280"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t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4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5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B 1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B1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venist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umille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am-Winge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rce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tasinsk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y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ang, Qi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0" rIns="936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entink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90000" tIns="18000" bIns="18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676188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16B5BE6-27EA-4D2C-9A3F-5260DCFD5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–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066680" y="1523880"/>
          <a:ext cx="6705720" cy="4894560"/>
        </p:xfrm>
        <a:graphic>
          <a:graphicData uri="http://schemas.openxmlformats.org/drawingml/2006/table">
            <a:tbl>
              <a:tblPr/>
              <a:tblGrid>
                <a:gridCol w="1887480"/>
                <a:gridCol w="903600"/>
                <a:gridCol w="1050840"/>
                <a:gridCol w="911160"/>
                <a:gridCol w="976320"/>
                <a:gridCol w="976320"/>
              </a:tblGrid>
              <a:tr h="4683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4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5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6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6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6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me forma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/Editori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 Managem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erv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-vario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ut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-vario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urity-Ba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72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Date Placeholder 5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676188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Slide Number Placeholder 7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0B7380-FE40-4930-A8EE-5F220F56E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after LB 16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comment resolution committee received during working group ballot may be found in the embedded document on the right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 copy of this same data presented using MyBallot access database report format is attached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9" name="Object 9"/>
          <p:cNvGraphicFramePr/>
          <p:nvPr/>
        </p:nvGraphicFramePr>
        <p:xfrm>
          <a:off x="4754520" y="2286000"/>
          <a:ext cx="1494000" cy="16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54520" y="2286000"/>
                    <a:ext cx="149400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1" name="Object 10"/>
          <p:cNvGraphicFramePr/>
          <p:nvPr/>
        </p:nvGraphicFramePr>
        <p:xfrm>
          <a:off x="5029200" y="4191120"/>
          <a:ext cx="1371600" cy="124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191120"/>
                    <a:ext cx="137160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Footer Placeholder 4"/>
          <p:cNvSpPr/>
          <p:nvPr/>
        </p:nvSpPr>
        <p:spPr>
          <a:xfrm>
            <a:off x="676188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2C6AC0-3A60-45EB-9152-C102981AF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s Time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685800" y="914400"/>
          <a:ext cx="8010360" cy="5029200"/>
        </p:xfrm>
        <a:graphic>
          <a:graphicData uri="http://schemas.openxmlformats.org/drawingml/2006/table">
            <a:tbl>
              <a:tblPr/>
              <a:tblGrid>
                <a:gridCol w="4267080"/>
                <a:gridCol w="1908360"/>
                <a:gridCol w="1834920"/>
              </a:tblGrid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recirculation (TGs draft 7.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-Jul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-Aug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sional editing + ME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-Jul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Sep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ol formatio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July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-Sep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Oct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Nov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-Dec-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-Jan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-Jan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-Feb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Mar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Mar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fth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Apr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Apr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to RevCo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Com to S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p-11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ooter Placeholder 4"/>
          <p:cNvSpPr/>
          <p:nvPr/>
        </p:nvSpPr>
        <p:spPr>
          <a:xfrm>
            <a:off x="544176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0C6A263-99BB-478F-8E7A-31B855CFA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document contains the report to the IEEE 802 Executive Committee showing that P802.11s has met the conditional requirements to proceed to sponsor ballo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urth recirculation ballot on TGs draft 7.0 (LB166) yielded no new Disapprove votes, and no new required comments associated with a Disapprove vote. The conditions for conditional approval under Clause 13 of the LMSC Operations Manual have been met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is explained in more detail on slides 3-8 of this pres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is document (11-10/895r4) was approved during the closing plenary session of the IEEE 802.11 working group on 17 Sep 2010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ssed in the Task Group yes , no , abs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ssed in the Working Group yes , no , abst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1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) Recirculation ballot is completed. Generally, the recirculation ballot and resolution should occur in accordance with the schedule presented at the time of conditional approv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met:  recirculation ballot LB166 completed on August 12, 2010,  in accordance with the schedule presented in 10/895r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ooter Placeholder 4"/>
          <p:cNvSpPr/>
          <p:nvPr/>
        </p:nvSpPr>
        <p:spPr>
          <a:xfrm>
            <a:off x="544176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E920676-A7C5-4918-9E48-BE08C4FEC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2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) After resolution of the recirculation ballot is completed, the approval percentage is at least 75% and there are no new valid DISAPPROVE vo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met:  The approval percentage is 95%.   There were no new valid DISAPPROVE vo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ooter Placeholder 4"/>
          <p:cNvSpPr/>
          <p:nvPr/>
        </p:nvSpPr>
        <p:spPr>
          <a:xfrm>
            <a:off x="544176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1BB3710-CAD1-4719-806C-605435E767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3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) No technical changes, as determined by the WG Chair, were made as a result of the recirculation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met:  The comment resolutions in this recirculation ballot (LB166) did not result in any changes to the draf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544176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F8CE51A-18D9-4D38-A46F-2432247A6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4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) No new valid DISAPPROVE comments on new issues that are not resolved to the satisfaction of the submitter from existing DISAPPROVE voter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met:  There were no new valid DISAPPROVE com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Footer Placeholder 4"/>
          <p:cNvSpPr/>
          <p:nvPr/>
        </p:nvSpPr>
        <p:spPr>
          <a:xfrm>
            <a:off x="544176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8B94EB1-77D9-4ADF-A049-B12672FAC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5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) If the WG Chair determines that there is a new invalid DISAPPROVE comment or vote, the WG Chair shall promptly provide details to the Sponso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were no new invalid DISAPPROVE comments. There were no new invalid DISAPPROVE vot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4"/>
          <p:cNvSpPr/>
          <p:nvPr/>
        </p:nvSpPr>
        <p:spPr>
          <a:xfrm>
            <a:off x="544176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62ECB95-F930-4F9A-97B2-4E5E0EA1D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onsor Ballot Conditions (6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) The WG Chair shall immediately report the results of the ballot to the Sponsor including: the date the ballot closed, vote tally and comments associated with any remaining disapproves (valid and invalid), the WG responses and the rationale for ruling any vote invali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ballot closed on:  August 12, 201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vote tally is: Approve 167, Disapprove 9, Abstain 3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Date Placeholder 3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Footer Placeholder 4"/>
          <p:cNvSpPr/>
          <p:nvPr/>
        </p:nvSpPr>
        <p:spPr>
          <a:xfrm>
            <a:off x="5441760" y="6475320"/>
            <a:ext cx="309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A45A3D0-69FB-4BA3-91EC-9FE0939D6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6" name="Object 7"/>
          <p:cNvGraphicFramePr/>
          <p:nvPr/>
        </p:nvGraphicFramePr>
        <p:xfrm>
          <a:off x="3886200" y="5686560"/>
          <a:ext cx="914400" cy="71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568656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8"/>
          <p:cNvGraphicFramePr/>
          <p:nvPr/>
        </p:nvGraphicFramePr>
        <p:xfrm>
          <a:off x="5181480" y="5715000"/>
          <a:ext cx="91440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71500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Date Placeholder 1"/>
          <p:cNvSpPr/>
          <p:nvPr/>
        </p:nvSpPr>
        <p:spPr>
          <a:xfrm>
            <a:off x="701640" y="334800"/>
            <a:ext cx="157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Footer Placeholder 2"/>
          <p:cNvSpPr/>
          <p:nvPr/>
        </p:nvSpPr>
        <p:spPr>
          <a:xfrm>
            <a:off x="5660280" y="6475320"/>
            <a:ext cx="283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 Denteneer (Philips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3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755727E-E1A8-47E7-BB29-1B044D3CD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2"/>
          <p:cNvSpPr/>
          <p:nvPr/>
        </p:nvSpPr>
        <p:spPr>
          <a:xfrm>
            <a:off x="609480" y="990720"/>
            <a:ext cx="7696440" cy="48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"/>
          <p:cNvSpPr/>
          <p:nvPr/>
        </p:nvSpPr>
        <p:spPr>
          <a:xfrm>
            <a:off x="663480" y="1044720"/>
            <a:ext cx="7577280" cy="4705200"/>
          </a:xfrm>
          <a:prstGeom prst="rect">
            <a:avLst/>
          </a:prstGeom>
          <a:solidFill>
            <a:srgbClr val="ffff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4"/>
          <p:cNvSpPr/>
          <p:nvPr/>
        </p:nvSpPr>
        <p:spPr>
          <a:xfrm>
            <a:off x="1523880" y="1828800"/>
            <a:ext cx="6210360" cy="3425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Line 5"/>
          <p:cNvSpPr/>
          <p:nvPr/>
        </p:nvSpPr>
        <p:spPr>
          <a:xfrm>
            <a:off x="1563840" y="4849920"/>
            <a:ext cx="6210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6"/>
          <p:cNvSpPr/>
          <p:nvPr/>
        </p:nvSpPr>
        <p:spPr>
          <a:xfrm>
            <a:off x="1563840" y="4416480"/>
            <a:ext cx="6210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1563840" y="3994200"/>
            <a:ext cx="6210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8"/>
          <p:cNvSpPr/>
          <p:nvPr/>
        </p:nvSpPr>
        <p:spPr>
          <a:xfrm>
            <a:off x="1563840" y="3559320"/>
            <a:ext cx="6210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Line 9"/>
          <p:cNvSpPr/>
          <p:nvPr/>
        </p:nvSpPr>
        <p:spPr>
          <a:xfrm>
            <a:off x="1563840" y="3137040"/>
            <a:ext cx="6210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10"/>
          <p:cNvSpPr/>
          <p:nvPr/>
        </p:nvSpPr>
        <p:spPr>
          <a:xfrm>
            <a:off x="1563840" y="2703600"/>
            <a:ext cx="6210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11"/>
          <p:cNvSpPr/>
          <p:nvPr/>
        </p:nvSpPr>
        <p:spPr>
          <a:xfrm>
            <a:off x="1563840" y="2281320"/>
            <a:ext cx="6210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1563840" y="1846440"/>
            <a:ext cx="6210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13"/>
          <p:cNvSpPr/>
          <p:nvPr/>
        </p:nvSpPr>
        <p:spPr>
          <a:xfrm>
            <a:off x="1143000" y="1828800"/>
            <a:ext cx="6589800" cy="34257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14"/>
          <p:cNvSpPr/>
          <p:nvPr/>
        </p:nvSpPr>
        <p:spPr>
          <a:xfrm>
            <a:off x="1563840" y="1846440"/>
            <a:ext cx="0" cy="342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15"/>
          <p:cNvSpPr/>
          <p:nvPr/>
        </p:nvSpPr>
        <p:spPr>
          <a:xfrm>
            <a:off x="1498680" y="527220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1498680" y="484992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1498680" y="44164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1498680" y="399420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1498680" y="355932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1498680" y="313704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1498680" y="270360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1498680" y="228132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23"/>
          <p:cNvSpPr/>
          <p:nvPr/>
        </p:nvSpPr>
        <p:spPr>
          <a:xfrm>
            <a:off x="1498680" y="184644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24"/>
          <p:cNvSpPr/>
          <p:nvPr/>
        </p:nvSpPr>
        <p:spPr>
          <a:xfrm flipV="1">
            <a:off x="1563840" y="5257800"/>
            <a:ext cx="6589440" cy="1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Line 25"/>
          <p:cNvSpPr/>
          <p:nvPr/>
        </p:nvSpPr>
        <p:spPr>
          <a:xfrm flipV="1">
            <a:off x="1563840" y="52722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Line 26"/>
          <p:cNvSpPr/>
          <p:nvPr/>
        </p:nvSpPr>
        <p:spPr>
          <a:xfrm flipV="1">
            <a:off x="1676520" y="52722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Line 27"/>
          <p:cNvSpPr/>
          <p:nvPr/>
        </p:nvSpPr>
        <p:spPr>
          <a:xfrm flipV="1">
            <a:off x="4343400" y="52722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Line 28"/>
          <p:cNvSpPr/>
          <p:nvPr/>
        </p:nvSpPr>
        <p:spPr>
          <a:xfrm flipV="1">
            <a:off x="5715000" y="52722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Line 29"/>
          <p:cNvSpPr/>
          <p:nvPr/>
        </p:nvSpPr>
        <p:spPr>
          <a:xfrm flipV="1">
            <a:off x="6629400" y="52722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Line 30"/>
          <p:cNvSpPr/>
          <p:nvPr/>
        </p:nvSpPr>
        <p:spPr>
          <a:xfrm flipV="1">
            <a:off x="7773840" y="52722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Freeform 33"/>
          <p:cNvSpPr/>
          <p:nvPr/>
        </p:nvSpPr>
        <p:spPr>
          <a:xfrm>
            <a:off x="4191120" y="4137120"/>
            <a:ext cx="129960" cy="129960"/>
          </a:xfrm>
          <a:custGeom>
            <a:avLst/>
            <a:gdLst>
              <a:gd name="textAreaLeft" fmla="*/ 0 w 129960"/>
              <a:gd name="textAreaRight" fmla="*/ 130320 w 1299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Freeform 35"/>
          <p:cNvSpPr/>
          <p:nvPr/>
        </p:nvSpPr>
        <p:spPr>
          <a:xfrm>
            <a:off x="6575400" y="3657600"/>
            <a:ext cx="130320" cy="130320"/>
          </a:xfrm>
          <a:custGeom>
            <a:avLst/>
            <a:gdLst>
              <a:gd name="textAreaLeft" fmla="*/ 0 w 130320"/>
              <a:gd name="textAreaRight" fmla="*/ 130680 w 130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Freeform 34"/>
          <p:cNvSpPr/>
          <p:nvPr/>
        </p:nvSpPr>
        <p:spPr>
          <a:xfrm>
            <a:off x="5638680" y="4670280"/>
            <a:ext cx="130320" cy="130320"/>
          </a:xfrm>
          <a:custGeom>
            <a:avLst/>
            <a:gdLst>
              <a:gd name="textAreaLeft" fmla="*/ 0 w 130320"/>
              <a:gd name="textAreaRight" fmla="*/ 130680 w 130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7"/>
          <p:cNvSpPr/>
          <p:nvPr/>
        </p:nvSpPr>
        <p:spPr>
          <a:xfrm>
            <a:off x="2689200" y="1262160"/>
            <a:ext cx="367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Gs draft text stability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8"/>
          <p:cNvSpPr/>
          <p:nvPr/>
        </p:nvSpPr>
        <p:spPr>
          <a:xfrm>
            <a:off x="1144080" y="51530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40"/>
          <p:cNvSpPr/>
          <p:nvPr/>
        </p:nvSpPr>
        <p:spPr>
          <a:xfrm>
            <a:off x="1107720" y="42973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2"/>
          <p:cNvSpPr/>
          <p:nvPr/>
        </p:nvSpPr>
        <p:spPr>
          <a:xfrm>
            <a:off x="1107720" y="34401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Rectangle 44"/>
          <p:cNvSpPr/>
          <p:nvPr/>
        </p:nvSpPr>
        <p:spPr>
          <a:xfrm>
            <a:off x="1107720" y="258444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Rectangle 48"/>
          <p:cNvSpPr/>
          <p:nvPr/>
        </p:nvSpPr>
        <p:spPr>
          <a:xfrm>
            <a:off x="1373760" y="541008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y-06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9"/>
          <p:cNvSpPr/>
          <p:nvPr/>
        </p:nvSpPr>
        <p:spPr>
          <a:xfrm>
            <a:off x="4021560" y="5392800"/>
            <a:ext cx="7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-0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Rectangle 50"/>
          <p:cNvSpPr/>
          <p:nvPr/>
        </p:nvSpPr>
        <p:spPr>
          <a:xfrm>
            <a:off x="5414400" y="539280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-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Rectangle 51"/>
          <p:cNvSpPr/>
          <p:nvPr/>
        </p:nvSpPr>
        <p:spPr>
          <a:xfrm>
            <a:off x="6200640" y="539280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-0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Rectangle 52"/>
          <p:cNvSpPr/>
          <p:nvPr/>
        </p:nvSpPr>
        <p:spPr>
          <a:xfrm>
            <a:off x="7151760" y="53341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-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Rectangle 53"/>
          <p:cNvSpPr/>
          <p:nvPr/>
        </p:nvSpPr>
        <p:spPr>
          <a:xfrm rot="16200000">
            <a:off x="430200" y="345528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page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Rectangle 54"/>
          <p:cNvSpPr/>
          <p:nvPr/>
        </p:nvSpPr>
        <p:spPr>
          <a:xfrm>
            <a:off x="663480" y="1044720"/>
            <a:ext cx="7577280" cy="47052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55"/>
          <p:cNvSpPr/>
          <p:nvPr/>
        </p:nvSpPr>
        <p:spPr>
          <a:xfrm flipV="1" rot="10800000">
            <a:off x="2666880" y="304920"/>
            <a:ext cx="56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56"/>
          <p:cNvSpPr/>
          <p:nvPr/>
        </p:nvSpPr>
        <p:spPr>
          <a:xfrm>
            <a:off x="1494000" y="39625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Text Box 57"/>
          <p:cNvSpPr/>
          <p:nvPr/>
        </p:nvSpPr>
        <p:spPr>
          <a:xfrm>
            <a:off x="3888000" y="3733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58"/>
          <p:cNvSpPr/>
          <p:nvPr/>
        </p:nvSpPr>
        <p:spPr>
          <a:xfrm>
            <a:off x="5380200" y="4267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59"/>
          <p:cNvSpPr/>
          <p:nvPr/>
        </p:nvSpPr>
        <p:spPr>
          <a:xfrm>
            <a:off x="6218280" y="3352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reeform 63"/>
          <p:cNvSpPr/>
          <p:nvPr/>
        </p:nvSpPr>
        <p:spPr>
          <a:xfrm>
            <a:off x="6934320" y="2994120"/>
            <a:ext cx="129960" cy="129960"/>
          </a:xfrm>
          <a:custGeom>
            <a:avLst/>
            <a:gdLst>
              <a:gd name="textAreaLeft" fmla="*/ 0 w 129960"/>
              <a:gd name="textAreaRight" fmla="*/ 130320 w 1299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3" name="AutoShape 65"/>
          <p:cNvCxnSpPr>
            <a:stCxn id="776" idx="2"/>
            <a:endCxn id="776" idx="2"/>
          </p:cNvCxnSpPr>
          <p:nvPr/>
        </p:nvCxnSpPr>
        <p:spPr>
          <a:xfrm>
            <a:off x="4452480" y="574956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784" name="Line 69"/>
          <p:cNvSpPr/>
          <p:nvPr/>
        </p:nvSpPr>
        <p:spPr>
          <a:xfrm flipV="1">
            <a:off x="1752480" y="4190760"/>
            <a:ext cx="2438640" cy="228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Line 71"/>
          <p:cNvSpPr/>
          <p:nvPr/>
        </p:nvSpPr>
        <p:spPr>
          <a:xfrm flipV="1">
            <a:off x="5715000" y="3733560"/>
            <a:ext cx="914400" cy="9903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Line 72"/>
          <p:cNvSpPr/>
          <p:nvPr/>
        </p:nvSpPr>
        <p:spPr>
          <a:xfrm flipV="1">
            <a:off x="6629400" y="3124080"/>
            <a:ext cx="380880" cy="6098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Freeform 32"/>
          <p:cNvSpPr/>
          <p:nvPr/>
        </p:nvSpPr>
        <p:spPr>
          <a:xfrm>
            <a:off x="1600200" y="4343400"/>
            <a:ext cx="130320" cy="130320"/>
          </a:xfrm>
          <a:custGeom>
            <a:avLst/>
            <a:gdLst>
              <a:gd name="textAreaLeft" fmla="*/ 0 w 130320"/>
              <a:gd name="textAreaRight" fmla="*/ 130680 w 130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Line 70"/>
          <p:cNvSpPr/>
          <p:nvPr/>
        </p:nvSpPr>
        <p:spPr>
          <a:xfrm>
            <a:off x="4267080" y="4191120"/>
            <a:ext cx="1447920" cy="5331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Line 79"/>
          <p:cNvSpPr/>
          <p:nvPr/>
        </p:nvSpPr>
        <p:spPr>
          <a:xfrm flipV="1">
            <a:off x="7391520" y="525744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50"/>
          <p:cNvSpPr/>
          <p:nvPr/>
        </p:nvSpPr>
        <p:spPr>
          <a:xfrm>
            <a:off x="6664320" y="5621400"/>
            <a:ext cx="650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-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Line 29"/>
          <p:cNvSpPr/>
          <p:nvPr/>
        </p:nvSpPr>
        <p:spPr>
          <a:xfrm flipV="1">
            <a:off x="7010280" y="5257440"/>
            <a:ext cx="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Line 72"/>
          <p:cNvSpPr/>
          <p:nvPr/>
        </p:nvSpPr>
        <p:spPr>
          <a:xfrm>
            <a:off x="7010280" y="3048120"/>
            <a:ext cx="4572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Freeform 63"/>
          <p:cNvSpPr/>
          <p:nvPr/>
        </p:nvSpPr>
        <p:spPr>
          <a:xfrm>
            <a:off x="7391520" y="2971800"/>
            <a:ext cx="129960" cy="130320"/>
          </a:xfrm>
          <a:custGeom>
            <a:avLst/>
            <a:gdLst>
              <a:gd name="textAreaLeft" fmla="*/ 0 w 129960"/>
              <a:gd name="textAreaRight" fmla="*/ 130320 w 1299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59"/>
          <p:cNvSpPr/>
          <p:nvPr/>
        </p:nvSpPr>
        <p:spPr>
          <a:xfrm>
            <a:off x="6678000" y="2666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Text Box 59"/>
          <p:cNvSpPr/>
          <p:nvPr/>
        </p:nvSpPr>
        <p:spPr>
          <a:xfrm>
            <a:off x="7242840" y="26668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52"/>
          <p:cNvSpPr/>
          <p:nvPr/>
        </p:nvSpPr>
        <p:spPr>
          <a:xfrm>
            <a:off x="7545240" y="554508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-1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59"/>
          <p:cNvSpPr/>
          <p:nvPr/>
        </p:nvSpPr>
        <p:spPr>
          <a:xfrm>
            <a:off x="7435080" y="32004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Line 72"/>
          <p:cNvSpPr/>
          <p:nvPr/>
        </p:nvSpPr>
        <p:spPr>
          <a:xfrm flipH="1" flipV="1">
            <a:off x="7467120" y="3047760"/>
            <a:ext cx="228600" cy="228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Freeform 34"/>
          <p:cNvSpPr/>
          <p:nvPr/>
        </p:nvSpPr>
        <p:spPr>
          <a:xfrm>
            <a:off x="7620120" y="3222720"/>
            <a:ext cx="129960" cy="129960"/>
          </a:xfrm>
          <a:custGeom>
            <a:avLst/>
            <a:gdLst>
              <a:gd name="textAreaLeft" fmla="*/ 0 w 129960"/>
              <a:gd name="textAreaRight" fmla="*/ 130320 w 1299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nlv15645</cp:lastModifiedBy>
  <cp:lastPrinted>1998-02-10T13:28:06Z</cp:lastPrinted>
  <dcterms:modified xsi:type="dcterms:W3CDTF">2010-09-17T07:20:36Z</dcterms:modified>
  <cp:revision>1241</cp:revision>
  <dc:subject/>
  <dc:title>TGn Report to EC</dc:title>
</cp:coreProperties>
</file>